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8F5-DC3F-4C43-8853-4D72DB31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865-C4F0-4F71-8996-5D005415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C4B-78F2-40FD-87FF-B65AD624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7E89-082D-45E3-BC52-BFEA7ACC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6DB7-E654-4034-A322-28358738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B06-5ED4-4C16-AE2E-F9D5AAAB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641-50BB-46C9-AB86-70B4E2A4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24E-A1FE-4EA8-B45D-2953344D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896-AA46-48AA-9264-CC50FC0C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626-B2CA-4DED-B857-406FA76A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8D7-4D47-4BC7-B37E-69CF4AF5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9337-FF4B-4344-9AD3-08C83629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C19A-8D11-426F-9C6C-2DF653D56F3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57480" y="177336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Verdana"/>
              </a:rPr>
              <a:t>Equivalent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000" y="2446200"/>
            <a:ext cx="65228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Verdana"/>
              </a:rPr>
              <a:t>Sectio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at for the volume V(d) and surface area s(d) of a cube with edge d, it is not the case that V’(d) = s(d)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 = 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3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A = 6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≠ 6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p 436-437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3-10, 1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for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variables to describe patterns in instances or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two expressions seem equivalent by substituting values or making 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2733840" y="214308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terms in a specif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91680" y="3571920"/>
            <a:ext cx="84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 that have the same value for EVERY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an be substituted for the variable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1-3, Consider three instances of the pattern bel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428760" y="1643040"/>
            <a:ext cx="85010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4| = 4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½| = ½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5.32| = 5.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1: Describe the pattern using one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x|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2: Find another number that is an instance of this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147.2| = 14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3: Find a number that is a counter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-3| ≠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Using the table, evaluate each expression for 4 different values of the vari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0" y="52862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Graph the function f: x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x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+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From the graph, estimate f’(x) when x = -2, -1, 0, 1 and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Use this information from part a to graph y = f’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18540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rcRect l="33127" t="31250" r="25625" b="12504"/>
          <a:stretch/>
        </p:blipFill>
        <p:spPr>
          <a:xfrm>
            <a:off x="1214280" y="237960"/>
            <a:ext cx="647244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ves – Power Dr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4792320" y="16430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4863600" y="16430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46661E-008 C -0.00782 -0.01594 -0.01685 -0.02796 -0.03073 -0.0342 C -0.04532 -0.03304 -0.0599 -0.03327 -0.07431 -0.03073 C -0.07969 -0.02981 -0.08959 -0.02403 -0.08959 -0.02403 C -0.1033 -0.01178 -0.11146 0.00509 -0.12292 0.02034 C -0.12796 0.04022 -0.13733 0.05639 -0.14358 0.07511 C -0.16511 0.13959 -0.18421 0.20708 -0.1948 0.27641 C -0.19306 0.29675 -0.19584 0.31154 -0.18195 0.32078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ves – Power Dr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Arial"/>
              </a:rPr>
              <a:t>3t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6006600" y="171468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ultiply 4"/>
          <p:cNvSpPr/>
          <p:nvPr/>
        </p:nvSpPr>
        <p:spPr>
          <a:xfrm>
            <a:off x="2643120" y="342900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2786040" y="3000240"/>
            <a:ext cx="4951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Arial"/>
              </a:rPr>
              <a:t>12t</a:t>
            </a:r>
            <a:r>
              <a:rPr b="1" lang="en-US" sz="13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6006600" y="171468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5.42177E-006 C -0.01024 -0.00461 -0.01945 -0.01132 -0.02934 -0.0164 C -0.0467 -0.02518 -0.06493 -0.03027 -0.08299 -0.03581 C -0.08941 -0.03789 -0.09583 -0.04182 -0.10243 -0.04228 C -0.11545 -0.04344 -0.12847 -0.04436 -0.14149 -0.04552 C -0.19392 -0.04367 -0.23663 -0.04552 -0.28542 -0.03258 C -0.28872 -0.0305 -0.29167 -0.02772 -0.29514 -0.02611 C -0.29913 -0.02426 -0.30347 -0.02518 -0.30729 -0.02287 C -0.31094 -0.02056 -0.31337 -0.01548 -0.31701 -0.01293 C -0.32083 -0.01016 -0.32552 -0.00947 -0.32934 -0.00646 C -0.34479 0.00625 -0.34948 0.01549 -0.3658 0.02266 C -0.36997 0.02797 -0.37344 0.03444 -0.37813 0.03883 C -0.38386 0.04438 -0.39011 0.04854 -0.39514 0.05524 C -0.4 0.06171 -0.40972 0.07466 -0.40972 0.07466 C -0.41302 0.0876 -0.41372 0.09869 -0.41945 0.11025 C -0.42031 0.11464 -0.42083 0.11926 -0.42205 0.12342 C -0.42326 0.12804 -0.4257 0.13174 -0.42691 0.13636 C -0.43611 0.17334 -0.42639 0.15162 -0.43663 0.17195 C -0.43941 0.18697 -0.44479 0.2013 -0.45122 0.21425 C -0.45382 0.24244 -0.4507 0.23227 -0.45608 0.2466 E">
                                      <p:cBhvr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example in class, 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h(t) = 4 + 55t – 16t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4 (t)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 +55t  - 16t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 + 55 – 32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1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 f’(x) = 3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9:20:27Z</dcterms:created>
  <dc:creator>Mediac</dc:creator>
  <dc:description/>
  <dc:language>en-US</dc:language>
  <cp:lastModifiedBy>Laura Helbing</cp:lastModifiedBy>
  <dcterms:modified xsi:type="dcterms:W3CDTF">2012-06-09T16:20:26Z</dcterms:modified>
  <cp:revision>93</cp:revision>
  <dc:subject/>
  <dc:title>PRESENTATION  NAME</dc:title>
</cp:coreProperties>
</file>