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7077075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9A91-0290-4455-9CEF-ACFE97C7C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55F7-97C4-41BA-A7E4-CCAA0F52E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7A5C-5444-405E-A3A1-4E22C9E70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B091-C40C-4502-B8D2-01265814D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DA19E-DD5F-4810-976B-ABBF7E9C8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620B5-22B3-4982-86FA-29289B9B4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2CCB6-717E-480C-A68A-A7D7BCB2B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3E781-94D8-4C6B-8997-FCDE0CE41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64144-0FFC-410F-A2C9-ADBF0AB59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0BC4D-80E5-4001-B0E0-2071F18EC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61579-8E5F-450A-8B28-7D51FE19D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C597-BFDB-4A1D-A627-D46637FFF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FC81C-4AD8-46E7-9C3E-B6B8613C3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2A89C-EF5E-46C9-B0A2-B1743C4FB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FB0C9-3776-42EF-BCEB-66AB44B33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25D88-405D-4AB9-8F3A-59ADDE4B5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99BDB-EDE0-40D6-A78F-0342FA6D0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7613E6-FBFE-422A-AE4A-D2F68FB8B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A4D829-D70D-410F-BA08-BC544D61D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0092B2-710E-4E45-AAC1-939C500C9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3353B1-7056-4402-8509-7DB625556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AB8781-EED2-4CB2-9328-85938C406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1E10-1B8D-4D35-B500-3570B73D6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6BA98D-EDAB-472A-B8BF-B54259C6A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495999-D459-4713-BDC6-61AB49DB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2A3D39-EE4D-4796-AA11-C7BC043EA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234576-312C-4056-AC59-05F55B47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E3EFEC-50BC-44E2-BD8E-302332396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EAF56B-8BED-42E0-AB35-C2367FE02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068E76-F735-4743-A2E3-611383CC0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932EE-B0D3-4550-BFAE-EB906A01E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DD967-1DED-42FE-A2BF-109C3B813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B26A0-9086-4FDE-808B-8703A8F4E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3C13-8A66-4599-985D-43D133772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03AC1-E60F-4758-B9B3-FD3F006C2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BED67-B8F5-425F-BC47-9292200D2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FEEF2-992D-4D11-A8A2-AFFC0AA43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42E1F-2A99-48DF-B33E-21209927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937DB-6B89-4B25-8FF8-02E7DC58E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74BFB-46AC-472A-A32B-FE88CBFBB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D763C-4DC9-4D4D-A31A-2732359D0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341C2-3CDD-4EFC-BB94-DB94F1167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1A46A-5C3A-4F00-95B1-27927400E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CD43B6-4817-46B7-853D-ECE83559D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A523-05C0-4CD3-AF00-EE1D13751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7579DF-0543-4F57-8665-86C12B044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332521-27B1-46EE-AE69-97F4FCA6F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F683D8-D2DE-454D-85FB-268E1545E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C9F2EF-B85B-4AD6-A6BF-C68971E92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3FACAA-646C-465B-9F64-B04E7CDEA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EFA002-C0F2-426E-AECA-943253B9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3303DB-FE68-44FA-A541-8CBD2BA1F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6B25C9-6CB0-41DE-B1BD-53FF683D6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F7C266-2C86-4223-AA08-32393B090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1820ED-50D1-406A-9F5A-20B7A3C90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5732-D1D1-4962-81A0-A4F438E48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FE00ED-BABA-4284-86E4-4C8DAF19A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294A-52CA-4853-A8D8-8952E027A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70FF-217A-4E6E-A19D-CC6279264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5B84-FCBC-4937-93AC-A680C2FB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69676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ceb966"/>
              </a:buClr>
              <a:buSzPct val="70000"/>
              <a:buFont typeface="Wingdings 2" charset="2"/>
              <a:buChar char="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9cb084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b58b80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c3986d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76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A58EB-51E1-40B1-9672-448BD3F0760D}" type="datetime">
              <a:rPr b="0" lang="en-US" sz="1400" spc="-1" strike="noStrike">
                <a:solidFill>
                  <a:srgbClr val="69676d"/>
                </a:solidFill>
                <a:latin typeface="Tw Cen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cb0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C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21410-4146-4976-AEE6-59B73624ED7A}" type="slidenum">
              <a:rPr b="1" lang="fr-C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67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9cb0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c9c2d1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c9c2d1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ceb966"/>
              </a:buClr>
              <a:buSzPct val="70000"/>
              <a:buFont typeface="Wingdings 2" charset="2"/>
              <a:buChar char=""/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9cb084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b58b80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c3986d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9c2d1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FCBCF-6CCF-4D61-BB54-5D34E925C32E}" type="datetime">
              <a:rPr b="0" lang="en-US" sz="1400" spc="-1" strike="noStrike">
                <a:solidFill>
                  <a:srgbClr val="c9c2d1"/>
                </a:solidFill>
                <a:latin typeface="Tw Cen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C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71CF0-B99C-48B3-9AFA-45263ABB9F59}" type="slidenum">
              <a:rPr b="1" lang="fr-C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9cb0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69676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ceb966"/>
              </a:buClr>
              <a:buSzPct val="70000"/>
              <a:buFont typeface="Wingdings 2" charset="2"/>
              <a:buChar char="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9cb084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b58b80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c3986d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76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F543A-378F-4620-B73F-3FE7EC785DC9}" type="datetime">
              <a:rPr b="0" lang="en-US" sz="1400" spc="-1" strike="noStrike">
                <a:solidFill>
                  <a:srgbClr val="69676d"/>
                </a:solidFill>
                <a:latin typeface="Tw Cen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C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A878F-F40D-4292-AC3D-7714E3450EF6}" type="slidenum">
              <a:rPr b="1" lang="fr-C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69676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ceb966"/>
              </a:buClr>
              <a:buSzPct val="70000"/>
              <a:buFont typeface="Wingdings 2" charset="2"/>
              <a:buChar char="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9cb084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b58b80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c3986d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76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17112-83F8-445C-8D14-98B969BBA8FA}" type="datetime">
              <a:rPr b="0" lang="en-US" sz="1400" spc="-1" strike="noStrike">
                <a:solidFill>
                  <a:srgbClr val="69676d"/>
                </a:solidFill>
                <a:latin typeface="Tw Cen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C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20143-AD8D-46F5-88BA-560A75E1C43D}" type="slidenum">
              <a:rPr b="1" lang="fr-C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9cb0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1"/>
          <p:cNvSpPr/>
          <p:nvPr/>
        </p:nvSpPr>
        <p:spPr>
          <a:xfrm>
            <a:off x="1544760" y="4654440"/>
            <a:ext cx="7589880" cy="71280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69676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ceb966"/>
              </a:buClr>
              <a:buSzPct val="70000"/>
              <a:buFont typeface="Wingdings 2" charset="2"/>
              <a:buChar char="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9cb084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b58b80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c3986d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76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71CFC-68CF-4E2D-9297-8336AD3FC363}" type="datetime">
              <a:rPr b="0" lang="en-US" sz="1400" spc="-1" strike="noStrike">
                <a:solidFill>
                  <a:srgbClr val="69676d"/>
                </a:solidFill>
                <a:latin typeface="Tw Cen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sldNum" idx="14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C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330F6-A79A-4C3B-86B1-3BEF611AF371}" type="slidenum">
              <a:rPr b="1" lang="fr-C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ftr" idx="15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2214720" y="6049440"/>
            <a:ext cx="6929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500" spc="-1" strike="noStrike">
                <a:solidFill>
                  <a:srgbClr val="ffffff"/>
                </a:solidFill>
                <a:latin typeface="Tw Cen MT"/>
              </a:rPr>
              <a:t>The Geometry of Complex Numbers</a:t>
            </a:r>
            <a:endParaRPr b="0" lang="en-US" sz="35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9" name="TextBox 3"/>
          <p:cNvSpPr/>
          <p:nvPr/>
        </p:nvSpPr>
        <p:spPr>
          <a:xfrm>
            <a:off x="364320" y="6000840"/>
            <a:ext cx="136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356760" y="171468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erform the indicated complex number operation and express the answer in the same form as the given numbers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69676d"/>
                </a:solidFill>
                <a:latin typeface="Tw Cen MT"/>
              </a:rPr>
              <a:t>Example 4</a:t>
            </a: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Object 2"/>
              <p:cNvSpPr txBox="1"/>
              <p:nvPr/>
            </p:nvSpPr>
            <p:spPr>
              <a:xfrm>
                <a:off x="2286000" y="3143160"/>
                <a:ext cx="521496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]</m:t>
                    </m:r>
                    <m:r>
                      <m:t xml:space="preserve">⋅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°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Object 6"/>
              <p:cNvSpPr txBox="1"/>
              <p:nvPr/>
            </p:nvSpPr>
            <p:spPr>
              <a:xfrm>
                <a:off x="3357720" y="4643280"/>
                <a:ext cx="27176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7</m:t>
                    </m:r>
                    <m:r>
                      <m:t xml:space="preserve">°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9676d"/>
                </a:solidFill>
                <a:latin typeface="Tw Cen MT"/>
              </a:rPr>
              <a:t>Homework</a:t>
            </a: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571680" y="1642680"/>
            <a:ext cx="81532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4" name="Content Placeholder 8"/>
          <p:cNvSpPr/>
          <p:nvPr/>
        </p:nvSpPr>
        <p:spPr>
          <a:xfrm>
            <a:off x="723960" y="1795320"/>
            <a:ext cx="815328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nstantia"/>
              </a:rPr>
              <a:t>Pages 526 – 527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nstantia"/>
              </a:rPr>
              <a:t>3 – 9,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nstantia"/>
              </a:rPr>
              <a:t>12 - 1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9676d"/>
                </a:solidFill>
                <a:latin typeface="Tw Cen MT"/>
              </a:rPr>
              <a:t>Remember this?</a:t>
            </a: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Object 5"/>
              <p:cNvSpPr txBox="1"/>
              <p:nvPr/>
            </p:nvSpPr>
            <p:spPr>
              <a:xfrm>
                <a:off x="1380960" y="1500120"/>
                <a:ext cx="567864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rad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rad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Object 6"/>
              <p:cNvSpPr txBox="1"/>
              <p:nvPr/>
            </p:nvSpPr>
            <p:spPr>
              <a:xfrm>
                <a:off x="2095560" y="2500200"/>
                <a:ext cx="419904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∗</m:t>
                    </m:r>
                    <m:r>
                      <m:t xml:space="preserve">5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i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Object 7"/>
              <p:cNvSpPr txBox="1"/>
              <p:nvPr/>
            </p:nvSpPr>
            <p:spPr>
              <a:xfrm>
                <a:off x="2428920" y="3214800"/>
                <a:ext cx="377028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i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8"/>
              <p:cNvSpPr txBox="1"/>
              <p:nvPr/>
            </p:nvSpPr>
            <p:spPr>
              <a:xfrm>
                <a:off x="2905200" y="3857760"/>
                <a:ext cx="295740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5" name="Straight Connector 10"/>
          <p:cNvSpPr/>
          <p:nvPr/>
        </p:nvSpPr>
        <p:spPr>
          <a:xfrm flipV="1">
            <a:off x="5357880" y="4000320"/>
            <a:ext cx="357120" cy="500040"/>
          </a:xfrm>
          <a:prstGeom prst="line">
            <a:avLst/>
          </a:prstGeom>
          <a:ln w="7632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2"/>
          <p:cNvSpPr/>
          <p:nvPr/>
        </p:nvSpPr>
        <p:spPr>
          <a:xfrm>
            <a:off x="5862600" y="4000680"/>
            <a:ext cx="63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Object 10"/>
              <p:cNvSpPr txBox="1"/>
              <p:nvPr/>
            </p:nvSpPr>
            <p:spPr>
              <a:xfrm>
                <a:off x="3000240" y="4714920"/>
                <a:ext cx="257652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11"/>
              <p:cNvSpPr txBox="1"/>
              <p:nvPr/>
            </p:nvSpPr>
            <p:spPr>
              <a:xfrm>
                <a:off x="3429000" y="5357880"/>
                <a:ext cx="176688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9676d"/>
                </a:solidFill>
                <a:latin typeface="Tw Cen MT"/>
              </a:rPr>
              <a:t>Complex Numbers</a:t>
            </a: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Tw Cen MT"/>
              </a:rPr>
              <a:t>* z = x + yi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Tw Cen MT"/>
              </a:rPr>
              <a:t>* C represents the set of complex numbers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11"/>
              <p:cNvSpPr txBox="1"/>
              <p:nvPr/>
            </p:nvSpPr>
            <p:spPr>
              <a:xfrm>
                <a:off x="3286080" y="1571760"/>
                <a:ext cx="176544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232" name="Straight Arrow Connector 14"/>
          <p:cNvCxnSpPr/>
          <p:nvPr/>
        </p:nvCxnSpPr>
        <p:spPr>
          <a:xfrm flipV="1">
            <a:off x="2999880" y="2071440"/>
            <a:ext cx="429480" cy="357840"/>
          </a:xfrm>
          <a:prstGeom prst="straightConnector1">
            <a:avLst/>
          </a:prstGeom>
          <a:ln w="57240">
            <a:solidFill>
              <a:srgbClr val="ceb966"/>
            </a:solidFill>
            <a:miter/>
            <a:tailEnd len="med" type="arrow" w="med"/>
          </a:ln>
        </p:spPr>
      </p:cxnSp>
      <p:cxnSp>
        <p:nvCxnSpPr>
          <p:cNvPr id="233" name="Straight Arrow Connector 16"/>
          <p:cNvCxnSpPr/>
          <p:nvPr/>
        </p:nvCxnSpPr>
        <p:spPr>
          <a:xfrm flipH="1" flipV="1">
            <a:off x="4642560" y="2142360"/>
            <a:ext cx="429480" cy="429480"/>
          </a:xfrm>
          <a:prstGeom prst="straightConnector1">
            <a:avLst/>
          </a:prstGeom>
          <a:ln w="57240">
            <a:solidFill>
              <a:srgbClr val="ceb966"/>
            </a:solidFill>
            <a:miter/>
            <a:tailEnd len="med" type="arrow" w="med"/>
          </a:ln>
        </p:spPr>
      </p:cxnSp>
      <p:sp>
        <p:nvSpPr>
          <p:cNvPr id="234" name="TextBox 19"/>
          <p:cNvSpPr/>
          <p:nvPr/>
        </p:nvSpPr>
        <p:spPr>
          <a:xfrm>
            <a:off x="2436120" y="2428920"/>
            <a:ext cx="11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 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20"/>
          <p:cNvSpPr/>
          <p:nvPr/>
        </p:nvSpPr>
        <p:spPr>
          <a:xfrm>
            <a:off x="4653360" y="2571840"/>
            <a:ext cx="16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inary 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9676d"/>
                </a:solidFill>
                <a:latin typeface="Tw Cen MT"/>
              </a:rPr>
              <a:t>Complex Plane</a:t>
            </a: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pic>
        <p:nvPicPr>
          <p:cNvPr id="237" name="Picture 7" descr=""/>
          <p:cNvPicPr/>
          <p:nvPr/>
        </p:nvPicPr>
        <p:blipFill>
          <a:blip r:embed="rId1"/>
          <a:stretch/>
        </p:blipFill>
        <p:spPr>
          <a:xfrm>
            <a:off x="1428840" y="1643040"/>
            <a:ext cx="6643440" cy="49672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9676d"/>
                </a:solidFill>
                <a:latin typeface="Tw Cen MT"/>
              </a:rPr>
              <a:t>Example 1</a:t>
            </a: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71680" y="164304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Find the polar coordinates [r, 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] of -8 + 11i with r ≥ 0 and 360˚≤ 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 ≤ 720˚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Rectangular coordinate: (-8, 11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TextBox 9"/>
          <p:cNvSpPr/>
          <p:nvPr/>
        </p:nvSpPr>
        <p:spPr>
          <a:xfrm>
            <a:off x="6143760" y="2643120"/>
            <a:ext cx="30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quadran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3"/>
              <p:cNvSpPr txBox="1"/>
              <p:nvPr/>
            </p:nvSpPr>
            <p:spPr>
              <a:xfrm>
                <a:off x="500040" y="3143160"/>
                <a:ext cx="782316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43" name="TextBox 12"/>
          <p:cNvSpPr/>
          <p:nvPr/>
        </p:nvSpPr>
        <p:spPr>
          <a:xfrm>
            <a:off x="4643280" y="4214880"/>
            <a:ext cx="428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 =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r 13.6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ct 4"/>
              <p:cNvSpPr txBox="1"/>
              <p:nvPr/>
            </p:nvSpPr>
            <p:spPr>
              <a:xfrm>
                <a:off x="0" y="4143240"/>
                <a:ext cx="3835440" cy="16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8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5" name="TextBox 15"/>
          <p:cNvSpPr/>
          <p:nvPr/>
        </p:nvSpPr>
        <p:spPr>
          <a:xfrm>
            <a:off x="4000680" y="4786200"/>
            <a:ext cx="292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Constantia"/>
              </a:rPr>
              <a:t>θ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 = -53.97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17"/>
          <p:cNvSpPr/>
          <p:nvPr/>
        </p:nvSpPr>
        <p:spPr>
          <a:xfrm>
            <a:off x="6143760" y="4857840"/>
            <a:ext cx="3000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+ 180˚+360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8"/>
          <p:cNvSpPr/>
          <p:nvPr/>
        </p:nvSpPr>
        <p:spPr>
          <a:xfrm>
            <a:off x="4572000" y="5857920"/>
            <a:ext cx="385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[13.6, 486.03˚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5"/>
              <p:cNvSpPr txBox="1"/>
              <p:nvPr/>
            </p:nvSpPr>
            <p:spPr>
              <a:xfrm>
                <a:off x="5357880" y="4214880"/>
                <a:ext cx="11430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8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9676d"/>
                </a:solidFill>
                <a:latin typeface="Tw Cen MT"/>
              </a:rPr>
              <a:t>Trigonometric Form</a:t>
            </a: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71680" y="164304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f (x, y) = [r , </a:t>
            </a:r>
            <a:r>
              <a:rPr b="0" lang="el-GR" sz="2900" spc="-1" strike="noStrike">
                <a:solidFill>
                  <a:srgbClr val="000000"/>
                </a:solidFill>
                <a:latin typeface="Constantia"/>
              </a:rPr>
              <a:t>θ</a:t>
            </a: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]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cb084"/>
              </a:buClr>
              <a:buSzPct val="60000"/>
              <a:buFont typeface="Arial"/>
              <a:buChar char="•"/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r is called the modulus, will ALWAYS be positiv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cb084"/>
              </a:buClr>
              <a:buSzPct val="60000"/>
              <a:buFont typeface="Arial"/>
              <a:buChar char="•"/>
            </a:pPr>
            <a:r>
              <a:rPr b="0" lang="el-GR" sz="2900" spc="-1" strike="noStrike">
                <a:solidFill>
                  <a:srgbClr val="000000"/>
                </a:solidFill>
                <a:latin typeface="Constantia"/>
              </a:rPr>
              <a:t>θ</a:t>
            </a: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 is called the argumen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en, x = rcos </a:t>
            </a:r>
            <a:r>
              <a:rPr b="0" lang="el-GR" sz="2900" spc="-1" strike="noStrike">
                <a:solidFill>
                  <a:srgbClr val="000000"/>
                </a:solidFill>
                <a:latin typeface="Constantia"/>
              </a:rPr>
              <a:t>θ</a:t>
            </a: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 and y = rsin</a:t>
            </a:r>
            <a:r>
              <a:rPr b="0" lang="el-GR" sz="2900" spc="-1" strike="noStrike">
                <a:solidFill>
                  <a:srgbClr val="000000"/>
                </a:solidFill>
                <a:latin typeface="Constantia"/>
              </a:rPr>
              <a:t> θ</a:t>
            </a: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ubstituting back in…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x + yi  </a:t>
            </a:r>
            <a:r>
              <a:rPr b="0" lang="en-US" sz="2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 rcos</a:t>
            </a:r>
            <a:r>
              <a:rPr b="0" lang="el-GR" sz="2900" spc="-1" strike="noStrike">
                <a:solidFill>
                  <a:srgbClr val="000000"/>
                </a:solidFill>
                <a:latin typeface="Constantia"/>
              </a:rPr>
              <a:t> θ</a:t>
            </a: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 + (rsin</a:t>
            </a:r>
            <a:r>
              <a:rPr b="0" lang="el-GR" sz="2900" spc="-1" strike="noStrike">
                <a:solidFill>
                  <a:srgbClr val="000000"/>
                </a:solidFill>
                <a:latin typeface="Constantia"/>
              </a:rPr>
              <a:t> θ</a:t>
            </a: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)i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20720" indent="-277200">
              <a:lnSpc>
                <a:spcPct val="100000"/>
              </a:lnSpc>
              <a:spcBef>
                <a:spcPts val="550"/>
              </a:spcBef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(cos 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θ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+ i sin 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θ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9676d"/>
                </a:solidFill>
                <a:latin typeface="Tw Cen MT"/>
              </a:rPr>
              <a:t>Example 2</a:t>
            </a: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213840" y="1643040"/>
            <a:ext cx="8929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rite the complex number 6 + 6i in trigonometric form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(6,6) </a:t>
            </a:r>
            <a:r>
              <a:rPr b="0" lang="en-US" sz="2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 1</a:t>
            </a:r>
            <a:r>
              <a:rPr b="0" lang="en-US" sz="2900" spc="-1" strike="noStrike" baseline="30000">
                <a:solidFill>
                  <a:srgbClr val="000000"/>
                </a:solidFill>
                <a:latin typeface="Constantia"/>
              </a:rPr>
              <a:t>st</a:t>
            </a: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 quadran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Object 5"/>
              <p:cNvSpPr txBox="1"/>
              <p:nvPr/>
            </p:nvSpPr>
            <p:spPr>
              <a:xfrm>
                <a:off x="811080" y="3143160"/>
                <a:ext cx="720108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54" name="TextBox 13"/>
          <p:cNvSpPr/>
          <p:nvPr/>
        </p:nvSpPr>
        <p:spPr>
          <a:xfrm>
            <a:off x="4643280" y="4214880"/>
            <a:ext cx="428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 =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r 8.4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Object 6"/>
              <p:cNvSpPr txBox="1"/>
              <p:nvPr/>
            </p:nvSpPr>
            <p:spPr>
              <a:xfrm>
                <a:off x="214200" y="4071960"/>
                <a:ext cx="3368880" cy="16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6" name="TextBox 16"/>
          <p:cNvSpPr/>
          <p:nvPr/>
        </p:nvSpPr>
        <p:spPr>
          <a:xfrm>
            <a:off x="4857840" y="4857840"/>
            <a:ext cx="292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Constantia"/>
              </a:rPr>
              <a:t>θ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 = </a:t>
            </a:r>
            <a:r>
              <a:rPr b="1" lang="el-GR" sz="40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/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20"/>
          <p:cNvSpPr/>
          <p:nvPr/>
        </p:nvSpPr>
        <p:spPr>
          <a:xfrm>
            <a:off x="214200" y="5857920"/>
            <a:ext cx="385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[8.49, </a:t>
            </a:r>
            <a:r>
              <a:rPr b="1" lang="el-GR" sz="40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/4]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7"/>
              <p:cNvSpPr txBox="1"/>
              <p:nvPr/>
            </p:nvSpPr>
            <p:spPr>
              <a:xfrm>
                <a:off x="5452920" y="4233960"/>
                <a:ext cx="9525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59" name="TextBox 23"/>
          <p:cNvSpPr/>
          <p:nvPr/>
        </p:nvSpPr>
        <p:spPr>
          <a:xfrm>
            <a:off x="3071880" y="5786280"/>
            <a:ext cx="607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8.49 (cos </a:t>
            </a:r>
            <a:r>
              <a:rPr b="1" lang="el-GR" sz="40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/4 + i sin </a:t>
            </a:r>
            <a:r>
              <a:rPr b="1" lang="el-GR" sz="40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/4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9676d"/>
                </a:solidFill>
                <a:latin typeface="Tw Cen MT"/>
              </a:rPr>
              <a:t>Multiplying Complex Numbers</a:t>
            </a: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571680" y="1642680"/>
            <a:ext cx="81532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</a:pPr>
            <a:r>
              <a:rPr b="1" lang="en-US" sz="3500" spc="-1" strike="noStrike">
                <a:solidFill>
                  <a:srgbClr val="000000"/>
                </a:solidFill>
                <a:latin typeface="Tw Cen MT"/>
              </a:rPr>
              <a:t>If z = [r , </a:t>
            </a:r>
            <a:r>
              <a:rPr b="1" lang="el-GR" sz="3500" spc="-1" strike="noStrike">
                <a:solidFill>
                  <a:srgbClr val="000000"/>
                </a:solidFill>
                <a:latin typeface="Constantia"/>
              </a:rPr>
              <a:t>θ</a:t>
            </a:r>
            <a:r>
              <a:rPr b="1" lang="en-US" sz="3500" spc="-1" strike="noStrike">
                <a:solidFill>
                  <a:srgbClr val="000000"/>
                </a:solidFill>
                <a:latin typeface="Constantia"/>
              </a:rPr>
              <a:t>] and w = [s , </a:t>
            </a:r>
            <a:r>
              <a:rPr b="1" lang="el-GR" sz="3500" spc="-1" strike="noStrike">
                <a:solidFill>
                  <a:srgbClr val="000000"/>
                </a:solidFill>
                <a:latin typeface="Constantia"/>
              </a:rPr>
              <a:t>φ</a:t>
            </a:r>
            <a:r>
              <a:rPr b="1" lang="en-US" sz="3500" spc="-1" strike="noStrike">
                <a:solidFill>
                  <a:srgbClr val="000000"/>
                </a:solidFill>
                <a:latin typeface="Constantia"/>
              </a:rPr>
              <a:t>] then </a:t>
            </a:r>
            <a:endParaRPr b="0" lang="en-US" sz="35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Constantia"/>
              </a:rPr>
              <a:t>zw = [rs, </a:t>
            </a:r>
            <a:r>
              <a:rPr b="1" lang="el-GR" sz="3500" spc="-1" strike="noStrike">
                <a:solidFill>
                  <a:srgbClr val="000000"/>
                </a:solidFill>
                <a:latin typeface="Constantia"/>
              </a:rPr>
              <a:t>θ</a:t>
            </a:r>
            <a:r>
              <a:rPr b="1" lang="en-US" sz="3500" spc="-1" strike="noStrike">
                <a:solidFill>
                  <a:srgbClr val="000000"/>
                </a:solidFill>
                <a:latin typeface="Constantia"/>
              </a:rPr>
              <a:t> + </a:t>
            </a:r>
            <a:r>
              <a:rPr b="1" lang="el-GR" sz="3500" spc="-1" strike="noStrike">
                <a:solidFill>
                  <a:srgbClr val="000000"/>
                </a:solidFill>
                <a:latin typeface="Constantia"/>
              </a:rPr>
              <a:t>φ</a:t>
            </a:r>
            <a:r>
              <a:rPr b="1" lang="en-US" sz="3500" spc="-1" strike="noStrike">
                <a:solidFill>
                  <a:srgbClr val="000000"/>
                </a:solidFill>
                <a:latin typeface="Constantia"/>
              </a:rPr>
              <a:t>]</a:t>
            </a:r>
            <a:endParaRPr b="0" lang="en-US" sz="35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Constantia"/>
              </a:rPr>
              <a:t>Complex Conjugates:</a:t>
            </a:r>
            <a:endParaRPr b="0" lang="en-US" sz="35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Constantia"/>
              </a:rPr>
              <a:t>z = a + bi      then z = a – bi</a:t>
            </a:r>
            <a:endParaRPr b="0" lang="en-US" sz="35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Straight Connector 12"/>
          <p:cNvSpPr/>
          <p:nvPr/>
        </p:nvSpPr>
        <p:spPr>
          <a:xfrm>
            <a:off x="4071960" y="4286160"/>
            <a:ext cx="28584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9676d"/>
                </a:solidFill>
                <a:latin typeface="Tw Cen MT"/>
              </a:rPr>
              <a:t>Example 3</a:t>
            </a: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571680" y="1642680"/>
            <a:ext cx="81532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rove:       complex numbers z, z – z is an imaginary number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et a + bi = z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n, z = a – bi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a + bi – (a – bi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a + bi – a + bi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2bi               </a:t>
            </a:r>
            <a:r>
              <a:rPr b="0" lang="en-US" sz="2900" spc="-1" strike="noStrike">
                <a:solidFill>
                  <a:srgbClr val="000000"/>
                </a:solidFill>
                <a:latin typeface="Wingdings"/>
                <a:ea typeface="Wingdings"/>
              </a:rPr>
              <a:t></a:t>
            </a: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 Imaginary!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Straight Connector 12"/>
          <p:cNvSpPr/>
          <p:nvPr/>
        </p:nvSpPr>
        <p:spPr>
          <a:xfrm>
            <a:off x="6000840" y="1785960"/>
            <a:ext cx="2858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2"/>
              <p:cNvSpPr txBox="1"/>
              <p:nvPr/>
            </p:nvSpPr>
            <p:spPr>
              <a:xfrm>
                <a:off x="1928880" y="1500120"/>
                <a:ext cx="71892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Straight Connector 5"/>
          <p:cNvSpPr/>
          <p:nvPr/>
        </p:nvSpPr>
        <p:spPr>
          <a:xfrm flipV="1">
            <a:off x="1785960" y="3285720"/>
            <a:ext cx="214200" cy="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6T11:41:44Z</dcterms:created>
  <dc:creator>Ric</dc:creator>
  <dc:description/>
  <dc:language>en-US</dc:language>
  <cp:lastModifiedBy>Laura Helbing</cp:lastModifiedBy>
  <dcterms:modified xsi:type="dcterms:W3CDTF">2012-03-07T15:18:39Z</dcterms:modified>
  <cp:revision>34</cp:revision>
  <dc:subject/>
  <dc:title>Diapositive 1</dc:title>
</cp:coreProperties>
</file>