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647E-BBB7-4316-AAC4-301A733B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68D-D7D3-4E2B-970D-6FB3CDFF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0BAB-395B-40C2-89ED-65012DF7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52E-833A-43AB-95E0-76D25387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63EE-E0ED-4880-BCA3-26A82E90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735E-E05D-4806-9C27-B0503807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8AD7-A87A-40E0-A9F3-E1271878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DD50-8821-4669-8190-8DB61CE5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620B-809D-4C77-AC55-19539FED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A67E-07FE-46CE-8B33-09D4B757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0634-1971-4F91-B608-F2C5ACB0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B66-47D4-44CF-BAA4-CA29ADC5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E663-7FF5-4874-B76C-3463DC4E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8CD0-EB19-4CCF-90E2-2A3EFE6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2EE1-2957-45F0-8F16-57D61FF5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ACAF-C7BF-4DCD-975F-887D91AF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0D36-3890-4E7F-8340-A379DCD7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24DC08-BBE1-4D3A-8C26-B7D9CACD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2DDFF-B021-4507-80FC-BE5E0A44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913AD-01F5-4757-BBE7-7F82E2F9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59406-EC6E-4816-A707-60225846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547D6-5581-4782-B08B-8B63F3DE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497D-CD9A-485D-98CA-8D4F382C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9F4AA-89B0-43DD-A880-25CDFF44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0B505E-502E-4339-A49F-8AE7D9D6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89614-B171-4C76-B51F-84D8B5FC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90B99-052D-45BF-852D-637905F3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F2C13-77AC-4164-9942-418BF71E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CB6D7C-1AB2-4F5A-8AC8-A6755B54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A03BF-8CE7-4FA9-B43C-EA8142A67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5FE74-6774-4ED9-92AD-63702E98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137DE-074B-4011-B146-9A6A2170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A05A-52BC-46EB-93D3-D12858E6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26F-9953-45C7-8A16-54B3D3C8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95521-CD24-4CE4-8C6F-D8B9FE9B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259FC-CD07-435B-8191-C905C3A6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C3BB1-AEB3-450D-8C09-780A6AE7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442F9-7C2A-49AE-8FA9-F9B30A7B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4BB9-0158-4179-B294-D390884C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4D9B-4757-4A4C-9277-17FAA6AA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08D8-2248-4BA0-A58F-5AF33A60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0922-CB95-4B9E-800A-5D3849AF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D5F7-4468-4E32-A9EA-37A47B24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9EA41-F1AD-407B-986C-7D26CE4A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040-3DBE-4592-A80B-04E5A5B4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6FC56-9BE6-48E7-8732-CB1BEDDD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7569F3-B5BF-4CAD-AC5F-49EB4B00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3A7EC-0683-4D9F-8799-7B99B988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9F77C8-A35F-4267-AA40-2FA8E662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F152D-6B96-48BD-A586-1E6F9BA5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85275-7AD1-4B46-BE7F-EC3FE33B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106B8-048B-4F5F-860F-475BCEE4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D9C5D-E89C-48D0-A7A0-413B04ED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8655A-5B2F-4F89-B864-DE496E88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AB7770-2932-4C4F-B8F9-C5BE26F2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7CB-7A2D-4AE9-A704-3F477BAF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5EB44-FB29-4696-8ACF-F04FB246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35F-EA06-4F64-920E-4D2DB8E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815-776E-4783-8DB4-37017254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0D3-4036-4F97-A3BE-13B9B929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B7B5-EE1D-43E0-8211-C774DE0D0271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6EDB-D982-4D45-818D-2E87DBC2700E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c9c2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c9c2d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c2d1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C057-C3F6-4EC6-8226-B5D8E0D69515}" type="datetime">
              <a:rPr b="0" lang="en-US" sz="1400" spc="-1" strike="noStrike">
                <a:solidFill>
                  <a:srgbClr val="c9c2d1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3421-AD1F-41FE-B985-EB45AA442A99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93AC-41EF-425E-886C-F638B8C3B048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03BE-2102-4D20-8987-A1D5B3741784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3BCE-4E01-45A3-9A04-E9CEB6B7539B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7888-F462-4244-B8F5-EE52A94DB3CD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89880" cy="71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9cb084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76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1AF0-CA5C-400A-8844-7095E447C987}" type="datetime">
              <a:rPr b="0" lang="en-US" sz="1400" spc="-1" strike="noStrike">
                <a:solidFill>
                  <a:srgbClr val="69676d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CBD4-8161-4AEB-8A7B-B1EF0118A01C}" type="slidenum">
              <a:rPr b="1" lang="fr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214720" y="6049440"/>
            <a:ext cx="6929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500" spc="-1" strike="noStrike">
                <a:solidFill>
                  <a:srgbClr val="ffffff"/>
                </a:solidFill>
                <a:latin typeface="Tw Cen MT"/>
              </a:rPr>
              <a:t>The Geometry of Complex Numbers</a:t>
            </a:r>
            <a:endParaRPr b="0" lang="en-US" sz="35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364320" y="600084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56760" y="171468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form the indicated complex number operation and express the answer in the same form as the given number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w Cen MT"/>
              </a:rPr>
              <a:t>Example 4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2286000" y="3143160"/>
                <a:ext cx="52149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]</m:t>
                    </m:r>
                    <m:r>
                      <m:t xml:space="preserve">⋅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6"/>
              <p:cNvSpPr txBox="1"/>
              <p:nvPr/>
            </p:nvSpPr>
            <p:spPr>
              <a:xfrm>
                <a:off x="3357720" y="4643280"/>
                <a:ext cx="27176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°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71680" y="1642680"/>
            <a:ext cx="815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Content Placeholder 8"/>
          <p:cNvSpPr/>
          <p:nvPr/>
        </p:nvSpPr>
        <p:spPr>
          <a:xfrm>
            <a:off x="723960" y="1795320"/>
            <a:ext cx="81532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Pages 526 – 52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3 – 9,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nstantia"/>
              </a:rPr>
              <a:t>12 -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Remember this?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1380960" y="1500120"/>
                <a:ext cx="56786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2095560" y="2500200"/>
                <a:ext cx="419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5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7"/>
              <p:cNvSpPr txBox="1"/>
              <p:nvPr/>
            </p:nvSpPr>
            <p:spPr>
              <a:xfrm>
                <a:off x="2428920" y="3214800"/>
                <a:ext cx="3770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8"/>
              <p:cNvSpPr txBox="1"/>
              <p:nvPr/>
            </p:nvSpPr>
            <p:spPr>
              <a:xfrm>
                <a:off x="2905200" y="3857760"/>
                <a:ext cx="2957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Straight Connector 10"/>
          <p:cNvSpPr/>
          <p:nvPr/>
        </p:nvSpPr>
        <p:spPr>
          <a:xfrm flipV="1">
            <a:off x="5357880" y="4000320"/>
            <a:ext cx="357120" cy="500040"/>
          </a:xfrm>
          <a:prstGeom prst="line">
            <a:avLst/>
          </a:prstGeom>
          <a:ln w="7632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5862600" y="40006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3000240" y="4714920"/>
                <a:ext cx="25765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3429000" y="5357880"/>
                <a:ext cx="17668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Complex Numbers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w Cen MT"/>
              </a:rPr>
              <a:t>* z = x + yi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Tw Cen MT"/>
              </a:rPr>
              <a:t>* C represents the set of complex numbers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1"/>
              <p:cNvSpPr txBox="1"/>
              <p:nvPr/>
            </p:nvSpPr>
            <p:spPr>
              <a:xfrm>
                <a:off x="3286080" y="1571760"/>
                <a:ext cx="17654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32" name="Straight Arrow Connector 14"/>
          <p:cNvCxnSpPr/>
          <p:nvPr/>
        </p:nvCxnSpPr>
        <p:spPr>
          <a:xfrm flipV="1">
            <a:off x="2999880" y="2071440"/>
            <a:ext cx="429480" cy="357840"/>
          </a:xfrm>
          <a:prstGeom prst="straightConnector1">
            <a:avLst/>
          </a:prstGeom>
          <a:ln w="57240">
            <a:solidFill>
              <a:srgbClr val="ceb966"/>
            </a:solidFill>
            <a:miter/>
            <a:tailEnd len="med" type="arrow" w="med"/>
          </a:ln>
        </p:spPr>
      </p:cxnSp>
      <p:cxnSp>
        <p:nvCxnSpPr>
          <p:cNvPr id="233" name="Straight Arrow Connector 16"/>
          <p:cNvCxnSpPr/>
          <p:nvPr/>
        </p:nvCxnSpPr>
        <p:spPr>
          <a:xfrm flipH="1" flipV="1">
            <a:off x="4642560" y="2142360"/>
            <a:ext cx="429480" cy="429480"/>
          </a:xfrm>
          <a:prstGeom prst="straightConnector1">
            <a:avLst/>
          </a:prstGeom>
          <a:ln w="57240">
            <a:solidFill>
              <a:srgbClr val="ceb966"/>
            </a:solidFill>
            <a:miter/>
            <a:tailEnd len="med" type="arrow" w="med"/>
          </a:ln>
        </p:spPr>
      </p:cxnSp>
      <p:sp>
        <p:nvSpPr>
          <p:cNvPr id="234" name="TextBox 19"/>
          <p:cNvSpPr/>
          <p:nvPr/>
        </p:nvSpPr>
        <p:spPr>
          <a:xfrm>
            <a:off x="2436120" y="2428920"/>
            <a:ext cx="11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0"/>
          <p:cNvSpPr/>
          <p:nvPr/>
        </p:nvSpPr>
        <p:spPr>
          <a:xfrm>
            <a:off x="4653360" y="257184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ary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Complex Plane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6643440" cy="4967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Find the polar coordinates [r,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] of -8 + 11i with r ≥ 0 and 360˚≤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≤ 720˚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Rectangular coordinate: (-8, 11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TextBox 9"/>
          <p:cNvSpPr/>
          <p:nvPr/>
        </p:nvSpPr>
        <p:spPr>
          <a:xfrm>
            <a:off x="6143760" y="264312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dra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00040" y="3143160"/>
                <a:ext cx="782316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43" name="TextBox 12"/>
          <p:cNvSpPr/>
          <p:nvPr/>
        </p:nvSpPr>
        <p:spPr>
          <a:xfrm>
            <a:off x="464328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 13.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0" y="4143240"/>
                <a:ext cx="383544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5" name="TextBox 15"/>
          <p:cNvSpPr/>
          <p:nvPr/>
        </p:nvSpPr>
        <p:spPr>
          <a:xfrm>
            <a:off x="4000680" y="4786200"/>
            <a:ext cx="29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= -53.97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6143760" y="4857840"/>
            <a:ext cx="30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+ 180˚+360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457200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13.6, 486.03˚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5"/>
              <p:cNvSpPr txBox="1"/>
              <p:nvPr/>
            </p:nvSpPr>
            <p:spPr>
              <a:xfrm>
                <a:off x="5357880" y="4214880"/>
                <a:ext cx="1143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Trigonometric Form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71680" y="164304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(x, y) = [r , 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Arial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r is called the modulus, will ALWAYS be positi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Arial"/>
              <a:buChar char="•"/>
            </a:pP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is called the argu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en, x = rcos 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and y = rsin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ubstituting back in…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x + yi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rcos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+ (rsin</a:t>
            </a:r>
            <a:r>
              <a:rPr b="0" lang="el-GR" sz="2900" spc="-1" strike="noStrike">
                <a:solidFill>
                  <a:srgbClr val="000000"/>
                </a:solidFill>
                <a:latin typeface="Constantia"/>
              </a:rPr>
              <a:t> θ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)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(cos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+ i sin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2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13840" y="1643040"/>
            <a:ext cx="8929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rite the complex number 6 + 6i in trigonometric for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(6,6)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1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quadra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811080" y="3143160"/>
                <a:ext cx="72010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4" name="TextBox 13"/>
          <p:cNvSpPr/>
          <p:nvPr/>
        </p:nvSpPr>
        <p:spPr>
          <a:xfrm>
            <a:off x="4643280" y="421488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 8.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214200" y="4071960"/>
                <a:ext cx="336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TextBox 16"/>
          <p:cNvSpPr/>
          <p:nvPr/>
        </p:nvSpPr>
        <p:spPr>
          <a:xfrm>
            <a:off x="4857840" y="485784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 =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0"/>
          <p:cNvSpPr/>
          <p:nvPr/>
        </p:nvSpPr>
        <p:spPr>
          <a:xfrm>
            <a:off x="214200" y="585792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[8.49,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]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5452920" y="4233960"/>
                <a:ext cx="95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9" name="TextBox 23"/>
          <p:cNvSpPr/>
          <p:nvPr/>
        </p:nvSpPr>
        <p:spPr>
          <a:xfrm>
            <a:off x="3071880" y="578628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8.49 (cos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 + i sin </a:t>
            </a:r>
            <a:r>
              <a:rPr b="1" lang="el-GR" sz="4000" spc="-1" strike="noStrike">
                <a:solidFill>
                  <a:srgbClr val="000000"/>
                </a:solidFill>
                <a:latin typeface="Constantia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/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Multiplying Complex Numbers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71680" y="1642680"/>
            <a:ext cx="81532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1" lang="en-US" sz="3500" spc="-1" strike="noStrike">
                <a:solidFill>
                  <a:srgbClr val="000000"/>
                </a:solidFill>
                <a:latin typeface="Tw Cen MT"/>
              </a:rPr>
              <a:t>If z = [r 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 and w = [s 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 then 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zw = [rs,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 + </a:t>
            </a:r>
            <a:r>
              <a:rPr b="1" lang="el-GR" sz="3500" spc="-1" strike="noStrike">
                <a:solidFill>
                  <a:srgbClr val="000000"/>
                </a:solidFill>
                <a:latin typeface="Constantia"/>
              </a:rPr>
              <a:t>φ</a:t>
            </a: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]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Complex Conjugates: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nstantia"/>
              </a:rPr>
              <a:t>z = a + bi      then z = a – bi</a:t>
            </a: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Straight Connector 12"/>
          <p:cNvSpPr/>
          <p:nvPr/>
        </p:nvSpPr>
        <p:spPr>
          <a:xfrm>
            <a:off x="4071960" y="4286160"/>
            <a:ext cx="285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9676d"/>
                </a:solidFill>
                <a:latin typeface="Tw Cen MT"/>
              </a:rPr>
              <a:t>Example 3</a:t>
            </a:r>
            <a:endParaRPr b="0" lang="en-US" sz="4400" spc="-1" strike="noStrike">
              <a:solidFill>
                <a:srgbClr val="69676d"/>
              </a:solidFill>
              <a:latin typeface="Tw Cen M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71680" y="1642680"/>
            <a:ext cx="8153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e:       complex numbers z, z – z is an imaginary numb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 a + bi = 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, z = a – bi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cb084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 + bi – (a – b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a + bi – a + b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2bi             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Imaginary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Straight Connector 12"/>
          <p:cNvSpPr/>
          <p:nvPr/>
        </p:nvSpPr>
        <p:spPr>
          <a:xfrm>
            <a:off x="6000840" y="1785960"/>
            <a:ext cx="285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8880" y="1500120"/>
                <a:ext cx="7189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Straight Connector 5"/>
          <p:cNvSpPr/>
          <p:nvPr/>
        </p:nvSpPr>
        <p:spPr>
          <a:xfrm flipV="1">
            <a:off x="1785960" y="3285720"/>
            <a:ext cx="21420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41:44Z</dcterms:created>
  <dc:creator>Ric</dc:creator>
  <dc:description/>
  <dc:language>en-US</dc:language>
  <cp:lastModifiedBy>Laura Helbing</cp:lastModifiedBy>
  <dcterms:modified xsi:type="dcterms:W3CDTF">2012-03-07T15:18:39Z</dcterms:modified>
  <cp:revision>34</cp:revision>
  <dc:subject/>
  <dc:title>Diapositive 1</dc:title>
</cp:coreProperties>
</file>