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245-FDA0-4DA6-ABE9-7A3A8A62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F69-78A2-4A2A-9A21-2E5EF03E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93F-A05D-489A-B357-F375C1DA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1A9-CF20-4D89-8C16-D44DBA8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76C-EB3E-4092-B7CF-792222AC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02EB-0580-4383-9E28-5EAF4B7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2480-3ECA-45CE-B9EA-CEE3FD5E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898F-0D67-43C1-8493-FAB790C6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3D8-60F3-44B9-AA8C-C251736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E418-21C5-4F12-AD27-6CB3FEE5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00A6-4B3D-4E31-8486-80E9763E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802-6467-4668-8610-75E7637A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4E5D-B625-407A-9ED0-0411FF6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123A-7853-44BE-86AC-832D622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3557-70A7-4CF2-85B3-F026EA80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63D6-568D-4EE3-A780-36A874F7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A008-3F6F-4370-AA59-E2590542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634B8-B9C8-4063-BE04-7417AC42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C2131-1382-43EF-9D5D-D57DD244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90819-B3EC-4E86-B0B5-BAB0901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CD828-0C9B-4345-A53F-5234B919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F1297-5F7A-4DB4-9C5D-76FBCFF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ED1-FFC2-4F96-9AA1-8942DAB3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3397F-691C-47E2-A74D-E76488B8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680FD-0038-427C-8562-5C35415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07366-3498-448F-833A-C76158B0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511128-DF7E-42EC-B914-D784881F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8CFAD-F645-4484-ABC6-DDB475EC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55967-FDE4-4C73-AFF6-090D9CFA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76D38-B7F5-48E9-84B0-E51F763B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BC645-D58E-4E05-B1CC-EFD95136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A61B-7DE0-44E9-B28F-46A4C437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1215-008D-4C3D-B052-2A50944A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FC0-DF95-434B-B786-DD2807CB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78F6-5126-4CF3-8870-99D6D69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12B2E-7311-4FC2-9C54-6DED5AFC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2D41-704A-450D-A28F-ACF3BAB6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92079-9C66-4B9D-A11B-7EA22E7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206AA-784A-44EB-8349-DDAB01B8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E89EB-F201-45F3-9AE0-3D2CD9E4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827B-4806-4EFE-9F66-038E1365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729E-4E11-4DDC-A287-81FA0E1D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D6EEC-F8E4-4AAA-9C21-6010693A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6FA50-A2A1-4CFD-8146-7F6F7F40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62A-27F8-4290-866B-E4F9325B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EB3D0-EBA6-4C5F-A1A4-8636154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443B42-90AE-4197-A747-0D4ADEC3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E36DC-3F00-4F1A-AAB7-9FC17B3C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1A2905-64D8-4B80-8499-D4DA848D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2ABA5-7493-4744-AB7B-DB16F5D4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830A8-19FE-4A01-BB18-64B9A3A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04DF1-79C3-4B57-B3E0-28E6FEA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F2A02-A039-4D26-A608-73D623ED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0FE58-F23A-40EF-863D-F903EE8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0E86F-9CDE-4968-9BB4-DFB13EF1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C59-DB88-4935-BA98-8AF32564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472CA-1B82-4477-9D49-F6913429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39E-009D-417D-A78E-149407E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B30-7F88-4D44-ACA2-075899D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761-9B4C-4993-B184-BE63C3E2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1150-B80A-4868-95A7-5DDD412B2970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5171-B0C0-4CD7-9269-D0B8C01BB0FD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c2d1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6E7D-DE17-4A0A-9F40-516F76E5BDC2}" type="datetime">
              <a:rPr b="0" lang="en-US" sz="1400" spc="-1" strike="noStrike">
                <a:solidFill>
                  <a:srgbClr val="c9c2d1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CB4E-4DB9-4F21-B80A-456AFCE25F44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4F68-9394-435D-A016-5FF6A9C06B0A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4A27-83E6-4FA8-A03B-42F4BC9061E4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767-5029-4443-8978-0EFE13E78305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A443-515F-458C-90A1-5952B801DC30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6246-9D20-497A-9940-4184F4293142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97FE-16F0-426B-8B8B-7CE343A624A2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14720" y="6049440"/>
            <a:ext cx="692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ffffff"/>
                </a:solidFill>
                <a:latin typeface="Tw Cen MT"/>
              </a:rPr>
              <a:t>The Geometry of Complex Numbers</a:t>
            </a:r>
            <a:endParaRPr b="0" lang="en-US" sz="3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64320" y="600084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56760" y="171468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form the indicated complex number operation and express the answer in the same form as the given numb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2286000" y="3143160"/>
                <a:ext cx="5214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357720" y="4643280"/>
                <a:ext cx="271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Content Placeholder 8"/>
          <p:cNvSpPr/>
          <p:nvPr/>
        </p:nvSpPr>
        <p:spPr>
          <a:xfrm>
            <a:off x="723960" y="179532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Pages 526 – 52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3 – 9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Remember this?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380960" y="1500120"/>
                <a:ext cx="5678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095560" y="2500200"/>
                <a:ext cx="419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428920" y="3214800"/>
                <a:ext cx="377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905200" y="3857760"/>
                <a:ext cx="2957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Straight Connector 10"/>
          <p:cNvSpPr/>
          <p:nvPr/>
        </p:nvSpPr>
        <p:spPr>
          <a:xfrm flipV="1">
            <a:off x="5357880" y="4000320"/>
            <a:ext cx="357120" cy="500040"/>
          </a:xfrm>
          <a:prstGeom prst="line">
            <a:avLst/>
          </a:prstGeom>
          <a:ln w="7632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862600" y="40006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3000240" y="4714920"/>
                <a:ext cx="257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3429000" y="5357880"/>
                <a:ext cx="1766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z = x + yi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C represents the set of complex numb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3286080" y="1571760"/>
                <a:ext cx="1765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2" name="Straight Arrow Connector 14"/>
          <p:cNvCxnSpPr/>
          <p:nvPr/>
        </p:nvCxnSpPr>
        <p:spPr>
          <a:xfrm flipV="1">
            <a:off x="2999880" y="2071440"/>
            <a:ext cx="429480" cy="35784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 flipH="1" flipV="1">
            <a:off x="4642560" y="2142360"/>
            <a:ext cx="429480" cy="42948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234" name="TextBox 19"/>
          <p:cNvSpPr/>
          <p:nvPr/>
        </p:nvSpPr>
        <p:spPr>
          <a:xfrm>
            <a:off x="2436120" y="24289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4653360" y="25718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Plane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ind the polar coordinates [r,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] of -8 + 11i with r ≥ 0 and 360˚≤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≤ 720˚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ctangular coordinate: (-8, 1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6143760" y="2643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d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00040" y="3143160"/>
                <a:ext cx="7823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TextBox 12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13.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0" y="4143240"/>
                <a:ext cx="3835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Box 15"/>
          <p:cNvSpPr/>
          <p:nvPr/>
        </p:nvSpPr>
        <p:spPr>
          <a:xfrm>
            <a:off x="4000680" y="478620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-53.97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6143760" y="48578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+ 180˚+360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45720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13.6, 486.03˚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5357880" y="421488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Trigonometric Form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(x, y) = [r ,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r is called the modulus, will ALWAYS be posit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s called the arg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en, x = rcos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and y = 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ubstituting back in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x + yi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rcos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+ (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)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(cos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1643040"/>
            <a:ext cx="89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e the complex number 6 + 6i in trigonometric for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(6,6)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quadr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811080" y="3143160"/>
                <a:ext cx="7201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TextBox 13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8.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214200" y="4071960"/>
                <a:ext cx="336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TextBox 16"/>
          <p:cNvSpPr/>
          <p:nvPr/>
        </p:nvSpPr>
        <p:spPr>
          <a:xfrm>
            <a:off x="4857840" y="485784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2142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8.49,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]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5452920" y="4233960"/>
                <a:ext cx="95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TextBox 23"/>
          <p:cNvSpPr/>
          <p:nvPr/>
        </p:nvSpPr>
        <p:spPr>
          <a:xfrm>
            <a:off x="3071880" y="578628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8.49 (cos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 + i sin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Multiplying 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1680" y="1642680"/>
            <a:ext cx="8153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1" lang="en-US" sz="3500" spc="-1" strike="noStrike">
                <a:solidFill>
                  <a:srgbClr val="000000"/>
                </a:solidFill>
                <a:latin typeface="Tw Cen MT"/>
              </a:rPr>
              <a:t>If z = [r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and w = [s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then 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w = [rs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Complex Conjugates: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 = a + bi      then z = a – bi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Straight Connector 12"/>
          <p:cNvSpPr/>
          <p:nvPr/>
        </p:nvSpPr>
        <p:spPr>
          <a:xfrm>
            <a:off x="4071960" y="4286160"/>
            <a:ext cx="285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e:       complex numbers z, z – z is an imaginary numb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+ bi = 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, z = a – bi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(a – b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a + b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2bi             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maginar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Straight Connector 12"/>
          <p:cNvSpPr/>
          <p:nvPr/>
        </p:nvSpPr>
        <p:spPr>
          <a:xfrm>
            <a:off x="6000840" y="178596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8880" y="1500120"/>
                <a:ext cx="718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Straight Connector 5"/>
          <p:cNvSpPr/>
          <p:nvPr/>
        </p:nvSpPr>
        <p:spPr>
          <a:xfrm flipV="1">
            <a:off x="1785960" y="3285720"/>
            <a:ext cx="2142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41:44Z</dcterms:created>
  <dc:creator>Ric</dc:creator>
  <dc:description/>
  <dc:language>en-US</dc:language>
  <cp:lastModifiedBy>Laura Helbing</cp:lastModifiedBy>
  <dcterms:modified xsi:type="dcterms:W3CDTF">2012-03-07T15:18:39Z</dcterms:modified>
  <cp:revision>34</cp:revision>
  <dc:subject/>
  <dc:title>Diapositive 1</dc:title>
</cp:coreProperties>
</file>