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35E-093F-409D-9677-6D04D6D9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AAC-D1EA-409D-9EA5-7E7E4725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81A-0721-410D-8E4A-ADF11415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924-025D-4068-98E8-BDF9279D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E233-74C4-40F2-95AF-9CCDB2C8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A0B6-E495-4144-9377-5C22EF58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5473-68C1-45A3-9855-08310A10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C7DD-A0E1-4602-B64B-F362BA5F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E2DC-553D-4B8E-87EF-74F980D9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7298-9E6D-4093-BCF5-CB63BC44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6B7D-53ED-4657-B8E3-7474ACDF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A8C-F51F-4E17-AC7B-CCAA90B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7052-1A10-4BFF-869A-11F7D02F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2FA6-C18F-4A34-AF89-3E44ED00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B8A7-68C4-49FB-B052-F3EB7D46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9FF9-3192-4532-BC50-9D928F4E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1C51-C644-4A1D-AD20-626864AE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5E1DC-12CA-45D4-BA39-FAB0059A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358C7-B1B0-4867-8E26-CB66FEE3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0CFC7-7E71-4B28-B77E-60DEA723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1E2DE-79BD-4E5B-AF4D-DD2096F7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A06CC-827D-4ED9-87C8-D1B724B4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6E1-8D20-4D7A-84DB-86EE05AE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39F64-7259-4499-ABDD-12C47668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3A873-9D32-49F1-99C7-7BF20D5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AF1E3-DCB4-438E-9D33-937E5072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54C18-07AF-42FE-8B6E-22544116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E5B2A-06EC-48DE-9DDB-C424A7CD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17DE3-8C2A-403F-98FD-60633633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8005C-903B-4F9D-A380-DD27396E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319F-C343-418D-A509-46693D92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F766-ED4F-43D8-8379-EA01ACF3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E3DA-800C-49A3-9DD3-08ECFD86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C05-16EE-45DA-8F59-32077DE3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86FD8-17FE-4430-AF83-A9992052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7160-2AC5-4FE8-8E58-66A7066E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3ADC4-A4A0-467E-8A39-0F9D1962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37667-344B-4510-B2EF-3238E2EE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2BA4-09A1-44D8-BACF-0C99E110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BE17-E3DA-43F3-95AF-F1109595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ECCC-0EB8-4CE0-AED0-22899BF4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EE3C-8260-4BDD-8E93-58AF9EF6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76AA6-A128-4350-B160-D65BFA59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46347-FF5C-4437-8DA8-6B50154A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A68-FCE1-40A0-A60D-F4BD541C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46389-0B6E-45E2-B9FD-CCD8F308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4D5EA-5A2C-4712-ACB4-3A0ED911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01215-1BC8-4AB2-B740-6EA25C8B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DF664-B88B-4FF6-89A2-0D648A1B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221D1-27A0-4BE1-B95A-A1712EEC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8C650-53C2-41ED-BA8F-BE9476BF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60768-E01B-450A-8B0B-51B3FD20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83270-416B-4F3A-94C3-70850C4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C935A-3DBC-4E11-B43E-95CED9C5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1618B-8048-4ED0-97F1-E4C2C5C9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2D7-8F0D-43FE-B3ED-EC01E637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331B3-6242-4D84-AECC-83588998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39B-6FA4-459D-8C50-0A09B901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146-6B89-4B0F-B0DB-780B5D88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95A-F17A-4818-8C53-39708471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29D0-4383-45E3-A4A4-A4F85B2C7A28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10FF-F770-4BB1-88C1-E08725CE85EB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c2d1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0C06-69F8-4235-BB96-CC908F4369F8}" type="datetime">
              <a:rPr b="0" lang="en-US" sz="1400" spc="-1" strike="noStrike">
                <a:solidFill>
                  <a:srgbClr val="c9c2d1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A921-2C5F-4ECE-B3AF-277F908B5C6E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12D5-0D8E-401E-9F54-27759D89E6A9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C6ED-E028-4D7B-A9C0-BD2385AB639F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C8CB-EC79-488A-9389-F860EFC7E4C9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49AD-64AC-4B86-AA99-6D8943503FB7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44760" y="4654440"/>
            <a:ext cx="7589880" cy="71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318A-9A98-454A-812F-076F144A9DCB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E5AA-A25A-4425-80C5-D12FDC229255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14720" y="6049440"/>
            <a:ext cx="6929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500" spc="-1" strike="noStrike">
                <a:solidFill>
                  <a:srgbClr val="ffffff"/>
                </a:solidFill>
                <a:latin typeface="Tw Cen MT"/>
              </a:rPr>
              <a:t>The Geometry of Complex Numbers</a:t>
            </a:r>
            <a:endParaRPr b="0" lang="en-US" sz="35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364320" y="600084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56760" y="171468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form the indicated complex number operation and express the answer in the same form as the given numb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Example 4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2286000" y="3143160"/>
                <a:ext cx="5214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3357720" y="4643280"/>
                <a:ext cx="271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°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680" y="1642680"/>
            <a:ext cx="815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Content Placeholder 8"/>
          <p:cNvSpPr/>
          <p:nvPr/>
        </p:nvSpPr>
        <p:spPr>
          <a:xfrm>
            <a:off x="723960" y="1795320"/>
            <a:ext cx="81532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Pages 526 – 52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3 – 9,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12 -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Remember this?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1380960" y="1500120"/>
                <a:ext cx="56786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2095560" y="2500200"/>
                <a:ext cx="4199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2428920" y="3214800"/>
                <a:ext cx="3770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2905200" y="3857760"/>
                <a:ext cx="2957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Straight Connector 10"/>
          <p:cNvSpPr/>
          <p:nvPr/>
        </p:nvSpPr>
        <p:spPr>
          <a:xfrm flipV="1">
            <a:off x="5357880" y="4000320"/>
            <a:ext cx="357120" cy="500040"/>
          </a:xfrm>
          <a:prstGeom prst="line">
            <a:avLst/>
          </a:prstGeom>
          <a:ln w="7632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5862600" y="40006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3000240" y="4714920"/>
                <a:ext cx="2576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1"/>
              <p:cNvSpPr txBox="1"/>
              <p:nvPr/>
            </p:nvSpPr>
            <p:spPr>
              <a:xfrm>
                <a:off x="3429000" y="5357880"/>
                <a:ext cx="17668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Complex Numbers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w Cen MT"/>
              </a:rPr>
              <a:t>* z = x + yi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w Cen MT"/>
              </a:rPr>
              <a:t>* C represents the set of complex number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3286080" y="1571760"/>
                <a:ext cx="17654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2" name="Straight Arrow Connector 14"/>
          <p:cNvCxnSpPr/>
          <p:nvPr/>
        </p:nvCxnSpPr>
        <p:spPr>
          <a:xfrm flipV="1">
            <a:off x="2999880" y="2071440"/>
            <a:ext cx="429480" cy="357840"/>
          </a:xfrm>
          <a:prstGeom prst="straightConnector1">
            <a:avLst/>
          </a:prstGeom>
          <a:ln w="5724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233" name="Straight Arrow Connector 16"/>
          <p:cNvCxnSpPr/>
          <p:nvPr/>
        </p:nvCxnSpPr>
        <p:spPr>
          <a:xfrm flipH="1" flipV="1">
            <a:off x="4642560" y="2142360"/>
            <a:ext cx="429480" cy="429480"/>
          </a:xfrm>
          <a:prstGeom prst="straightConnector1">
            <a:avLst/>
          </a:prstGeom>
          <a:ln w="57240">
            <a:solidFill>
              <a:srgbClr val="ceb966"/>
            </a:solidFill>
            <a:miter/>
            <a:tailEnd len="med" type="arrow" w="med"/>
          </a:ln>
        </p:spPr>
      </p:cxnSp>
      <p:sp>
        <p:nvSpPr>
          <p:cNvPr id="234" name="TextBox 19"/>
          <p:cNvSpPr/>
          <p:nvPr/>
        </p:nvSpPr>
        <p:spPr>
          <a:xfrm>
            <a:off x="2436120" y="242892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0"/>
          <p:cNvSpPr/>
          <p:nvPr/>
        </p:nvSpPr>
        <p:spPr>
          <a:xfrm>
            <a:off x="4653360" y="257184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ary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Complex Plane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6643440" cy="4967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Find the polar coordinates [r,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] of -8 + 11i with r ≥ 0 and 360˚≤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≤ 720˚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ctangular coordinate: (-8, 11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6143760" y="26431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dr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00040" y="3143160"/>
                <a:ext cx="7823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3" name="TextBox 12"/>
          <p:cNvSpPr/>
          <p:nvPr/>
        </p:nvSpPr>
        <p:spPr>
          <a:xfrm>
            <a:off x="464328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 13.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0" y="4143240"/>
                <a:ext cx="38354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Box 15"/>
          <p:cNvSpPr/>
          <p:nvPr/>
        </p:nvSpPr>
        <p:spPr>
          <a:xfrm>
            <a:off x="4000680" y="4786200"/>
            <a:ext cx="29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= -53.97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6143760" y="485784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+ 180˚+360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4572000" y="58579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[13.6, 486.03˚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5"/>
              <p:cNvSpPr txBox="1"/>
              <p:nvPr/>
            </p:nvSpPr>
            <p:spPr>
              <a:xfrm>
                <a:off x="5357880" y="4214880"/>
                <a:ext cx="1143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Trigonometric Form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(x, y) = [r , 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Arial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r is called the modulus, will ALWAYS be positi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Arial"/>
              <a:buChar char="•"/>
            </a:pP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is called the argu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en, x = rcos 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and y = rsin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ubstituting back in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x + yi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rcos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+ (rsin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)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(cos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+ i sin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13840" y="1643040"/>
            <a:ext cx="8929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ite the complex number 6 + 6i in trigonometric for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(6,6)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quadra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811080" y="3143160"/>
                <a:ext cx="7201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4" name="TextBox 13"/>
          <p:cNvSpPr/>
          <p:nvPr/>
        </p:nvSpPr>
        <p:spPr>
          <a:xfrm>
            <a:off x="464328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 8.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214200" y="4071960"/>
                <a:ext cx="336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TextBox 16"/>
          <p:cNvSpPr/>
          <p:nvPr/>
        </p:nvSpPr>
        <p:spPr>
          <a:xfrm>
            <a:off x="4857840" y="485784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214200" y="58579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[8.49,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]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5452920" y="4233960"/>
                <a:ext cx="95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9" name="TextBox 23"/>
          <p:cNvSpPr/>
          <p:nvPr/>
        </p:nvSpPr>
        <p:spPr>
          <a:xfrm>
            <a:off x="3071880" y="578628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8.49 (cos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 + i sin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Multiplying Complex Numbers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71680" y="1642680"/>
            <a:ext cx="81532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1" lang="en-US" sz="3500" spc="-1" strike="noStrike">
                <a:solidFill>
                  <a:srgbClr val="000000"/>
                </a:solidFill>
                <a:latin typeface="Tw Cen MT"/>
              </a:rPr>
              <a:t>If z = [r 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 and w = [s 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 then 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zw = [rs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Complex Conjugates: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z = a + bi      then z = a – bi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Straight Connector 12"/>
          <p:cNvSpPr/>
          <p:nvPr/>
        </p:nvSpPr>
        <p:spPr>
          <a:xfrm>
            <a:off x="4071960" y="4286160"/>
            <a:ext cx="285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71680" y="1642680"/>
            <a:ext cx="815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ve:       complex numbers z, z – z is an imaginary numb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 a + bi = 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, z = a – bi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 + bi – (a – b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 + bi – a + b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2bi             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Imaginar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Straight Connector 12"/>
          <p:cNvSpPr/>
          <p:nvPr/>
        </p:nvSpPr>
        <p:spPr>
          <a:xfrm>
            <a:off x="6000840" y="1785960"/>
            <a:ext cx="285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8880" y="1500120"/>
                <a:ext cx="7189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Straight Connector 5"/>
          <p:cNvSpPr/>
          <p:nvPr/>
        </p:nvSpPr>
        <p:spPr>
          <a:xfrm flipV="1">
            <a:off x="1785960" y="3285720"/>
            <a:ext cx="2142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1:41:44Z</dcterms:created>
  <dc:creator>Ric</dc:creator>
  <dc:description/>
  <dc:language>en-US</dc:language>
  <cp:lastModifiedBy>Laura Helbing</cp:lastModifiedBy>
  <dcterms:modified xsi:type="dcterms:W3CDTF">2012-03-07T15:18:39Z</dcterms:modified>
  <cp:revision>34</cp:revision>
  <dc:subject/>
  <dc:title>Diapositive 1</dc:title>
</cp:coreProperties>
</file>