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E06E-C12C-434D-8972-1FF25B7C8A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02B6-BFAE-4C00-8490-7C817A3E6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4005-7E25-4E2E-A1D9-EBF7B83E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0A10-A114-4416-8A92-A0BC2771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DD21-8AE4-4B30-B1A1-8B541651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3BD0-363A-405E-AADF-C17910D1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2CC7-F5F6-470A-9D90-DE092F75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E2F3-8FB6-4968-9491-7888281B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0909-0E22-4772-B060-1563886E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813D-E9A8-45D5-AC83-EEEF8562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E36D-CB9F-4617-8C64-5A3469FC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2625-9CF4-44AD-B24A-A2343AFA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1BE5-150D-4044-86D0-533A79C3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99E4-BB30-46E3-BA9F-AB3B485D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8954-4F41-47B4-8F6B-7D5BF7080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49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57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65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74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82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91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99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07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4" name="Rectangle 67" descr=""/>
          <p:cNvPicPr/>
          <p:nvPr/>
        </p:nvPicPr>
        <p:blipFill>
          <a:blip r:embed="rId1"/>
          <a:stretch/>
        </p:blipFill>
        <p:spPr>
          <a:xfrm>
            <a:off x="2170080" y="1822320"/>
            <a:ext cx="4803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8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9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66"/>
          <p:cNvSpPr/>
          <p:nvPr/>
        </p:nvSpPr>
        <p:spPr>
          <a:xfrm>
            <a:off x="0" y="258840"/>
            <a:ext cx="7464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 to previous questio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pose you were to randomly sample 100 of the SAT I test takers. What is the probability that the mean score of y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is less than 1,000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9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Rectangle 66"/>
          <p:cNvSpPr/>
          <p:nvPr/>
        </p:nvSpPr>
        <p:spPr>
          <a:xfrm>
            <a:off x="0" y="0"/>
            <a:ext cx="6516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onsider a test with 50 multiple-choic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questions, each with 5 options. If studen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uess randomly on the test, what is th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xpected mean and standard deviatio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6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" fill="hold"/>
                                        <p:tgtEl>
                                          <p:spTgt spid="6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01" name="Rectangle 58"/>
          <p:cNvSpPr/>
          <p:nvPr/>
        </p:nvSpPr>
        <p:spPr>
          <a:xfrm>
            <a:off x="482760" y="0"/>
            <a:ext cx="62085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ive a chart and then a histogram of the binomial probability distribution for the number of times a two appears when a fair six-sided die is tossed 5 tim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6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" fill="hold"/>
                                        <p:tgtEl>
                                          <p:spTgt spid="7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5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1" name="Rectangle 66"/>
          <p:cNvSpPr/>
          <p:nvPr/>
        </p:nvSpPr>
        <p:spPr>
          <a:xfrm>
            <a:off x="0" y="0"/>
            <a:ext cx="6632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graph below represents a normal probability distribution with mean 25 and standard deviation 2.5.  Estimate the area of the shaded reg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2" name="Picture 86" descr=""/>
          <p:cNvPicPr/>
          <p:nvPr/>
        </p:nvPicPr>
        <p:blipFill>
          <a:blip r:embed="rId3"/>
          <a:srcRect l="24079" t="25001" r="60070" b="55336"/>
          <a:stretch/>
        </p:blipFill>
        <p:spPr>
          <a:xfrm>
            <a:off x="0" y="2487600"/>
            <a:ext cx="563580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7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7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02" name="Text Box 14"/>
          <p:cNvSpPr/>
          <p:nvPr/>
        </p:nvSpPr>
        <p:spPr>
          <a:xfrm>
            <a:off x="0" y="0"/>
            <a:ext cx="703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random sample of 175 salaries was taken from a certain population of teachers’ salaries. The mean of the sample was found to be $37,250 and the standard deviation was $4,300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ssuming the standard deviation of the sample is the same as that for the entire population, find the 95% confidence interval for the mean salary of the population of teacher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8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8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533520" y="5029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33520" y="6006960"/>
            <a:ext cx="32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4952880" y="5029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952880" y="6095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29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30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31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32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33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34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35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36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37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38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39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0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41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2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43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44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45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46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7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8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49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50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51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52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75"/>
          <p:cNvSpPr/>
          <p:nvPr/>
        </p:nvSpPr>
        <p:spPr>
          <a:xfrm>
            <a:off x="523800" y="0"/>
            <a:ext cx="55738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timate the given probabilit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(z &gt; 1.2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Object 79"/>
              <p:cNvSpPr txBox="1"/>
              <p:nvPr/>
            </p:nvSpPr>
            <p:spPr>
              <a:xfrm>
                <a:off x="1498680" y="4851360"/>
                <a:ext cx="15159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4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80"/>
              <p:cNvSpPr txBox="1"/>
              <p:nvPr/>
            </p:nvSpPr>
            <p:spPr>
              <a:xfrm>
                <a:off x="5567400" y="4965840"/>
                <a:ext cx="13572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81"/>
              <p:cNvSpPr txBox="1"/>
              <p:nvPr/>
            </p:nvSpPr>
            <p:spPr>
              <a:xfrm>
                <a:off x="1482840" y="5927760"/>
                <a:ext cx="13586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4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82"/>
              <p:cNvSpPr txBox="1"/>
              <p:nvPr/>
            </p:nvSpPr>
            <p:spPr>
              <a:xfrm>
                <a:off x="5767560" y="5915160"/>
                <a:ext cx="13525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5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404640" y="4681440"/>
            <a:ext cx="365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area under the curve is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611280" y="5967360"/>
            <a:ext cx="505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: the curve never intersects the x – axi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5030640" y="5904000"/>
            <a:ext cx="411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: the curve is always concave d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21"/>
          <p:cNvSpPr/>
          <p:nvPr/>
        </p:nvSpPr>
        <p:spPr>
          <a:xfrm>
            <a:off x="336600" y="4102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75"/>
          <p:cNvSpPr/>
          <p:nvPr/>
        </p:nvSpPr>
        <p:spPr>
          <a:xfrm>
            <a:off x="523800" y="0"/>
            <a:ext cx="5573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of the following is not true about a standard normal distrib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4699080" y="4618080"/>
            <a:ext cx="4444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curve has inflection points at x = 1 and x = 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446040" y="50292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.3691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: .63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 Box 16"/>
          <p:cNvSpPr/>
          <p:nvPr/>
        </p:nvSpPr>
        <p:spPr>
          <a:xfrm>
            <a:off x="5189400" y="496584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 .75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 Box 17"/>
          <p:cNvSpPr/>
          <p:nvPr/>
        </p:nvSpPr>
        <p:spPr>
          <a:xfrm>
            <a:off x="5073480" y="601992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: 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17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76"/>
          <p:cNvSpPr/>
          <p:nvPr/>
        </p:nvSpPr>
        <p:spPr>
          <a:xfrm>
            <a:off x="0" y="0"/>
            <a:ext cx="66499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stimate the given probabilit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(-1.5 &lt; z &lt; -.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9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76"/>
          <p:cNvSpPr/>
          <p:nvPr/>
        </p:nvSpPr>
        <p:spPr>
          <a:xfrm>
            <a:off x="0" y="0"/>
            <a:ext cx="66499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158 and </a:t>
            </a: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5 for a binomial probability distribution, determine 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1062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163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186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996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 Box 76"/>
          <p:cNvSpPr/>
          <p:nvPr/>
        </p:nvSpPr>
        <p:spPr>
          <a:xfrm>
            <a:off x="0" y="507960"/>
            <a:ext cx="659304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ppose the 90% confidence interval for the lifetime of the rechargeable battery in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llular phone is 4 hr ±1 hr. What is the probability that the cellular phone can be used for more than 5 hours without recharging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 Box 76"/>
          <p:cNvSpPr/>
          <p:nvPr/>
        </p:nvSpPr>
        <p:spPr>
          <a:xfrm>
            <a:off x="0" y="307800"/>
            <a:ext cx="66517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 coin is tossed 15 times and comes up heads 13 tim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a null and alternative hypothesis for testing whether the coin is fa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4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5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 Box 76"/>
          <p:cNvSpPr/>
          <p:nvPr/>
        </p:nvSpPr>
        <p:spPr>
          <a:xfrm>
            <a:off x="0" y="0"/>
            <a:ext cx="7507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oin is tossed 15 times and comes up heads 13 time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the coin be considered fair at the .01 significance level? Justify your answ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 Box 76"/>
          <p:cNvSpPr/>
          <p:nvPr/>
        </p:nvSpPr>
        <p:spPr>
          <a:xfrm>
            <a:off x="0" y="0"/>
            <a:ext cx="6719760" cy="69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1997 SAT I test was administered to 1,127,021 students.  The composite scores were approximately normally distributed with a mean of 1,016 and a standard deviation of 20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timate the number of students who sco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,400 or abov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3:53:37Z</dcterms:created>
  <dc:creator>Laura Helbing</dc:creator>
  <dc:description/>
  <dc:language>en-US</dc:language>
  <cp:lastModifiedBy>Laura Helbing</cp:lastModifiedBy>
  <dcterms:modified xsi:type="dcterms:W3CDTF">2011-05-18T14:19:48Z</dcterms:modified>
  <cp:revision>2</cp:revision>
  <dc:subject/>
  <dc:title>Slide 1</dc:title>
</cp:coreProperties>
</file>