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E8AD-8D17-496E-90EF-FB70662BA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CB3C-FCEE-4791-ACE2-0A2C1F0EF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492-EA1E-4227-B78E-30F79EAA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5B3-9457-4DDB-A14B-AF02F661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860-A106-4657-BF5C-6B643E82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104-7AE0-432D-A0CE-23C14222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3E0-3F20-4D9F-A317-DF96625C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725-C17E-4A72-BDB3-BB1B208E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A12-842E-485A-B6B7-C070E5E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39A-0330-4BA7-92E4-65E82632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96D-77BC-40ED-90A9-A64D2282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B1B-556E-4F33-A16D-2936DE36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93E-717D-4786-B717-C7D8BAB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62E-BA67-4A11-95B5-F0C5D59C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73C8-D12C-4FBD-BA1B-B7665FC79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49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57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65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74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82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91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99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07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66"/>
          <p:cNvSpPr/>
          <p:nvPr/>
        </p:nvSpPr>
        <p:spPr>
          <a:xfrm>
            <a:off x="0" y="258840"/>
            <a:ext cx="7464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 to previous questi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ose you were to randomly sample 100 of the SAT I test takers. What is the probability that the mean score of y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is less than 1,000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66"/>
          <p:cNvSpPr/>
          <p:nvPr/>
        </p:nvSpPr>
        <p:spPr>
          <a:xfrm>
            <a:off x="0" y="0"/>
            <a:ext cx="651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nsider a test with 50 multiple-choi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questions, each with 5 options. If stud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uess randomly on the test, what is th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xpected mean and standard devia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58"/>
          <p:cNvSpPr/>
          <p:nvPr/>
        </p:nvSpPr>
        <p:spPr>
          <a:xfrm>
            <a:off x="482760" y="0"/>
            <a:ext cx="6208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ive a chart and then a histogram of the binomial probability distribution for the number of times a two appears when a fair six-sided die is tossed 5 tim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66"/>
          <p:cNvSpPr/>
          <p:nvPr/>
        </p:nvSpPr>
        <p:spPr>
          <a:xfrm>
            <a:off x="0" y="0"/>
            <a:ext cx="6632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graph below represents a normal probability distribution with mean 25 and standard deviation 2.5.  Estimate the area of the shaded re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86" descr=""/>
          <p:cNvPicPr/>
          <p:nvPr/>
        </p:nvPicPr>
        <p:blipFill>
          <a:blip r:embed="rId3"/>
          <a:srcRect l="24079" t="25001" r="60070" b="55336"/>
          <a:stretch/>
        </p:blipFill>
        <p:spPr>
          <a:xfrm>
            <a:off x="0" y="2487600"/>
            <a:ext cx="56358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4"/>
          <p:cNvSpPr/>
          <p:nvPr/>
        </p:nvSpPr>
        <p:spPr>
          <a:xfrm>
            <a:off x="0" y="0"/>
            <a:ext cx="703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random sample of 175 salaries was taken from a certain population of teachers’ salaries. The mean of the sample was found to be $37,250 and the standard deviation was $4,30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suming the standard deviation of the sample is the same as that for the entire population, find the 95% confidence interval for the mean salary of the population of teach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523800" y="0"/>
            <a:ext cx="55738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imate the given probabil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z &gt; 1.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Object 79"/>
              <p:cNvSpPr txBox="1"/>
              <p:nvPr/>
            </p:nvSpPr>
            <p:spPr>
              <a:xfrm>
                <a:off x="1498680" y="4851360"/>
                <a:ext cx="1515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0"/>
              <p:cNvSpPr txBox="1"/>
              <p:nvPr/>
            </p:nvSpPr>
            <p:spPr>
              <a:xfrm>
                <a:off x="5567400" y="4965840"/>
                <a:ext cx="13572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1"/>
              <p:cNvSpPr txBox="1"/>
              <p:nvPr/>
            </p:nvSpPr>
            <p:spPr>
              <a:xfrm>
                <a:off x="1482840" y="5927760"/>
                <a:ext cx="1358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2"/>
              <p:cNvSpPr txBox="1"/>
              <p:nvPr/>
            </p:nvSpPr>
            <p:spPr>
              <a:xfrm>
                <a:off x="5767560" y="5915160"/>
                <a:ext cx="1352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04640" y="4681440"/>
            <a:ext cx="365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area under the curve is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11280" y="5967360"/>
            <a:ext cx="50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: the curve never intersects the x – ax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5030640" y="5904000"/>
            <a:ext cx="411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: the curve is always concave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5"/>
          <p:cNvSpPr/>
          <p:nvPr/>
        </p:nvSpPr>
        <p:spPr>
          <a:xfrm>
            <a:off x="523800" y="0"/>
            <a:ext cx="557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of the following is not true about a standard normal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4699080" y="4618080"/>
            <a:ext cx="4444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urve has inflection points at x = 1 and x =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.369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 .63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.75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073480" y="601992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1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e the given probabil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(-1.5 &lt; z &lt; -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158 and 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5 for a binomial probability distribution, determine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062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163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18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9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76"/>
          <p:cNvSpPr/>
          <p:nvPr/>
        </p:nvSpPr>
        <p:spPr>
          <a:xfrm>
            <a:off x="0" y="507960"/>
            <a:ext cx="659304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se the 90% confidence interval for the lifetime of the rechargeable battery i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ular phone is 4 hr ±1 hr. What is the probability that the cellular phone can be used for more than 5 hours without recharg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76"/>
          <p:cNvSpPr/>
          <p:nvPr/>
        </p:nvSpPr>
        <p:spPr>
          <a:xfrm>
            <a:off x="0" y="307800"/>
            <a:ext cx="6651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coin is tossed 15 times and comes up heads 13 tim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a null and alternative hypothesis for testing whether the coin is 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76"/>
          <p:cNvSpPr/>
          <p:nvPr/>
        </p:nvSpPr>
        <p:spPr>
          <a:xfrm>
            <a:off x="0" y="0"/>
            <a:ext cx="750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in is tossed 15 times and comes up heads 13 tim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the coin be considered fair at the .01 significance level? Justify your answ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76"/>
          <p:cNvSpPr/>
          <p:nvPr/>
        </p:nvSpPr>
        <p:spPr>
          <a:xfrm>
            <a:off x="0" y="0"/>
            <a:ext cx="671976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1997 SAT I test was administered to 1,127,021 students.  The composite scores were approximately normally distributed with a mean of 1,016 and a standard deviation of 2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imate the number of students who sco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400 or abov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3:53:37Z</dcterms:created>
  <dc:creator>Laura Helbing</dc:creator>
  <dc:description/>
  <dc:language>en-US</dc:language>
  <cp:lastModifiedBy>Laura Helbing</cp:lastModifiedBy>
  <dcterms:modified xsi:type="dcterms:W3CDTF">2011-05-18T14:19:48Z</dcterms:modified>
  <cp:revision>2</cp:revision>
  <dc:subject/>
  <dc:title>Slide 1</dc:title>
</cp:coreProperties>
</file>