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9CEA-C2F4-467F-9E08-E7136C566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089A-7B53-49B6-9393-B68C7E40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216-A634-45CF-8BBE-83162B6B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499-6767-48C5-A363-13578833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54E-E2AB-4766-9A57-9F7EC5D5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215-2C06-4828-A241-B43CA122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F1FC-9B85-4077-A9E5-850D8900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09A2-D63F-4202-874A-C21592A7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1958-008D-43EE-B497-183EFD52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1E4C-9C05-493A-9A01-7B33B37D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093A-3807-48A7-8D98-7255AF26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337-01C7-46E0-A295-B6763F4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667B-86E9-4DA5-8554-41FC3B4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4337-2BB7-4B22-BBFB-D86F5B9D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31F5-8A8A-47E0-946F-794592AB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F2F9-A274-4ABE-ADBC-0E259B79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0C5F-F801-4775-BF40-2F0C211E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31AE-8A22-4EBB-AD5D-97635E84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2B70-BE6D-4024-8D58-07A6ADB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99A-8FB8-49BF-A68F-9EF77620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AA0-8D90-46F4-B331-0400468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96DF-131A-4951-BF92-6635804F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4BE-218B-4B64-89F8-8F781B01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45E-2D61-4746-986D-5898DF8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853-C899-4B87-AAEB-5C5BE28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335-B946-4203-9B50-4EC7E99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141-ADF8-4EFB-A0DE-57B040AC8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0860-8201-40E4-A473-03BD28BC792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28600" y="990720"/>
            <a:ext cx="8229600" cy="4800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Grap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–2, 3)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28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047760" cy="16905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9"/>
          <p:cNvSpPr/>
          <p:nvPr/>
        </p:nvSpPr>
        <p:spPr>
          <a:xfrm>
            <a:off x="10440" y="2438280"/>
            <a:ext cx="2363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0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3200400" cy="834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222120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22000" y="3962520"/>
            <a:ext cx="65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ind the coordinate of the midpoint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34"/>
          <p:cNvSpPr/>
          <p:nvPr/>
        </p:nvSpPr>
        <p:spPr>
          <a:xfrm>
            <a:off x="6705720" y="39625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7576200" y="3967200"/>
            <a:ext cx="5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22860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implif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37" descr="1"/>
          <p:cNvPicPr/>
          <p:nvPr/>
        </p:nvPicPr>
        <p:blipFill>
          <a:blip r:embed="rId3"/>
          <a:stretch/>
        </p:blipFill>
        <p:spPr>
          <a:xfrm>
            <a:off x="2209680" y="4572000"/>
            <a:ext cx="1609920" cy="6285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8"/>
          <p:cNvSpPr/>
          <p:nvPr/>
        </p:nvSpPr>
        <p:spPr>
          <a:xfrm>
            <a:off x="773640" y="5257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2, 7) and (14, 9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)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(-5, 8) and (2, - 4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1600200" y="3429000"/>
          <a:ext cx="408456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408456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8"/>
          <p:cNvGraphicFramePr/>
          <p:nvPr/>
        </p:nvGraphicFramePr>
        <p:xfrm>
          <a:off x="1735200" y="5448240"/>
          <a:ext cx="3979800" cy="14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5200" y="5448240"/>
                    <a:ext cx="39798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3" descr="Screen Shot 2016-01-20 at 10.00.33 AM.png"/>
          <p:cNvPicPr/>
          <p:nvPr/>
        </p:nvPicPr>
        <p:blipFill>
          <a:blip r:embed="rId1"/>
          <a:stretch/>
        </p:blipFill>
        <p:spPr>
          <a:xfrm>
            <a:off x="0" y="1254240"/>
            <a:ext cx="87501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Screen Shot 2016-01-20 at 10.00.55 AM.png"/>
          <p:cNvPicPr/>
          <p:nvPr/>
        </p:nvPicPr>
        <p:blipFill>
          <a:blip r:embed="rId1"/>
          <a:stretch/>
        </p:blipFill>
        <p:spPr>
          <a:xfrm>
            <a:off x="0" y="304920"/>
            <a:ext cx="8420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The Distance and Midpoint Formul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8.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Distance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distance between two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7" name="Object 10"/>
          <p:cNvGraphicFramePr/>
          <p:nvPr/>
        </p:nvGraphicFramePr>
        <p:xfrm>
          <a:off x="762120" y="3110040"/>
          <a:ext cx="7696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10040"/>
                    <a:ext cx="7696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distance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Object 6"/>
          <p:cNvGraphicFramePr/>
          <p:nvPr/>
        </p:nvGraphicFramePr>
        <p:xfrm>
          <a:off x="990720" y="3505320"/>
          <a:ext cx="617220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505320"/>
                    <a:ext cx="61722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2057400" y="251460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495680" y="251460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3657600" y="2971800"/>
            <a:ext cx="1447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819520" y="2971800"/>
            <a:ext cx="1523880" cy="8380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5333760" y="2971800"/>
            <a:ext cx="22860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3429000" y="2971800"/>
            <a:ext cx="2590920" cy="7621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16"/>
          <p:cNvGraphicFramePr/>
          <p:nvPr/>
        </p:nvGraphicFramePr>
        <p:xfrm>
          <a:off x="1000080" y="4309920"/>
          <a:ext cx="5857920" cy="8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309920"/>
                    <a:ext cx="58579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8"/>
          <p:cNvGraphicFramePr/>
          <p:nvPr/>
        </p:nvGraphicFramePr>
        <p:xfrm>
          <a:off x="1066680" y="5148360"/>
          <a:ext cx="474984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148360"/>
                    <a:ext cx="474984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9"/>
          <p:cNvGraphicFramePr/>
          <p:nvPr/>
        </p:nvGraphicFramePr>
        <p:xfrm>
          <a:off x="990720" y="5989680"/>
          <a:ext cx="5265720" cy="71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989680"/>
                    <a:ext cx="526572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0"/>
          <p:cNvGraphicFramePr/>
          <p:nvPr/>
        </p:nvGraphicFramePr>
        <p:xfrm>
          <a:off x="6324480" y="6019920"/>
          <a:ext cx="474840" cy="71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6019920"/>
                    <a:ext cx="4748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YOU TRY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20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the distance betwe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. (2, 7) and (11, 9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. (-5, 8) and (2, - 4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2057400" y="3200400"/>
          <a:ext cx="441972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00400"/>
                    <a:ext cx="4419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9"/>
          <p:cNvGraphicFramePr/>
          <p:nvPr/>
        </p:nvGraphicFramePr>
        <p:xfrm>
          <a:off x="2209680" y="5487840"/>
          <a:ext cx="411480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487840"/>
                    <a:ext cx="41148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Midpoint Formu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find the center of a li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066680" y="2819520"/>
          <a:ext cx="62485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2485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the midpoint between A(4,8) and B(1,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143000" y="3156120"/>
          <a:ext cx="4551480" cy="103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56120"/>
                    <a:ext cx="45514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5"/>
          <p:cNvSpPr/>
          <p:nvPr/>
        </p:nvSpPr>
        <p:spPr>
          <a:xfrm>
            <a:off x="2057400" y="23623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A (4, 8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495680" y="2362320"/>
            <a:ext cx="190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B (1, 12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 flipH="1">
            <a:off x="3352320" y="2819520"/>
            <a:ext cx="17528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2819520" y="2819520"/>
            <a:ext cx="1066680" cy="5331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H="1">
            <a:off x="4572000" y="2743200"/>
            <a:ext cx="990720" cy="609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3429000" y="2819520"/>
            <a:ext cx="17524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Object 16"/>
          <p:cNvGraphicFramePr/>
          <p:nvPr/>
        </p:nvGraphicFramePr>
        <p:xfrm>
          <a:off x="1066680" y="4191120"/>
          <a:ext cx="449604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91120"/>
                    <a:ext cx="44960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18"/>
          <p:cNvGraphicFramePr/>
          <p:nvPr/>
        </p:nvGraphicFramePr>
        <p:xfrm>
          <a:off x="1066680" y="5649840"/>
          <a:ext cx="19335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649840"/>
                    <a:ext cx="1933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9"/>
          <p:cNvGraphicFramePr/>
          <p:nvPr/>
        </p:nvGraphicFramePr>
        <p:xfrm>
          <a:off x="3174840" y="5562720"/>
          <a:ext cx="1244880" cy="105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4840" y="5562720"/>
                    <a:ext cx="12448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7:22:58Z</dcterms:created>
  <dc:creator>Authorized User</dc:creator>
  <dc:description/>
  <dc:language>en-US</dc:language>
  <cp:lastModifiedBy>Wayne  Highlands</cp:lastModifiedBy>
  <dcterms:modified xsi:type="dcterms:W3CDTF">2016-01-20T17:12:10Z</dcterms:modified>
  <cp:revision>15</cp:revision>
  <dc:subject/>
  <dc:title>The Distance and Midpoint Formulas</dc:title>
</cp:coreProperties>
</file>