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9E03-2EFC-464B-B420-95723759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95F0-07CA-4974-9F72-58FDE6C35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B99-4BA5-4A51-BA46-6F76BAC8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264-3495-4397-86FF-3BC21AB1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FBD-F73B-4C51-8318-7F779792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FEB-6BC0-4222-9DF0-C79E0373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A122-CA94-4FF1-9FD9-FFA2BC44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48A5-BEC7-413E-A2F6-5D133834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2F20-5377-4EA3-BC18-69FE434C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0E0A-CA4F-4F9C-9E39-5E32DD34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0855-9390-4DF3-B652-52BCD4F4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AC6C-3958-4A8A-B735-5266C150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D7A8-193E-4772-BA12-F027551D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AD1-4F77-480F-BDFD-31E9ECE5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7853-4088-42DC-832B-48ACD806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DB7B-8897-49BE-B208-ECD5718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F192-6FF4-454B-8171-8929528E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919-1113-442C-8674-CBABCB65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01AE-698D-4868-A936-A6B49C3E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106-8092-48C0-9629-62A3F7A0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C01-0810-4404-824B-AFC07E5B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CBC-B768-4DD1-859B-45E73DB2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7CB-F1D1-421C-A0E7-A05601E2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087-9103-4E06-B40D-D6A16116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CE4-B9F3-45AB-ADF7-86FDC132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23E-3C08-45EF-81D9-3EABC751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370B-4279-43BB-BECD-CB8609FDA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F002-325C-4996-A822-2ECB784B8E6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28600" y="990720"/>
            <a:ext cx="8229600" cy="4800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3)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28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047760" cy="16905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9"/>
          <p:cNvSpPr/>
          <p:nvPr/>
        </p:nvSpPr>
        <p:spPr>
          <a:xfrm>
            <a:off x="10440" y="2438280"/>
            <a:ext cx="2363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0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3200400" cy="834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1"/>
          <p:cNvSpPr/>
          <p:nvPr/>
        </p:nvSpPr>
        <p:spPr>
          <a:xfrm>
            <a:off x="2221200" y="2590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522000" y="3962520"/>
            <a:ext cx="65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coordinate of the midpoint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34"/>
          <p:cNvSpPr/>
          <p:nvPr/>
        </p:nvSpPr>
        <p:spPr>
          <a:xfrm>
            <a:off x="6705720" y="39625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7576200" y="39672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228600" y="472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implif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37" descr="1"/>
          <p:cNvPicPr/>
          <p:nvPr/>
        </p:nvPicPr>
        <p:blipFill>
          <a:blip r:embed="rId3"/>
          <a:stretch/>
        </p:blipFill>
        <p:spPr>
          <a:xfrm>
            <a:off x="2209680" y="4572000"/>
            <a:ext cx="1609920" cy="628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8"/>
          <p:cNvSpPr/>
          <p:nvPr/>
        </p:nvSpPr>
        <p:spPr>
          <a:xfrm>
            <a:off x="773640" y="525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YOU TRY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midpoint betwe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(2, 7) and (14, 9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(-5, 8) and (2, - 4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1600200" y="3429000"/>
          <a:ext cx="408456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29000"/>
                    <a:ext cx="40845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8"/>
          <p:cNvGraphicFramePr/>
          <p:nvPr/>
        </p:nvGraphicFramePr>
        <p:xfrm>
          <a:off x="1735200" y="5448240"/>
          <a:ext cx="39798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5200" y="5448240"/>
                    <a:ext cx="39798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3" descr="Screen Shot 2016-01-20 at 10.00.33 AM.png"/>
          <p:cNvPicPr/>
          <p:nvPr/>
        </p:nvPicPr>
        <p:blipFill>
          <a:blip r:embed="rId1"/>
          <a:stretch/>
        </p:blipFill>
        <p:spPr>
          <a:xfrm>
            <a:off x="0" y="1254240"/>
            <a:ext cx="87501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Screen Shot 2016-01-20 at 10.00.55 AM.png"/>
          <p:cNvPicPr/>
          <p:nvPr/>
        </p:nvPicPr>
        <p:blipFill>
          <a:blip r:embed="rId1"/>
          <a:stretch/>
        </p:blipFill>
        <p:spPr>
          <a:xfrm>
            <a:off x="0" y="304920"/>
            <a:ext cx="8420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The Distance and Midpoint Formu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tion 8.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Distance Formu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find the distance between two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Object 10"/>
          <p:cNvGraphicFramePr/>
          <p:nvPr/>
        </p:nvGraphicFramePr>
        <p:xfrm>
          <a:off x="762120" y="3110040"/>
          <a:ext cx="769608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110040"/>
                    <a:ext cx="7696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distance between A(4,8) and B(1,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990720" y="3505320"/>
          <a:ext cx="61722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05320"/>
                    <a:ext cx="6172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2057400" y="2514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(4, 8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95680" y="251460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 (1, 12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3657600" y="29718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2819520" y="2971800"/>
            <a:ext cx="152388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2"/>
          <p:cNvSpPr/>
          <p:nvPr/>
        </p:nvSpPr>
        <p:spPr>
          <a:xfrm flipH="1">
            <a:off x="5333760" y="2971800"/>
            <a:ext cx="22860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429000" y="2971800"/>
            <a:ext cx="2590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Object 16"/>
          <p:cNvGraphicFramePr/>
          <p:nvPr/>
        </p:nvGraphicFramePr>
        <p:xfrm>
          <a:off x="1000080" y="4309920"/>
          <a:ext cx="585792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309920"/>
                    <a:ext cx="585792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8"/>
          <p:cNvGraphicFramePr/>
          <p:nvPr/>
        </p:nvGraphicFramePr>
        <p:xfrm>
          <a:off x="1066680" y="5148360"/>
          <a:ext cx="474984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148360"/>
                    <a:ext cx="4749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9"/>
          <p:cNvGraphicFramePr/>
          <p:nvPr/>
        </p:nvGraphicFramePr>
        <p:xfrm>
          <a:off x="990720" y="5989680"/>
          <a:ext cx="5265720" cy="71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989680"/>
                    <a:ext cx="52657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0"/>
          <p:cNvGraphicFramePr/>
          <p:nvPr/>
        </p:nvGraphicFramePr>
        <p:xfrm>
          <a:off x="6324480" y="6019920"/>
          <a:ext cx="474840" cy="71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24480" y="6019920"/>
                    <a:ext cx="4748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YOU TRY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20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the distance betwe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. (2, 7) and (11, 9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. (-5, 8) and (2, - 4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2057400" y="3200400"/>
          <a:ext cx="4419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00400"/>
                    <a:ext cx="4419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9"/>
          <p:cNvGraphicFramePr/>
          <p:nvPr/>
        </p:nvGraphicFramePr>
        <p:xfrm>
          <a:off x="2209680" y="5487840"/>
          <a:ext cx="411480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487840"/>
                    <a:ext cx="41148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Midpoint Formu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find the center of a li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066680" y="2819520"/>
          <a:ext cx="624852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62485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midpoint between A(4,8) and B(1,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143000" y="3156120"/>
          <a:ext cx="455148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56120"/>
                    <a:ext cx="4551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057400" y="23623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(4, 8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495680" y="2362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 (1, 12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3352320" y="2819520"/>
            <a:ext cx="17528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2819520" y="2819520"/>
            <a:ext cx="106668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4572000" y="2743200"/>
            <a:ext cx="990720" cy="609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3429000" y="2819520"/>
            <a:ext cx="17524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Object 16"/>
          <p:cNvGraphicFramePr/>
          <p:nvPr/>
        </p:nvGraphicFramePr>
        <p:xfrm>
          <a:off x="1066680" y="4191120"/>
          <a:ext cx="449604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191120"/>
                    <a:ext cx="44960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8"/>
          <p:cNvGraphicFramePr/>
          <p:nvPr/>
        </p:nvGraphicFramePr>
        <p:xfrm>
          <a:off x="1066680" y="5649840"/>
          <a:ext cx="19335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649840"/>
                    <a:ext cx="19335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9"/>
          <p:cNvGraphicFramePr/>
          <p:nvPr/>
        </p:nvGraphicFramePr>
        <p:xfrm>
          <a:off x="3174840" y="5562720"/>
          <a:ext cx="1244880" cy="105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4840" y="5562720"/>
                    <a:ext cx="12448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7:22:58Z</dcterms:created>
  <dc:creator>Authorized User</dc:creator>
  <dc:description/>
  <dc:language>en-US</dc:language>
  <cp:lastModifiedBy>Wayne  Highlands</cp:lastModifiedBy>
  <dcterms:modified xsi:type="dcterms:W3CDTF">2016-01-20T17:12:10Z</dcterms:modified>
  <cp:revision>15</cp:revision>
  <dc:subject/>
  <dc:title>The Distance and Midpoint Formulas</dc:title>
</cp:coreProperties>
</file>