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26CE-6BEF-488B-B3A3-984DD5382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0B73-E477-4E7E-9DC7-DA367519B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4AD3-69B3-47C2-910E-FBF4A3ED7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A2C3-23C1-4B2E-A252-78BCA205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3F75-950E-4C01-915C-E156AB450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71BD-23DE-496A-8805-33D9DD8F7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B70A-CBF9-4A1D-9F26-9279F6D39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A578-A0AF-45ED-BEDD-F7F4E624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1B02-CF57-4574-BEEE-5BF495D9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81A8-BB15-4F83-AEA2-105B70AE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FB8A-36DF-4C44-884A-6D527D90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016C-6829-49CD-87B3-38008CD8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9E012-1AFA-4E8C-ABC2-A61ACAC4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0782-C2E2-4B19-875A-EA78F68D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6DB1-2F05-483F-8965-2F615290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4EBB4-01B2-43E8-A36B-67EB1103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9C00-1FEC-4626-B159-930D47E4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9B61-77B6-4BB0-BDDB-D9C75AD5F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1DB11-095C-467E-8D3A-C8BFB68E7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8943-D15A-4537-9FFE-85221009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1962-EC3A-4826-9F1E-A51BDF12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23DF-B71A-4B5D-90CB-FD1F31A9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4CC0-EF57-4D3F-ABD0-7859393B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16AC-1DE6-4E2C-9187-97141B03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67BB-3547-40ED-AF2C-CA1E2603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999F-A2C3-48B8-B43A-1F2A7B89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B788-ADFF-4C51-9725-C08F11562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2392-E6DB-4A02-9E82-24F6FEFACE75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228600" y="990720"/>
            <a:ext cx="8229600" cy="48006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Graph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2, 3)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, 0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28" descr=""/>
          <p:cNvPicPr/>
          <p:nvPr/>
        </p:nvPicPr>
        <p:blipFill>
          <a:blip r:embed="rId1"/>
          <a:stretch/>
        </p:blipFill>
        <p:spPr>
          <a:xfrm>
            <a:off x="5334120" y="1371600"/>
            <a:ext cx="3047760" cy="16905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29"/>
          <p:cNvSpPr/>
          <p:nvPr/>
        </p:nvSpPr>
        <p:spPr>
          <a:xfrm>
            <a:off x="10440" y="2438280"/>
            <a:ext cx="2363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i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30" descr=""/>
          <p:cNvPicPr/>
          <p:nvPr/>
        </p:nvPicPr>
        <p:blipFill>
          <a:blip r:embed="rId2"/>
          <a:stretch/>
        </p:blipFill>
        <p:spPr>
          <a:xfrm>
            <a:off x="685800" y="3048120"/>
            <a:ext cx="3200400" cy="8348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1"/>
          <p:cNvSpPr/>
          <p:nvPr/>
        </p:nvSpPr>
        <p:spPr>
          <a:xfrm>
            <a:off x="2221200" y="2590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33"/>
          <p:cNvSpPr/>
          <p:nvPr/>
        </p:nvSpPr>
        <p:spPr>
          <a:xfrm>
            <a:off x="522000" y="3962520"/>
            <a:ext cx="65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ind the coordinate of the midpoint o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Line 34"/>
          <p:cNvSpPr/>
          <p:nvPr/>
        </p:nvSpPr>
        <p:spPr>
          <a:xfrm>
            <a:off x="6705720" y="396252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35"/>
          <p:cNvSpPr/>
          <p:nvPr/>
        </p:nvSpPr>
        <p:spPr>
          <a:xfrm>
            <a:off x="7576200" y="3967200"/>
            <a:ext cx="5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 Box 36"/>
          <p:cNvSpPr/>
          <p:nvPr/>
        </p:nvSpPr>
        <p:spPr>
          <a:xfrm>
            <a:off x="228600" y="47242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implif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37" descr="1"/>
          <p:cNvPicPr/>
          <p:nvPr/>
        </p:nvPicPr>
        <p:blipFill>
          <a:blip r:embed="rId3"/>
          <a:stretch/>
        </p:blipFill>
        <p:spPr>
          <a:xfrm>
            <a:off x="2209680" y="4572000"/>
            <a:ext cx="1609920" cy="6285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8"/>
          <p:cNvSpPr/>
          <p:nvPr/>
        </p:nvSpPr>
        <p:spPr>
          <a:xfrm>
            <a:off x="773640" y="5257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ahoma"/>
              </a:rPr>
              <a:t>YOU TRY!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0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the midpoint betwe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) 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(2, 7) and (14, 9)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) 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(-5, 8) and (2, - 4)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5" name="Object 4"/>
          <p:cNvGraphicFramePr/>
          <p:nvPr/>
        </p:nvGraphicFramePr>
        <p:xfrm>
          <a:off x="1600200" y="3429000"/>
          <a:ext cx="4084560" cy="9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429000"/>
                    <a:ext cx="408456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8"/>
          <p:cNvGraphicFramePr/>
          <p:nvPr/>
        </p:nvGraphicFramePr>
        <p:xfrm>
          <a:off x="1735200" y="5448240"/>
          <a:ext cx="3979800" cy="140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35200" y="5448240"/>
                    <a:ext cx="397980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3" descr="Screen Shot 2016-01-20 at 10.00.33 AM.png"/>
          <p:cNvPicPr/>
          <p:nvPr/>
        </p:nvPicPr>
        <p:blipFill>
          <a:blip r:embed="rId1"/>
          <a:stretch/>
        </p:blipFill>
        <p:spPr>
          <a:xfrm>
            <a:off x="0" y="1254240"/>
            <a:ext cx="875016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3" descr="Screen Shot 2016-01-20 at 10.00.55 AM.png"/>
          <p:cNvPicPr/>
          <p:nvPr/>
        </p:nvPicPr>
        <p:blipFill>
          <a:blip r:embed="rId1"/>
          <a:stretch/>
        </p:blipFill>
        <p:spPr>
          <a:xfrm>
            <a:off x="0" y="304920"/>
            <a:ext cx="84200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17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ahoma"/>
              </a:rPr>
              <a:t>The Distance and Midpoint Formul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tion 8.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ahoma"/>
              </a:rPr>
              <a:t>Distance Formul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0178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find the distance between two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7" name="Object 10"/>
          <p:cNvGraphicFramePr/>
          <p:nvPr/>
        </p:nvGraphicFramePr>
        <p:xfrm>
          <a:off x="762120" y="3110040"/>
          <a:ext cx="769608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110040"/>
                    <a:ext cx="769608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ahoma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the distance between A(4,8) and B(1,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1" name="Object 6"/>
          <p:cNvGraphicFramePr/>
          <p:nvPr/>
        </p:nvGraphicFramePr>
        <p:xfrm>
          <a:off x="990720" y="3505320"/>
          <a:ext cx="6172200" cy="86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505320"/>
                    <a:ext cx="617220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Text Box 4"/>
          <p:cNvSpPr/>
          <p:nvPr/>
        </p:nvSpPr>
        <p:spPr>
          <a:xfrm>
            <a:off x="2057400" y="251460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A (4, 8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495680" y="2514600"/>
            <a:ext cx="190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B (1, 12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Line 10"/>
          <p:cNvSpPr/>
          <p:nvPr/>
        </p:nvSpPr>
        <p:spPr>
          <a:xfrm flipH="1">
            <a:off x="3657600" y="2971800"/>
            <a:ext cx="1447920" cy="7621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Line 11"/>
          <p:cNvSpPr/>
          <p:nvPr/>
        </p:nvSpPr>
        <p:spPr>
          <a:xfrm>
            <a:off x="2819520" y="2971800"/>
            <a:ext cx="1523880" cy="8380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12"/>
          <p:cNvSpPr/>
          <p:nvPr/>
        </p:nvSpPr>
        <p:spPr>
          <a:xfrm flipH="1">
            <a:off x="5333760" y="2971800"/>
            <a:ext cx="228600" cy="7621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Line 13"/>
          <p:cNvSpPr/>
          <p:nvPr/>
        </p:nvSpPr>
        <p:spPr>
          <a:xfrm>
            <a:off x="3429000" y="2971800"/>
            <a:ext cx="2590920" cy="7621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9" name="Object 16"/>
          <p:cNvGraphicFramePr/>
          <p:nvPr/>
        </p:nvGraphicFramePr>
        <p:xfrm>
          <a:off x="1000080" y="4309920"/>
          <a:ext cx="5857920" cy="87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080" y="4309920"/>
                    <a:ext cx="585792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18"/>
          <p:cNvGraphicFramePr/>
          <p:nvPr/>
        </p:nvGraphicFramePr>
        <p:xfrm>
          <a:off x="1066680" y="5148360"/>
          <a:ext cx="4749840" cy="871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5148360"/>
                    <a:ext cx="474984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19"/>
          <p:cNvGraphicFramePr/>
          <p:nvPr/>
        </p:nvGraphicFramePr>
        <p:xfrm>
          <a:off x="990720" y="5989680"/>
          <a:ext cx="5265720" cy="712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4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5989680"/>
                    <a:ext cx="526572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20"/>
          <p:cNvGraphicFramePr/>
          <p:nvPr/>
        </p:nvGraphicFramePr>
        <p:xfrm>
          <a:off x="6324480" y="6019920"/>
          <a:ext cx="474840" cy="712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6" name="Object 2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324480" y="6019920"/>
                    <a:ext cx="47484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5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ahoma"/>
              </a:rPr>
              <a:t>YOU TRY!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20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the distance betwe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A. (2, 7) and (11, 9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B. (-5, 8) and (2, - 4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9" name="Object 5"/>
          <p:cNvGraphicFramePr/>
          <p:nvPr/>
        </p:nvGraphicFramePr>
        <p:xfrm>
          <a:off x="2057400" y="3200400"/>
          <a:ext cx="4419720" cy="10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200400"/>
                    <a:ext cx="441972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9"/>
          <p:cNvGraphicFramePr/>
          <p:nvPr/>
        </p:nvGraphicFramePr>
        <p:xfrm>
          <a:off x="2209680" y="5487840"/>
          <a:ext cx="4114800" cy="80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5487840"/>
                    <a:ext cx="411480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ahoma"/>
              </a:rPr>
              <a:t>Midpoint Formul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find the center of a li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Object 4"/>
          <p:cNvGraphicFramePr/>
          <p:nvPr/>
        </p:nvGraphicFramePr>
        <p:xfrm>
          <a:off x="1066680" y="2819520"/>
          <a:ext cx="6248520" cy="14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19520"/>
                    <a:ext cx="6248520" cy="14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ahoma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the midpoint between A(4,8) and B(1,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9" name="Object 4"/>
          <p:cNvGraphicFramePr/>
          <p:nvPr/>
        </p:nvGraphicFramePr>
        <p:xfrm>
          <a:off x="1143000" y="3156120"/>
          <a:ext cx="4551480" cy="103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156120"/>
                    <a:ext cx="455148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Text Box 5"/>
          <p:cNvSpPr/>
          <p:nvPr/>
        </p:nvSpPr>
        <p:spPr>
          <a:xfrm>
            <a:off x="2057400" y="23623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A (4, 8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4495680" y="2362320"/>
            <a:ext cx="190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B (1, 12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Line 7"/>
          <p:cNvSpPr/>
          <p:nvPr/>
        </p:nvSpPr>
        <p:spPr>
          <a:xfrm flipH="1">
            <a:off x="3352320" y="2819520"/>
            <a:ext cx="175284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8"/>
          <p:cNvSpPr/>
          <p:nvPr/>
        </p:nvSpPr>
        <p:spPr>
          <a:xfrm>
            <a:off x="2819520" y="2819520"/>
            <a:ext cx="1066680" cy="5331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Line 9"/>
          <p:cNvSpPr/>
          <p:nvPr/>
        </p:nvSpPr>
        <p:spPr>
          <a:xfrm flipH="1">
            <a:off x="4572000" y="2743200"/>
            <a:ext cx="990720" cy="6094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Line 10"/>
          <p:cNvSpPr/>
          <p:nvPr/>
        </p:nvSpPr>
        <p:spPr>
          <a:xfrm>
            <a:off x="3429000" y="2819520"/>
            <a:ext cx="175248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7" name="Object 16"/>
          <p:cNvGraphicFramePr/>
          <p:nvPr/>
        </p:nvGraphicFramePr>
        <p:xfrm>
          <a:off x="1066680" y="4191120"/>
          <a:ext cx="4496040" cy="119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191120"/>
                    <a:ext cx="44960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18"/>
          <p:cNvGraphicFramePr/>
          <p:nvPr/>
        </p:nvGraphicFramePr>
        <p:xfrm>
          <a:off x="1066680" y="5649840"/>
          <a:ext cx="1933560" cy="54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5649840"/>
                    <a:ext cx="193356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19"/>
          <p:cNvGraphicFramePr/>
          <p:nvPr/>
        </p:nvGraphicFramePr>
        <p:xfrm>
          <a:off x="3174840" y="5562720"/>
          <a:ext cx="1244880" cy="1057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2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4840" y="5562720"/>
                    <a:ext cx="124488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8" dur="5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31T17:22:58Z</dcterms:created>
  <dc:creator>Authorized User</dc:creator>
  <dc:description/>
  <dc:language>en-US</dc:language>
  <cp:lastModifiedBy>Wayne  Highlands</cp:lastModifiedBy>
  <dcterms:modified xsi:type="dcterms:W3CDTF">2016-01-20T17:12:10Z</dcterms:modified>
  <cp:revision>15</cp:revision>
  <dc:subject/>
  <dc:title>The Distance and Midpoint Formulas</dc:title>
</cp:coreProperties>
</file>