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DFB3-717F-4BF4-8863-A072635D6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005F-2E4F-41BB-BB62-D0FC1B949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EA21-0732-48B7-BD82-8A03D013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140-B487-4BED-B6B4-26ACF979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085-0734-4F9A-B635-B9349527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0FC-7C1A-400F-AAAE-5DEC0EB8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28AE-B211-4022-B3A7-5AB27B4D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DEE4-C235-4292-B557-F47EC781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9FEC-A92F-44C2-8BCB-731CA4E2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35E1-64E4-4745-B9FA-E3918259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2E38-C9F1-4509-8EA5-AA8E1F7B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9E5A-2CFC-4718-8507-9B0CCC24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0514-7490-4625-BF48-C561C056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3C2-359E-4C50-B169-ECA96E9D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DBF9-9AB9-4644-A613-51FD4B0E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4052-A283-40BA-A218-1E2C3814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051E-41B5-44C2-A38B-D727B5B5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1FD5-5604-4D3F-B3E8-483EB147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1FA1-7519-45DD-8ACD-6429E618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405-FD11-4CC6-AB4B-45AD1534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332-9891-436C-B94F-C820A4FA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369-954B-4BBF-A5F7-55FD1A8A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F1A-F4E3-43DD-8306-762354EB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02A-D9A2-4CE2-986A-F0115F80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C05-45B7-4D7D-BE14-FCC971FE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2F8-E05E-4886-9311-918B9364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BBA4-0203-49FE-8C62-51358E913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C79C-DFC1-47CF-8E8A-0E5B8C8D294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28600" y="990720"/>
            <a:ext cx="8229600" cy="48006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rap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3)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28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047760" cy="16905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9"/>
          <p:cNvSpPr/>
          <p:nvPr/>
        </p:nvSpPr>
        <p:spPr>
          <a:xfrm>
            <a:off x="10440" y="2438280"/>
            <a:ext cx="2363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30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3200400" cy="834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1"/>
          <p:cNvSpPr/>
          <p:nvPr/>
        </p:nvSpPr>
        <p:spPr>
          <a:xfrm>
            <a:off x="2221200" y="2590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522000" y="3962520"/>
            <a:ext cx="65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coordinate of the midpoint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34"/>
          <p:cNvSpPr/>
          <p:nvPr/>
        </p:nvSpPr>
        <p:spPr>
          <a:xfrm>
            <a:off x="6705720" y="39625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7576200" y="396720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36"/>
          <p:cNvSpPr/>
          <p:nvPr/>
        </p:nvSpPr>
        <p:spPr>
          <a:xfrm>
            <a:off x="228600" y="4724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implif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37" descr="1"/>
          <p:cNvPicPr/>
          <p:nvPr/>
        </p:nvPicPr>
        <p:blipFill>
          <a:blip r:embed="rId3"/>
          <a:stretch/>
        </p:blipFill>
        <p:spPr>
          <a:xfrm>
            <a:off x="2209680" y="4572000"/>
            <a:ext cx="1609920" cy="6285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8"/>
          <p:cNvSpPr/>
          <p:nvPr/>
        </p:nvSpPr>
        <p:spPr>
          <a:xfrm>
            <a:off x="773640" y="525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YOU TRY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midpoint betwe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)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(2, 7) and (14, 9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)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(-5, 8) and (2, - 4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1600200" y="3429000"/>
          <a:ext cx="408456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429000"/>
                    <a:ext cx="408456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8"/>
          <p:cNvGraphicFramePr/>
          <p:nvPr/>
        </p:nvGraphicFramePr>
        <p:xfrm>
          <a:off x="1735200" y="5448240"/>
          <a:ext cx="3979800" cy="14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5200" y="5448240"/>
                    <a:ext cx="39798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3" descr="Screen Shot 2016-01-20 at 10.00.33 AM.png"/>
          <p:cNvPicPr/>
          <p:nvPr/>
        </p:nvPicPr>
        <p:blipFill>
          <a:blip r:embed="rId1"/>
          <a:stretch/>
        </p:blipFill>
        <p:spPr>
          <a:xfrm>
            <a:off x="0" y="1254240"/>
            <a:ext cx="87501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3" descr="Screen Shot 2016-01-20 at 10.00.55 AM.png"/>
          <p:cNvPicPr/>
          <p:nvPr/>
        </p:nvPicPr>
        <p:blipFill>
          <a:blip r:embed="rId1"/>
          <a:stretch/>
        </p:blipFill>
        <p:spPr>
          <a:xfrm>
            <a:off x="0" y="304920"/>
            <a:ext cx="8420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The Distance and Midpoint Formul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tion 8.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Distance Formu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17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find the distance between two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7" name="Object 10"/>
          <p:cNvGraphicFramePr/>
          <p:nvPr/>
        </p:nvGraphicFramePr>
        <p:xfrm>
          <a:off x="762120" y="3110040"/>
          <a:ext cx="769608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110040"/>
                    <a:ext cx="76960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distance between A(4,8) and B(1,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990720" y="3505320"/>
          <a:ext cx="617220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505320"/>
                    <a:ext cx="6172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2057400" y="25146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(4, 8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495680" y="251460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 (1, 12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3657600" y="2971800"/>
            <a:ext cx="144792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2819520" y="2971800"/>
            <a:ext cx="1523880" cy="838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12"/>
          <p:cNvSpPr/>
          <p:nvPr/>
        </p:nvSpPr>
        <p:spPr>
          <a:xfrm flipH="1">
            <a:off x="5333760" y="2971800"/>
            <a:ext cx="22860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429000" y="2971800"/>
            <a:ext cx="259092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9" name="Object 16"/>
          <p:cNvGraphicFramePr/>
          <p:nvPr/>
        </p:nvGraphicFramePr>
        <p:xfrm>
          <a:off x="1000080" y="4309920"/>
          <a:ext cx="585792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309920"/>
                    <a:ext cx="585792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8"/>
          <p:cNvGraphicFramePr/>
          <p:nvPr/>
        </p:nvGraphicFramePr>
        <p:xfrm>
          <a:off x="1066680" y="5148360"/>
          <a:ext cx="4749840" cy="87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148360"/>
                    <a:ext cx="47498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9"/>
          <p:cNvGraphicFramePr/>
          <p:nvPr/>
        </p:nvGraphicFramePr>
        <p:xfrm>
          <a:off x="990720" y="5989680"/>
          <a:ext cx="5265720" cy="71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989680"/>
                    <a:ext cx="52657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0"/>
          <p:cNvGraphicFramePr/>
          <p:nvPr/>
        </p:nvGraphicFramePr>
        <p:xfrm>
          <a:off x="6324480" y="6019920"/>
          <a:ext cx="474840" cy="71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24480" y="6019920"/>
                    <a:ext cx="4748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5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YOU TRY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20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the distance betwe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. (2, 7) and (11, 9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. (-5, 8) and (2, - 4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Object 5"/>
          <p:cNvGraphicFramePr/>
          <p:nvPr/>
        </p:nvGraphicFramePr>
        <p:xfrm>
          <a:off x="2057400" y="3200400"/>
          <a:ext cx="441972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200400"/>
                    <a:ext cx="44197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9"/>
          <p:cNvGraphicFramePr/>
          <p:nvPr/>
        </p:nvGraphicFramePr>
        <p:xfrm>
          <a:off x="2209680" y="5487840"/>
          <a:ext cx="411480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487840"/>
                    <a:ext cx="411480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Midpoint Formu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find the center of a li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1066680" y="2819520"/>
          <a:ext cx="6248520" cy="14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624852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midpoint between A(4,8) and B(1,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143000" y="3156120"/>
          <a:ext cx="455148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156120"/>
                    <a:ext cx="455148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5"/>
          <p:cNvSpPr/>
          <p:nvPr/>
        </p:nvSpPr>
        <p:spPr>
          <a:xfrm>
            <a:off x="2057400" y="23623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(4, 8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495680" y="23623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 (1, 12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 flipH="1">
            <a:off x="3352320" y="2819520"/>
            <a:ext cx="17528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2819520" y="2819520"/>
            <a:ext cx="1066680" cy="5331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4572000" y="2743200"/>
            <a:ext cx="990720" cy="6094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3429000" y="2819520"/>
            <a:ext cx="17524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7" name="Object 16"/>
          <p:cNvGraphicFramePr/>
          <p:nvPr/>
        </p:nvGraphicFramePr>
        <p:xfrm>
          <a:off x="1066680" y="4191120"/>
          <a:ext cx="4496040" cy="11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191120"/>
                    <a:ext cx="44960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8"/>
          <p:cNvGraphicFramePr/>
          <p:nvPr/>
        </p:nvGraphicFramePr>
        <p:xfrm>
          <a:off x="1066680" y="5649840"/>
          <a:ext cx="19335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649840"/>
                    <a:ext cx="19335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9"/>
          <p:cNvGraphicFramePr/>
          <p:nvPr/>
        </p:nvGraphicFramePr>
        <p:xfrm>
          <a:off x="3174840" y="5562720"/>
          <a:ext cx="1244880" cy="105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4840" y="5562720"/>
                    <a:ext cx="12448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17:22:58Z</dcterms:created>
  <dc:creator>Authorized User</dc:creator>
  <dc:description/>
  <dc:language>en-US</dc:language>
  <cp:lastModifiedBy>Wayne  Highlands</cp:lastModifiedBy>
  <dcterms:modified xsi:type="dcterms:W3CDTF">2016-01-20T17:12:10Z</dcterms:modified>
  <cp:revision>15</cp:revision>
  <dc:subject/>
  <dc:title>The Distance and Midpoint Formulas</dc:title>
</cp:coreProperties>
</file>