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0AC1-8E45-49D0-BB01-2F374DE34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962-7661-40D8-B066-0FA90EFB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EF13-29B8-4F75-AD38-0F718BC4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3A2B-FE14-42B0-8E6A-3D8850113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9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9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339840" y="2646360"/>
          <a:ext cx="8443800" cy="3625920"/>
        </p:xfrm>
        <a:graphic>
          <a:graphicData uri="http://schemas.openxmlformats.org/drawingml/2006/table">
            <a:tbl>
              <a:tblPr/>
              <a:tblGrid>
                <a:gridCol w="2814480"/>
                <a:gridCol w="2814840"/>
                <a:gridCol w="2814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10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1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1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3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2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544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2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" fill="hold"/>
                                        <p:tgtEl>
                                          <p:spTgt spid="1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1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46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47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55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63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72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0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89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97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05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Box 70"/>
          <p:cNvSpPr/>
          <p:nvPr/>
        </p:nvSpPr>
        <p:spPr>
          <a:xfrm>
            <a:off x="1009080" y="317808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81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90" name="AutoShape 4"/>
          <p:cNvSpPr/>
          <p:nvPr/>
        </p:nvSpPr>
        <p:spPr>
          <a:xfrm>
            <a:off x="258840" y="472428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18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8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67" name="AutoShape 4"/>
          <p:cNvSpPr/>
          <p:nvPr/>
        </p:nvSpPr>
        <p:spPr>
          <a:xfrm>
            <a:off x="462744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1" fill="hold"/>
                                        <p:tgtEl>
                                          <p:spTgt spid="19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19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AutoShape 4"/>
          <p:cNvSpPr/>
          <p:nvPr/>
        </p:nvSpPr>
        <p:spPr>
          <a:xfrm>
            <a:off x="2444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20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2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19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AutoShape 4"/>
          <p:cNvSpPr/>
          <p:nvPr/>
        </p:nvSpPr>
        <p:spPr>
          <a:xfrm>
            <a:off x="20628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5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6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7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8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" fill="hold"/>
                                        <p:tgtEl>
                                          <p:spTgt spid="2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2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6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9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AutoShape 4"/>
          <p:cNvSpPr/>
          <p:nvPr/>
        </p:nvSpPr>
        <p:spPr>
          <a:xfrm>
            <a:off x="46371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1" fill="hold"/>
                                        <p:tgtEl>
                                          <p:spTgt spid="2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5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TextBox 56"/>
          <p:cNvSpPr/>
          <p:nvPr/>
        </p:nvSpPr>
        <p:spPr>
          <a:xfrm>
            <a:off x="1625400" y="5113440"/>
            <a:ext cx="41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x + 4x – 2x = 5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8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  <p:sp>
        <p:nvSpPr>
          <p:cNvPr id="2319" name="TextBox 58"/>
          <p:cNvSpPr/>
          <p:nvPr/>
        </p:nvSpPr>
        <p:spPr>
          <a:xfrm>
            <a:off x="6266520" y="57564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x = 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6" dur="1" fill="hold"/>
                                        <p:tgtEl>
                                          <p:spTgt spid="2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4" name=""/>
          <p:cNvGraphicFramePr/>
          <p:nvPr/>
        </p:nvGraphicFramePr>
        <p:xfrm>
          <a:off x="339840" y="2646360"/>
          <a:ext cx="7413480" cy="303372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45" name="TextBox 26"/>
          <p:cNvSpPr/>
          <p:nvPr/>
        </p:nvSpPr>
        <p:spPr>
          <a:xfrm>
            <a:off x="3413160" y="3141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Box 28"/>
          <p:cNvSpPr/>
          <p:nvPr/>
        </p:nvSpPr>
        <p:spPr>
          <a:xfrm>
            <a:off x="3321000" y="3784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Box 29"/>
          <p:cNvSpPr/>
          <p:nvPr/>
        </p:nvSpPr>
        <p:spPr>
          <a:xfrm>
            <a:off x="3384720" y="43513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Box 30"/>
          <p:cNvSpPr/>
          <p:nvPr/>
        </p:nvSpPr>
        <p:spPr>
          <a:xfrm>
            <a:off x="3513240" y="4968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Box 31"/>
          <p:cNvSpPr/>
          <p:nvPr/>
        </p:nvSpPr>
        <p:spPr>
          <a:xfrm>
            <a:off x="6102360" y="316548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Box 32"/>
          <p:cNvSpPr/>
          <p:nvPr/>
        </p:nvSpPr>
        <p:spPr>
          <a:xfrm>
            <a:off x="5832360" y="37720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Box 33"/>
          <p:cNvSpPr/>
          <p:nvPr/>
        </p:nvSpPr>
        <p:spPr>
          <a:xfrm>
            <a:off x="5856120" y="4387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Box 34"/>
          <p:cNvSpPr/>
          <p:nvPr/>
        </p:nvSpPr>
        <p:spPr>
          <a:xfrm>
            <a:off x="5931000" y="499104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2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2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7" dur="1" fill="hold"/>
                                        <p:tgtEl>
                                          <p:spTgt spid="2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1" fill="hold"/>
                                        <p:tgtEl>
                                          <p:spTgt spid="2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1" fill="hold"/>
                                        <p:tgtEl>
                                          <p:spTgt spid="2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2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4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5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" fill="hold"/>
                                        <p:tgtEl>
                                          <p:spTgt spid="2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1" fill="hold"/>
                                        <p:tgtEl>
                                          <p:spTgt spid="2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5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2577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1" fill="hold"/>
                                        <p:tgtEl>
                                          <p:spTgt spid="2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7" dur="1" fill="hold"/>
                                        <p:tgtEl>
                                          <p:spTgt spid="2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27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8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1" fill="hold"/>
                                        <p:tgtEl>
                                          <p:spTgt spid="2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6" dur="1" fill="hold"/>
                                        <p:tgtEl>
                                          <p:spTgt spid="2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2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1" fill="hold"/>
                                        <p:tgtEl>
                                          <p:spTgt spid="2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2-09-13T18:06:14Z</dcterms:modified>
  <cp:revision>260</cp:revision>
  <dc:subject/>
  <dc:title>No Slide Title</dc:title>
</cp:coreProperties>
</file>