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A98-7404-4702-86F1-F8D48AC4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DA7-4883-4055-BFA9-D49F6CCA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6BE-FFC6-454F-9F23-F3891F3A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2A6-BBA1-46C5-9AED-6E5DBFF3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7AE9-CAEA-407E-AF08-21A8BBE8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F5D-802C-434C-85AD-754A285E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FD2-FCB8-4722-A56E-D45B284C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983A-1E52-4685-87FB-C3D39A0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9994-4223-4D55-B11B-5D9981A4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788C-EA2D-481E-A044-391F3FEC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14F8-9B3D-4E06-815B-4FCDB55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FED-A804-4C87-8E43-CB92BD8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203D-798D-42A4-9F47-F9305D3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49C6-FFDC-41C9-AF0C-9A11D1CD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3128-50C4-43CD-A316-177DEE3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425-8ED5-4DE7-8809-F7B3F71E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E05A-E2F5-4ABD-B292-0619F9A5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2DD-F0B3-4CB4-A79F-EC8059C5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88E-0297-47D9-A1B1-8CC98E9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A68-C8C0-4C86-95D2-C5D9120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4FA-7731-4AF8-A821-50A31E39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995-DED5-4C30-8F4F-F896F7B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6F2-E786-4FF1-A94B-B5CF24A0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C28-6186-43BE-A406-02D844D4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0CFC-A151-408C-8BE5-FA471FDF4D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A197-CA8D-4A71-9994-CAF70D8B98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rm u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t to Slope-Intercept for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x – 2y = 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 + 3y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x + y = -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648320" y="2286000"/>
            <a:ext cx="3733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3/2x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1/3x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y = -2x –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8 Lesson Master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9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vert Slope-Intercept to Standard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237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To convert a linear Equation from slope-intercept form to standard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6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 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x + By = 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,C are whole #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ractions/dec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2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 -2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2x + y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-1     -1   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2x – y = -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53352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3716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2057400" y="3886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533520" y="4419720"/>
            <a:ext cx="2057400" cy="6858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200400" y="3429000"/>
            <a:ext cx="3733920" cy="76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make A positive, divide (or multiply)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2514600" y="3581280"/>
            <a:ext cx="533520" cy="228600"/>
          </a:xfrm>
          <a:prstGeom prst="leftArrow">
            <a:avLst>
              <a:gd name="adj1" fmla="val 50000"/>
              <a:gd name="adj2" fmla="val 5834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4x +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3x +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4648320" y="2286000"/>
            <a:ext cx="373356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4x – y = 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3x + y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the equation to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y = -4x +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             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+4/5x   +4/5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4x + y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x + 5y = 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57200" y="4419720"/>
            <a:ext cx="380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04920" y="4952880"/>
            <a:ext cx="2438280" cy="7621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3429000" y="3886200"/>
            <a:ext cx="3733920" cy="1099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To get rid of the fraction, multiply everything by the denomina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2590920" y="4495680"/>
            <a:ext cx="533160" cy="228600"/>
          </a:xfrm>
          <a:prstGeom prst="leftArrow">
            <a:avLst>
              <a:gd name="adj1" fmla="val 50000"/>
              <a:gd name="adj2" fmla="val 583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76520" y="3733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0666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52280" y="37339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3"/>
          <p:cNvSpPr/>
          <p:nvPr/>
        </p:nvSpPr>
        <p:spPr>
          <a:xfrm>
            <a:off x="380880" y="3733920"/>
            <a:ext cx="381240" cy="1218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n equation in standard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m = 3/2   b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ord Probl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ryl scored a total of 27 points in her basketball game last night.  None of the points came from free throws.  All of her points came from 2 or 3 point sho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ree possible combinations of 2 and 3 point shots that Cheryl may have ma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an equation in standard form to represent the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ne more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antha and Maria purchased flowers.  Samantha purchased 5 roses for x dollars each and 4 daisies for y dollars and spent $32 on the flowers.  Maria purchased 1 rose for x dollars and 6 daisies for y dollars each and spent $22.  Write the system of equ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an we figure out what x and y a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0:53:52Z</dcterms:created>
  <dc:creator>Los Alamitos USD</dc:creator>
  <dc:description/>
  <dc:language>en-US</dc:language>
  <cp:lastModifiedBy>Laura Helbing</cp:lastModifiedBy>
  <dcterms:modified xsi:type="dcterms:W3CDTF">2013-02-01T18:29:39Z</dcterms:modified>
  <cp:revision>19</cp:revision>
  <dc:subject/>
  <dc:title>Convert Slope-Intercept to Standard</dc:title>
</cp:coreProperties>
</file>