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B32-ED49-4542-A0E0-DC8C6396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6EA-1314-4183-BADE-A130AD9E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132-761C-44DF-B17E-7B8B3894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870-0F82-4139-B1A5-E34BA061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FF3-345C-4881-8568-559805C2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8B8B-07D4-4481-9268-51719C8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4CFE-E79C-4248-B0D3-A662743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6A90-78FF-4C62-9F13-224DAE6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7B15-6A0E-47D3-AFED-A22E6A6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117B-7341-4B11-B984-235F36D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BB1-2F5A-46C3-99B6-72F3F75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C2C-D4D4-4011-8B01-36067AE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A18-0366-4341-8A43-F4F894C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87E-45E4-47EA-BBC0-694A552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2DE-7217-4F1D-9851-A500D87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430-E3CF-434A-AE17-28C47233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E337-EEE9-455E-B856-565F76A3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F97-BA3C-4D4A-A86D-6970FB4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ADF-630F-4CE6-BE18-C836D58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FD7-C1A8-4CAD-9692-10110D1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C9A-B21C-4256-8B97-D8BBD5D8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563-8CBE-40D0-8C8F-7289009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A6B-5E34-4CF9-9AE8-028E5ED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62E-593E-418D-A07D-E5D2155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5FD-3946-47CC-91CE-6CFBAF1D92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8BA-B0E3-4097-84AB-E3AB30637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t to Slope-Intercept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x – 2y =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+ 3y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48320" y="228600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3/2x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1/3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2x –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8 Lesson Master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vert Slope-Intercept to Stand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convert a linear Equation from slope-intercept form to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 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,C are whol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/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2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 -2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+ y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1     -1   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2x – y = 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3352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3716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20574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3520" y="4419720"/>
            <a:ext cx="20574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200400" y="3429000"/>
            <a:ext cx="37339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make A positive, divide (or multiply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2514600" y="35812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4x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3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48320" y="2286000"/>
            <a:ext cx="373356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x – y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x + 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4x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+4/5x   +4/5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4x +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 5y =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57200" y="44197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952880"/>
            <a:ext cx="2438280" cy="7621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429000" y="3886200"/>
            <a:ext cx="3733920" cy="109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get rid of the fraction, multiply everything by the denomin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590920" y="449568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765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52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80880" y="3733920"/>
            <a:ext cx="381240" cy="1218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in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m = 3/2   b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 Probl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ryl scored a total of 27 points in her basketball game last night.  None of the points came from free throws.  All of her points came from 2 or 3 point sho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ree possible combinations of 2 and 3 point shots that Cheryl may have m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an equation in standard form to represent the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more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antha and Maria purchased flowers.  Samantha purchased 5 roses for x dollars each and 4 daisies for y dollars and spent $32 on the flowers.  Maria purchased 1 rose for x dollars and 6 daisies for y dollars each and spent $22.  Write the system of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figure out what x and y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53:52Z</dcterms:created>
  <dc:creator>Los Alamitos USD</dc:creator>
  <dc:description/>
  <dc:language>en-US</dc:language>
  <cp:lastModifiedBy>Laura Helbing</cp:lastModifiedBy>
  <dcterms:modified xsi:type="dcterms:W3CDTF">2013-02-01T18:29:39Z</dcterms:modified>
  <cp:revision>19</cp:revision>
  <dc:subject/>
  <dc:title>Convert Slope-Intercept to Standard</dc:title>
</cp:coreProperties>
</file>