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B75-B376-4F90-8A19-B574F102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28C-4516-49D8-852D-1E045346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848-AB00-4727-9EEC-20703EB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65C-E0A3-48CD-9C94-80A32602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307-1D0B-4522-BD4C-B488AEBB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B32-79CB-4B84-A4B8-3595F4D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59FD-8984-4999-8BF3-6183262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80E4-0D17-4636-9FD8-6925F04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2C77-6EC3-48D0-BBDE-5918B551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0626-96C1-4130-8655-41A9668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3A9-BAA1-456A-851E-56B536B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68D-00F0-40D1-92E5-6AF45C9A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645C-2615-4241-BED5-DB38E0C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B85F-AC76-4D65-8DFA-98C7005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A577-8D70-4B5B-AAB6-EE0108B5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2322-998F-4E4E-9EBF-37CE8920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AD27-2A53-46DB-8720-EA4CA18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F42-947B-4723-80D7-62AE966D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FF9-0EBC-4033-A7F6-B1D935D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CD5-0CC0-459E-8BB4-8B4C7FD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D81-ABBC-4C43-9837-4F0433BF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E60-B32B-47E1-9514-00604F9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B90-DE31-4AE0-A883-B7A3620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70E-B919-4BE2-B35B-8EF7444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44E-0583-4E98-A60E-D8C4BB53C3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81F2-4432-4D01-892E-5A4DDE161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u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t to Slope-Intercept for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x – 2y =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+ 3y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x + y = -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48320" y="2286000"/>
            <a:ext cx="3733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3/2x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1/3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2x –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8 Lesson Master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vert Slope-Intercept to Stand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convert a linear Equation from slope-intercept form to standar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 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,C are whole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ractions/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2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 -2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+ y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1     -1   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2x – y = 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3352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13716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20574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33520" y="4419720"/>
            <a:ext cx="2057400" cy="6858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200400" y="3429000"/>
            <a:ext cx="37339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make A positive, divide (or multiply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2514600" y="35812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4x +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3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48320" y="2286000"/>
            <a:ext cx="373356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x – y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x + y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4x +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+4/5x   +4/5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4x + y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+ 5y =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57200" y="441972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4952880"/>
            <a:ext cx="2438280" cy="7621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429000" y="3886200"/>
            <a:ext cx="3733920" cy="1099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get rid of the fraction, multiply everything by the denomin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590920" y="449568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7652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522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380880" y="3733920"/>
            <a:ext cx="381240" cy="1218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quation in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m = 3/2   b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d Problem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ryl scored a total of 27 points in her basketball game last night.  None of the points came from free throws.  All of her points came from 2 or 3 point sho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ree possible combinations of 2 and 3 point shots that Cheryl may have m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an equation in standard form to represent the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 more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antha and Maria purchased flowers.  Samantha purchased 5 roses for x dollars each and 4 daisies for y dollars and spent $32 on the flowers.  Maria purchased 1 rose for x dollars and 6 daisies for y dollars each and spent $22.  Write the system of equ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figure out what x and y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0:53:52Z</dcterms:created>
  <dc:creator>Los Alamitos USD</dc:creator>
  <dc:description/>
  <dc:language>en-US</dc:language>
  <cp:lastModifiedBy>Laura Helbing</cp:lastModifiedBy>
  <dcterms:modified xsi:type="dcterms:W3CDTF">2013-02-01T18:29:39Z</dcterms:modified>
  <cp:revision>19</cp:revision>
  <dc:subject/>
  <dc:title>Convert Slope-Intercept to Standard</dc:title>
</cp:coreProperties>
</file>