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A6B-0D3C-4784-8DBE-AE10ACE4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F80D-750C-4DB8-ADCD-7550C9B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89AA-9234-41C9-B759-4724AA9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D1F-9C54-45BA-B66D-05913FEB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C931-7001-4207-A8D9-2EF6F454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A3C5-7FD7-4D2E-B6BA-679ABD99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2BD4-7291-4E16-8186-24995FD3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7EAE-E0F8-4577-89A8-2DB49B9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3F83-7145-4E3D-A426-75BFD9C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7F8-C4E4-4AEE-BB3F-4BE6C3E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246-B8D1-43A3-AA9E-D6305F2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F83-25D9-43AB-A64B-A94DA7B7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4D3C-7692-4900-B098-7C743A1A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F72A-8EBC-4196-8216-E4B43383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CE3-1D69-44CE-B8C3-B076B78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0C41-E98A-4B13-BBE9-A6612EA4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D1F0-9B83-4E21-9A63-C727EAF9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282E-9F8A-41C6-BC4F-8633B1E7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185-5A98-4BB8-ACDC-9F0A1E5E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39E-3205-4BFA-9BB1-C7AA61A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274-689B-463E-B7CF-B4662CA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3AE-2B23-4610-A383-ED2774E3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E37-57D8-4C7D-B6FC-C66A7161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1E5-C5ED-438D-8216-C266B90B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4F2-F6C0-4ABA-B285-25DA432F01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2901-1DF7-40C1-9E8D-80CF85171B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t to Slope-Intercept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x – 2y =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+ 3y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48320" y="228600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3/2x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1/3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2x –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8 Lesson Master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vert Slope-Intercept to Stand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convert a linear Equation from slope-intercept form to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 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,C are whol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/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2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 -2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+ y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1     -1   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2x – y = 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3352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3716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20574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3520" y="4419720"/>
            <a:ext cx="20574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200400" y="3429000"/>
            <a:ext cx="37339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make A positive, divide (or multiply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2514600" y="35812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4x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3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48320" y="2286000"/>
            <a:ext cx="373356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x – y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x + 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4x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+4/5x   +4/5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4x +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 5y =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57200" y="44197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952880"/>
            <a:ext cx="2438280" cy="7621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429000" y="3886200"/>
            <a:ext cx="3733920" cy="109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get rid of the fraction, multiply everything by the denomin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590920" y="449568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765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52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80880" y="3733920"/>
            <a:ext cx="381240" cy="1218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in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m = 3/2   b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 Probl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ryl scored a total of 27 points in her basketball game last night.  None of the points came from free throws.  All of her points came from 2 or 3 point sho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ree possible combinations of 2 and 3 point shots that Cheryl may have m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an equation in standard form to represent the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more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antha and Maria purchased flowers.  Samantha purchased 5 roses for x dollars each and 4 daisies for y dollars and spent $32 on the flowers.  Maria purchased 1 rose for x dollars and 6 daisies for y dollars each and spent $22.  Write the system of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figure out what x and y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53:52Z</dcterms:created>
  <dc:creator>Los Alamitos USD</dc:creator>
  <dc:description/>
  <dc:language>en-US</dc:language>
  <cp:lastModifiedBy>Laura Helbing</cp:lastModifiedBy>
  <dcterms:modified xsi:type="dcterms:W3CDTF">2013-02-01T18:29:39Z</dcterms:modified>
  <cp:revision>19</cp:revision>
  <dc:subject/>
  <dc:title>Convert Slope-Intercept to Standard</dc:title>
</cp:coreProperties>
</file>