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860-DCE4-4819-8255-CC322058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674E-CF83-4499-9ECE-A1D9BDA7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7DD-9BD7-4195-A66B-3491ACCB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1CF-3379-467F-8C97-EC407BF4F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016-0C7F-4BCB-A417-03FB6EA1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5CE-83F3-4BB8-A819-E9ED275D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BBE-7830-4814-BE2F-A77E634A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966-6F70-4F11-8150-E77DD735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FA5-687B-4D34-9990-2ACCBDEE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21CA-B393-428F-A3E0-A3891CE1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D7F-24F6-459B-9340-1111503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3D9-729D-4CCF-9BBE-C64154A6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16F4-6719-4679-B20F-9EB7D76D9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10"/>
            <p:cNvSpPr/>
            <p:nvPr/>
          </p:nvSpPr>
          <p:spPr>
            <a:xfrm>
              <a:off x="82080" y="655704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Holt Algebra 1</a:t>
              </a:r>
              <a:endParaRPr b="0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Text Box 11"/>
            <p:cNvSpPr/>
            <p:nvPr/>
          </p:nvSpPr>
          <p:spPr>
            <a:xfrm>
              <a:off x="232920" y="11376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Text Box 12"/>
            <p:cNvSpPr/>
            <p:nvPr/>
          </p:nvSpPr>
          <p:spPr>
            <a:xfrm>
              <a:off x="1602000" y="97560"/>
              <a:ext cx="510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e of Change and Slope</a:t>
              </a:r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33520" y="990720"/>
            <a:ext cx="8229600" cy="51051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s of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cribe the correlation shown by the scatter plo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58"/>
          <p:cNvSpPr/>
          <p:nvPr/>
        </p:nvSpPr>
        <p:spPr>
          <a:xfrm>
            <a:off x="1218600" y="2133720"/>
            <a:ext cx="27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10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–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60"/>
          <p:cNvSpPr/>
          <p:nvPr/>
        </p:nvSpPr>
        <p:spPr>
          <a:xfrm>
            <a:off x="3581280" y="45720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egativ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61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2428920" cy="2533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" y="152280"/>
            <a:ext cx="82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6.1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838080" y="2349360"/>
            <a:ext cx="778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of the connected segments have the same rate of change, then they all have the same steepness and together form a straight line. The constant rate of change of a li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lop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6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91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3: Find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162800" y="144792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6" descr="1"/>
          <p:cNvPicPr/>
          <p:nvPr/>
        </p:nvPicPr>
        <p:blipFill>
          <a:blip r:embed="rId1"/>
          <a:stretch/>
        </p:blipFill>
        <p:spPr>
          <a:xfrm>
            <a:off x="762120" y="2000160"/>
            <a:ext cx="3809880" cy="4324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4632480" y="2097000"/>
            <a:ext cx="45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e the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632480" y="2971800"/>
            <a:ext cx="44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632480" y="396252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730320" y="356220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3, 2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100520" y="2362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6, 5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Group 17"/>
          <p:cNvGrpSpPr/>
          <p:nvPr/>
        </p:nvGrpSpPr>
        <p:grpSpPr>
          <a:xfrm>
            <a:off x="3278880" y="2728440"/>
            <a:ext cx="295200" cy="1311120"/>
            <a:chOff x="3278880" y="2728440"/>
            <a:chExt cx="295200" cy="1311120"/>
          </a:xfrm>
        </p:grpSpPr>
        <p:sp>
          <p:nvSpPr>
            <p:cNvPr id="95" name="Text Box 11"/>
            <p:cNvSpPr/>
            <p:nvPr/>
          </p:nvSpPr>
          <p:spPr>
            <a:xfrm>
              <a:off x="3278880" y="357984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3429000" y="2728440"/>
              <a:ext cx="0" cy="1066680"/>
            </a:xfrm>
            <a:prstGeom prst="line">
              <a:avLst/>
            </a:prstGeom>
            <a:ln w="19080">
              <a:solidFill>
                <a:srgbClr val="3333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992880" y="2552760"/>
            <a:ext cx="2436120" cy="459720"/>
            <a:chOff x="992880" y="2552760"/>
            <a:chExt cx="2436120" cy="459720"/>
          </a:xfrm>
        </p:grpSpPr>
        <p:sp>
          <p:nvSpPr>
            <p:cNvPr id="98" name="Text Box 12"/>
            <p:cNvSpPr/>
            <p:nvPr/>
          </p:nvSpPr>
          <p:spPr>
            <a:xfrm>
              <a:off x="992880" y="255276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 flipH="1">
              <a:off x="1219320" y="2743200"/>
              <a:ext cx="2209680" cy="0"/>
            </a:xfrm>
            <a:prstGeom prst="line">
              <a:avLst/>
            </a:prstGeom>
            <a:ln w="19080">
              <a:solidFill>
                <a:srgbClr val="33cc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" name="Line 20"/>
          <p:cNvSpPr/>
          <p:nvPr/>
        </p:nvSpPr>
        <p:spPr>
          <a:xfrm>
            <a:off x="1143000" y="3809880"/>
            <a:ext cx="22860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Group 31"/>
          <p:cNvGrpSpPr/>
          <p:nvPr/>
        </p:nvGrpSpPr>
        <p:grpSpPr>
          <a:xfrm>
            <a:off x="3733920" y="3105000"/>
            <a:ext cx="914400" cy="400320"/>
            <a:chOff x="3733920" y="3105000"/>
            <a:chExt cx="914400" cy="400320"/>
          </a:xfrm>
        </p:grpSpPr>
        <p:sp>
          <p:nvSpPr>
            <p:cNvPr id="102" name="AutoShape 23"/>
            <p:cNvSpPr/>
            <p:nvPr/>
          </p:nvSpPr>
          <p:spPr>
            <a:xfrm>
              <a:off x="3733920" y="3124080"/>
              <a:ext cx="914400" cy="381240"/>
            </a:xfrm>
            <a:prstGeom prst="wedgeRectCallout">
              <a:avLst>
                <a:gd name="adj1" fmla="val -82120"/>
                <a:gd name="adj2" fmla="val 80833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24"/>
            <p:cNvSpPr/>
            <p:nvPr/>
          </p:nvSpPr>
          <p:spPr>
            <a:xfrm>
              <a:off x="3775320" y="3105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32"/>
          <p:cNvGrpSpPr/>
          <p:nvPr/>
        </p:nvGrpSpPr>
        <p:grpSpPr>
          <a:xfrm>
            <a:off x="3117600" y="2133720"/>
            <a:ext cx="920880" cy="380880"/>
            <a:chOff x="3117600" y="2133720"/>
            <a:chExt cx="920880" cy="380880"/>
          </a:xfrm>
        </p:grpSpPr>
        <p:sp>
          <p:nvSpPr>
            <p:cNvPr id="105" name="AutoShape 25"/>
            <p:cNvSpPr/>
            <p:nvPr/>
          </p:nvSpPr>
          <p:spPr>
            <a:xfrm>
              <a:off x="3124080" y="2133720"/>
              <a:ext cx="914400" cy="380880"/>
            </a:xfrm>
            <a:prstGeom prst="wedgeRectCallout">
              <a:avLst>
                <a:gd name="adj1" fmla="val -52606"/>
                <a:gd name="adj2" fmla="val 10916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Text Box 26"/>
            <p:cNvSpPr/>
            <p:nvPr/>
          </p:nvSpPr>
          <p:spPr>
            <a:xfrm>
              <a:off x="3117600" y="213372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76320" y="2819520"/>
            <a:ext cx="2361960" cy="1537200"/>
            <a:chOff x="76320" y="2819520"/>
            <a:chExt cx="2361960" cy="1537200"/>
          </a:xfrm>
        </p:grpSpPr>
        <p:sp>
          <p:nvSpPr>
            <p:cNvPr id="108" name="Line 19"/>
            <p:cNvSpPr/>
            <p:nvPr/>
          </p:nvSpPr>
          <p:spPr>
            <a:xfrm>
              <a:off x="1143000" y="2819520"/>
              <a:ext cx="0" cy="99036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AutoShape 27"/>
            <p:cNvSpPr/>
            <p:nvPr/>
          </p:nvSpPr>
          <p:spPr>
            <a:xfrm>
              <a:off x="76320" y="3124080"/>
              <a:ext cx="914400" cy="457200"/>
            </a:xfrm>
            <a:prstGeom prst="wedgeRectCallout">
              <a:avLst>
                <a:gd name="adj1" fmla="val 65972"/>
                <a:gd name="adj2" fmla="val 47222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101160" y="318132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–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AutoShape 29"/>
            <p:cNvSpPr/>
            <p:nvPr/>
          </p:nvSpPr>
          <p:spPr>
            <a:xfrm>
              <a:off x="1447920" y="4038480"/>
              <a:ext cx="990360" cy="304920"/>
            </a:xfrm>
            <a:prstGeom prst="wedgeRectCallout">
              <a:avLst>
                <a:gd name="adj1" fmla="val -46472"/>
                <a:gd name="adj2" fmla="val -11510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1480320" y="401940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3" name="Picture 34" descr="1"/>
          <p:cNvPicPr/>
          <p:nvPr/>
        </p:nvPicPr>
        <p:blipFill>
          <a:blip r:embed="rId2"/>
          <a:stretch/>
        </p:blipFill>
        <p:spPr>
          <a:xfrm>
            <a:off x="3390840" y="5400720"/>
            <a:ext cx="2362320" cy="69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5" descr="1"/>
          <p:cNvPicPr/>
          <p:nvPr/>
        </p:nvPicPr>
        <p:blipFill>
          <a:blip r:embed="rId3"/>
          <a:stretch/>
        </p:blipFill>
        <p:spPr>
          <a:xfrm>
            <a:off x="6477120" y="5400720"/>
            <a:ext cx="23619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4: Finding Slopes of Horizontal and Vertical Lines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75600" y="182880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8" descr="1"/>
          <p:cNvPicPr/>
          <p:nvPr/>
        </p:nvPicPr>
        <p:blipFill>
          <a:blip r:embed="rId1"/>
          <a:stretch/>
        </p:blipFill>
        <p:spPr>
          <a:xfrm>
            <a:off x="1295280" y="5105520"/>
            <a:ext cx="1123920" cy="695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2917800" y="502920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325520" y="58993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13" descr="1"/>
          <p:cNvPicPr/>
          <p:nvPr/>
        </p:nvPicPr>
        <p:blipFill>
          <a:blip r:embed="rId2"/>
          <a:stretch/>
        </p:blipFill>
        <p:spPr>
          <a:xfrm>
            <a:off x="5715000" y="5095800"/>
            <a:ext cx="1828800" cy="695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5738040" y="58928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711720" y="23623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32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2314440" cy="23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3" descr=""/>
          <p:cNvPicPr/>
          <p:nvPr/>
        </p:nvPicPr>
        <p:blipFill>
          <a:blip r:embed="rId4"/>
          <a:stretch/>
        </p:blipFill>
        <p:spPr>
          <a:xfrm>
            <a:off x="5410080" y="2286000"/>
            <a:ext cx="2266920" cy="2314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4"/>
          <p:cNvSpPr/>
          <p:nvPr/>
        </p:nvSpPr>
        <p:spPr>
          <a:xfrm>
            <a:off x="4906440" y="23623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967680" y="144792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30080" y="21654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892400" y="217188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162240" y="495288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1569960" y="58230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4" descr="1"/>
          <p:cNvPicPr/>
          <p:nvPr/>
        </p:nvPicPr>
        <p:blipFill>
          <a:blip r:embed="rId1"/>
          <a:stretch/>
        </p:blipFill>
        <p:spPr>
          <a:xfrm>
            <a:off x="1539720" y="5019840"/>
            <a:ext cx="1305000" cy="695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6"/>
          <p:cNvSpPr/>
          <p:nvPr/>
        </p:nvSpPr>
        <p:spPr>
          <a:xfrm>
            <a:off x="5996880" y="58262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7" descr="1"/>
          <p:cNvPicPr/>
          <p:nvPr/>
        </p:nvPicPr>
        <p:blipFill>
          <a:blip r:embed="rId2"/>
          <a:stretch/>
        </p:blipFill>
        <p:spPr>
          <a:xfrm>
            <a:off x="5897520" y="5032440"/>
            <a:ext cx="1676520" cy="695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0" descr=""/>
          <p:cNvPicPr/>
          <p:nvPr/>
        </p:nvPicPr>
        <p:blipFill>
          <a:blip r:embed="rId3"/>
          <a:stretch/>
        </p:blipFill>
        <p:spPr>
          <a:xfrm>
            <a:off x="1447920" y="2057400"/>
            <a:ext cx="238104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"/>
          <p:cNvPicPr/>
          <p:nvPr/>
        </p:nvPicPr>
        <p:blipFill>
          <a:blip r:embed="rId4"/>
          <a:stretch/>
        </p:blipFill>
        <p:spPr>
          <a:xfrm>
            <a:off x="5715000" y="2133720"/>
            <a:ext cx="2333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533520" y="914400"/>
            <a:ext cx="81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shown in the previous examples, slope can be positive, negative, zero or undefined. You can tell which of these is the case by looking at a graph of a line–you do not need to calculate the slope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2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686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9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4942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45720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7672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588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28600" y="14479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04920" y="243828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823280" y="25909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724280" y="48769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746600" y="52578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33520" y="4876920"/>
            <a:ext cx="30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is vertical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61960" y="5334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1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305080" cy="2371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2352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49400" indent="-19494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5: Describ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80880" y="1447920"/>
            <a:ext cx="81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3840" y="54864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51360" y="5486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falls from left to right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52280" y="59436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898880" y="59436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nega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390600" y="25192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898880" y="2514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19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227664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2295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09480" y="142236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contains (0, –3) and (5, –5)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4898880" y="2381400"/>
            <a:ext cx="42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d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27" descr="1"/>
          <p:cNvPicPr/>
          <p:nvPr/>
        </p:nvPicPr>
        <p:blipFill>
          <a:blip r:embed="rId1"/>
          <a:stretch/>
        </p:blipFill>
        <p:spPr>
          <a:xfrm>
            <a:off x="304920" y="2228760"/>
            <a:ext cx="4324320" cy="4324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8"/>
          <p:cNvSpPr/>
          <p:nvPr/>
        </p:nvSpPr>
        <p:spPr>
          <a:xfrm>
            <a:off x="2585160" y="46148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3818520" y="54579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3962520" y="4819680"/>
            <a:ext cx="0" cy="91440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31"/>
          <p:cNvSpPr/>
          <p:nvPr/>
        </p:nvSpPr>
        <p:spPr>
          <a:xfrm flipH="1">
            <a:off x="2742840" y="481968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4898880" y="3311640"/>
            <a:ext cx="44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4898880" y="428616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4267080" y="5181480"/>
            <a:ext cx="990720" cy="399960"/>
            <a:chOff x="4267080" y="5181480"/>
            <a:chExt cx="990720" cy="399960"/>
          </a:xfrm>
        </p:grpSpPr>
        <p:sp>
          <p:nvSpPr>
            <p:cNvPr id="174" name="AutoShape 33"/>
            <p:cNvSpPr/>
            <p:nvPr/>
          </p:nvSpPr>
          <p:spPr>
            <a:xfrm>
              <a:off x="4267080" y="5200560"/>
              <a:ext cx="990720" cy="380880"/>
            </a:xfrm>
            <a:prstGeom prst="wedgeRectCallout">
              <a:avLst>
                <a:gd name="adj1" fmla="val -81250"/>
                <a:gd name="adj2" fmla="val 25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Text Box 35"/>
            <p:cNvSpPr/>
            <p:nvPr/>
          </p:nvSpPr>
          <p:spPr>
            <a:xfrm>
              <a:off x="4308840" y="51814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6" name="Group 39"/>
          <p:cNvGrpSpPr/>
          <p:nvPr/>
        </p:nvGrpSpPr>
        <p:grpSpPr>
          <a:xfrm>
            <a:off x="3200400" y="4254480"/>
            <a:ext cx="1044720" cy="337320"/>
            <a:chOff x="3200400" y="4254480"/>
            <a:chExt cx="1044720" cy="337320"/>
          </a:xfrm>
        </p:grpSpPr>
        <p:sp>
          <p:nvSpPr>
            <p:cNvPr id="177" name="AutoShape 36"/>
            <p:cNvSpPr/>
            <p:nvPr/>
          </p:nvSpPr>
          <p:spPr>
            <a:xfrm>
              <a:off x="3200400" y="4286520"/>
              <a:ext cx="990720" cy="304560"/>
            </a:xfrm>
            <a:prstGeom prst="wedgeRectCallout">
              <a:avLst>
                <a:gd name="adj1" fmla="val -43268"/>
                <a:gd name="adj2" fmla="val 10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Text Box 37"/>
            <p:cNvSpPr/>
            <p:nvPr/>
          </p:nvSpPr>
          <p:spPr>
            <a:xfrm>
              <a:off x="3200400" y="425448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" name="Line 40"/>
          <p:cNvSpPr/>
          <p:nvPr/>
        </p:nvSpPr>
        <p:spPr>
          <a:xfrm>
            <a:off x="2743200" y="4896000"/>
            <a:ext cx="0" cy="83808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2743200" y="570060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45"/>
          <p:cNvGrpSpPr/>
          <p:nvPr/>
        </p:nvGrpSpPr>
        <p:grpSpPr>
          <a:xfrm>
            <a:off x="1371600" y="4952880"/>
            <a:ext cx="1219320" cy="380880"/>
            <a:chOff x="1371600" y="4952880"/>
            <a:chExt cx="1219320" cy="380880"/>
          </a:xfrm>
        </p:grpSpPr>
        <p:sp>
          <p:nvSpPr>
            <p:cNvPr id="182" name="AutoShape 42"/>
            <p:cNvSpPr/>
            <p:nvPr/>
          </p:nvSpPr>
          <p:spPr>
            <a:xfrm>
              <a:off x="1438200" y="4952880"/>
              <a:ext cx="914400" cy="380880"/>
            </a:xfrm>
            <a:prstGeom prst="wedgeRectCallout">
              <a:avLst>
                <a:gd name="adj1" fmla="val 79689"/>
                <a:gd name="adj2" fmla="val 2624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43"/>
            <p:cNvSpPr/>
            <p:nvPr/>
          </p:nvSpPr>
          <p:spPr>
            <a:xfrm>
              <a:off x="1371600" y="497196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–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" name="Group 48"/>
          <p:cNvGrpSpPr/>
          <p:nvPr/>
        </p:nvGrpSpPr>
        <p:grpSpPr>
          <a:xfrm>
            <a:off x="3276720" y="6019920"/>
            <a:ext cx="914400" cy="337320"/>
            <a:chOff x="3276720" y="6019920"/>
            <a:chExt cx="914400" cy="337320"/>
          </a:xfrm>
        </p:grpSpPr>
        <p:sp>
          <p:nvSpPr>
            <p:cNvPr id="185" name="AutoShape 46"/>
            <p:cNvSpPr/>
            <p:nvPr/>
          </p:nvSpPr>
          <p:spPr>
            <a:xfrm>
              <a:off x="3276720" y="6039000"/>
              <a:ext cx="914400" cy="304920"/>
            </a:xfrm>
            <a:prstGeom prst="wedgeRectCallout">
              <a:avLst>
                <a:gd name="adj1" fmla="val -78125"/>
                <a:gd name="adj2" fmla="val -14843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47"/>
            <p:cNvSpPr/>
            <p:nvPr/>
          </p:nvSpPr>
          <p:spPr>
            <a:xfrm>
              <a:off x="3309120" y="601992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7" name="Picture 49" descr="1"/>
          <p:cNvPicPr/>
          <p:nvPr/>
        </p:nvPicPr>
        <p:blipFill>
          <a:blip r:embed="rId2"/>
          <a:stretch/>
        </p:blipFill>
        <p:spPr>
          <a:xfrm>
            <a:off x="5105520" y="5581800"/>
            <a:ext cx="2361960" cy="695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1" descr="1"/>
          <p:cNvPicPr/>
          <p:nvPr/>
        </p:nvPicPr>
        <p:blipFill>
          <a:blip r:embed="rId3"/>
          <a:stretch/>
        </p:blipFill>
        <p:spPr>
          <a:xfrm>
            <a:off x="5105520" y="5586480"/>
            <a:ext cx="2361960" cy="695160"/>
          </a:xfrm>
          <a:prstGeom prst="rect">
            <a:avLst/>
          </a:prstGeom>
          <a:ln w="0">
            <a:noFill/>
          </a:ln>
        </p:spPr>
      </p:pic>
      <p:sp>
        <p:nvSpPr>
          <p:cNvPr id="189" name="Line 52"/>
          <p:cNvSpPr/>
          <p:nvPr/>
        </p:nvSpPr>
        <p:spPr>
          <a:xfrm>
            <a:off x="4191120" y="5853240"/>
            <a:ext cx="75960" cy="75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53"/>
          <p:cNvSpPr/>
          <p:nvPr/>
        </p:nvSpPr>
        <p:spPr>
          <a:xfrm flipH="1" flipV="1">
            <a:off x="609480" y="3371760"/>
            <a:ext cx="152640" cy="76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28600" y="1981080"/>
            <a:ext cx="8534520" cy="1676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rates of change and slopes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 a constant rate of change to the slope of a line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949680" y="149220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 each of the following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69960" y="1981080"/>
            <a:ext cx="77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ble shows the number of bikes made by a company for certain years. Find the rate of change for each time period. During which time period did the number of bikes increase at the fastest rate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47"/>
          <p:cNvSpPr/>
          <p:nvPr/>
        </p:nvSpPr>
        <p:spPr>
          <a:xfrm>
            <a:off x="1642680" y="5334120"/>
            <a:ext cx="57189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 to 2: 3; 2 to 5: 4; 5 to 7: 0; 7 to 11: 3.5;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rom years 2 to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49" descr=""/>
          <p:cNvPicPr/>
          <p:nvPr/>
        </p:nvPicPr>
        <p:blipFill>
          <a:blip r:embed="rId1"/>
          <a:stretch/>
        </p:blipFill>
        <p:spPr>
          <a:xfrm>
            <a:off x="2209680" y="3930480"/>
            <a:ext cx="42865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09480" y="1552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4" descr="1"/>
          <p:cNvPicPr/>
          <p:nvPr/>
        </p:nvPicPr>
        <p:blipFill>
          <a:blip r:embed="rId1"/>
          <a:stretch/>
        </p:blipFill>
        <p:spPr>
          <a:xfrm>
            <a:off x="2133720" y="4753080"/>
            <a:ext cx="466560" cy="73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5867280" y="47530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ndefin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3180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505152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1219320" y="2314440"/>
            <a:ext cx="2314440" cy="2400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"/>
          <p:cNvPicPr/>
          <p:nvPr/>
        </p:nvPicPr>
        <p:blipFill>
          <a:blip r:embed="rId3"/>
          <a:stretch/>
        </p:blipFill>
        <p:spPr>
          <a:xfrm>
            <a:off x="5562720" y="2314440"/>
            <a:ext cx="240012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5800" y="15717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ate of chan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atio that compares the amount of change in a dependent variable to the amount of change in an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5" descr="1"/>
          <p:cNvPicPr/>
          <p:nvPr/>
        </p:nvPicPr>
        <p:blipFill>
          <a:blip r:embed="rId1"/>
          <a:stretch/>
        </p:blipFill>
        <p:spPr>
          <a:xfrm>
            <a:off x="806400" y="3638520"/>
            <a:ext cx="7362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828800" y="990720"/>
            <a:ext cx="5486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1: </a:t>
            </a:r>
            <a:r>
              <a:rPr b="0" i="1" lang="en-US" sz="2400" spc="-1" strike="noStrike">
                <a:solidFill>
                  <a:srgbClr val="ff3300"/>
                </a:solidFill>
                <a:latin typeface="Arial Black"/>
                <a:ea typeface="Arial"/>
              </a:rPr>
              <a:t>Application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5720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average temperature (°F) for five months in a certain city. Find the rate of change for each time period. During which time period did the temperature increase at the fastest rate?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58"/>
          <p:cNvSpPr/>
          <p:nvPr/>
        </p:nvSpPr>
        <p:spPr>
          <a:xfrm>
            <a:off x="457200" y="518148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dependent and independent variable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59"/>
          <p:cNvSpPr/>
          <p:nvPr/>
        </p:nvSpPr>
        <p:spPr>
          <a:xfrm>
            <a:off x="1373760" y="6080040"/>
            <a:ext cx="64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dependent: temperatur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independent: month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64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1721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1403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balance of a bank account on different days of the month. Find the rate of change during each time interval. During which time interval did the balance decrease at the greatest rate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48"/>
          <p:cNvSpPr/>
          <p:nvPr/>
        </p:nvSpPr>
        <p:spPr>
          <a:xfrm>
            <a:off x="457200" y="495288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dependent and independent variable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49"/>
          <p:cNvSpPr/>
          <p:nvPr/>
        </p:nvSpPr>
        <p:spPr>
          <a:xfrm>
            <a:off x="1409040" y="5851440"/>
            <a:ext cx="62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dependent: balanc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independent: day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52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659124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90440" y="990720"/>
            <a:ext cx="8763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2: Finding Rates of Change from a Graph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0880" y="14479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267080" y="2209680"/>
            <a:ext cx="474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the ordered pairs. The vertical segments show the changes in the dependent variable, and the horizontal segments show the changes in the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267080" y="4876920"/>
            <a:ext cx="481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Notice that the greatest rate of change is represented by the steepest of the red line segment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38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29718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90440" y="990720"/>
            <a:ext cx="8763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2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14479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343400" y="2666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lso notice that between months 2 to 3, when the balance did not change, the line segment is horizontal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1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29718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85800" y="135900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Check It Out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556160" y="2333520"/>
            <a:ext cx="474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the ordered pairs. The vertical segments show the changes in the dependent variable, and the horizontal segments show the changes in the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556160" y="50007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Notice that the greatest rate of change is represented by the steepest of the red line segments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44" descr=""/>
          <p:cNvPicPr/>
          <p:nvPr/>
        </p:nvPicPr>
        <p:blipFill>
          <a:blip r:embed="rId1"/>
          <a:stretch/>
        </p:blipFill>
        <p:spPr>
          <a:xfrm>
            <a:off x="457200" y="2409840"/>
            <a:ext cx="35528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138744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Check It Out Problem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800600" y="25909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lso notice that between days 16 to 22, when the balance did not change, the line segment is horizontal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51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5528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Wayne  Highlands</cp:lastModifiedBy>
  <cp:lastPrinted>2002-10-02T17:02:09Z</cp:lastPrinted>
  <dcterms:modified xsi:type="dcterms:W3CDTF">2016-01-26T18:45:44Z</dcterms:modified>
  <cp:revision>169</cp:revision>
  <dc:subject/>
  <dc:title>No Slide Title</dc:title>
</cp:coreProperties>
</file>