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67598DA-2039-4F75-8545-23A0C5089724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286160" y="1857240"/>
                <a:ext cx="163188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ockwood laura</cp:lastModifiedBy>
  <dcterms:modified xsi:type="dcterms:W3CDTF">2013-12-04T14:42:16Z</dcterms:modified>
  <cp:revision>37</cp:revision>
  <dc:subject/>
  <dc:title>Christmas Balls</dc:title>
</cp:coreProperties>
</file>