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1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ujytjnfb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EDABCF3-65B9-4EFF-AE66-23A383E7E1B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6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zertbtyyoi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4733280" y="3209760"/>
            <a:ext cx="326844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Division 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Algebra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Lesson 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51840" y="0"/>
            <a:ext cx="406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jective:   Divide algebraic fr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5124240" y="1890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Warm- 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132000" y="1413000"/>
            <a:ext cx="568800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857760" y="1428840"/>
                <a:ext cx="239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Box 5"/>
          <p:cNvSpPr/>
          <p:nvPr/>
        </p:nvSpPr>
        <p:spPr>
          <a:xfrm>
            <a:off x="2879280" y="857160"/>
            <a:ext cx="5531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p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the fraction that is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al to the other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2500200" y="4857840"/>
                <a:ext cx="59198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3445920" y="785880"/>
            <a:ext cx="396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viding F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ltiply by the recipro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hink  « Kiss and Flip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2500200" y="3313080"/>
                <a:ext cx="765360" cy="32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3786120" y="3857760"/>
                <a:ext cx="1420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6383160" y="3857760"/>
                <a:ext cx="65592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7"/>
              <p:cNvSpPr txBox="1"/>
              <p:nvPr/>
            </p:nvSpPr>
            <p:spPr>
              <a:xfrm>
                <a:off x="4286160" y="1857240"/>
                <a:ext cx="1631880" cy="163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913280" y="18900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357280" y="1413000"/>
            <a:ext cx="65725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3720960" y="1395360"/>
                <a:ext cx="1128960" cy="25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884120" y="189000"/>
            <a:ext cx="137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You t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857680" y="1413000"/>
            <a:ext cx="54291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valuate x ÷ y and y ÷ x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From this, is division commutative?  Why or why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4214880" y="2143080"/>
                <a:ext cx="33955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nd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5051520" y="18900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End of the day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132000" y="1413000"/>
            <a:ext cx="5688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Simpl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4429080" y="1285920"/>
                <a:ext cx="1119240" cy="27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143080" y="1413000"/>
            <a:ext cx="62150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LM 5.2A Eve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2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Verdana"/>
              </a:rPr>
              <a:t>5.3 not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eeDigitalPhotos.net </dc:description>
  <dc:language>en-US</dc:language>
  <cp:lastModifiedBy>lockwood laura</cp:lastModifiedBy>
  <dcterms:modified xsi:type="dcterms:W3CDTF">2013-12-04T14:42:16Z</dcterms:modified>
  <cp:revision>37</cp:revision>
  <dc:subject/>
  <dc:title>Christmas Balls</dc:title>
</cp:coreProperties>
</file>