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F64-13A6-43CE-BB40-E641911A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DF7-0D7B-4FE7-8DA9-9A4FD6B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925-486F-4FEC-898E-858EF64E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D8D-8E2E-4BE4-940F-94E3D02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823D-206F-406A-99F8-1C17215A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860C-185B-40F3-82D5-9AB535E7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4312-13CD-4242-8C2B-35E7EE5D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909-C0EE-4227-9E73-B0914D2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823-32BC-4892-AFD5-68A1229D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D0D-FB97-4956-9ADB-7223C7F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53F1-727D-4242-9DD4-D2CB760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01D-27B1-4CB2-A7DC-269408E5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D46-0C64-4CB3-B4E2-6AFD267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A6DE-064B-4829-9A7F-86184E0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0DB3-F135-4F89-9D6D-25974FE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8D57-9300-4AB2-AFEA-29D03EA9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539-3948-4AA2-9E80-213F57E5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5713-EB16-466A-859C-87B4CDA6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CB7A-4BD8-4CB1-8029-664171F6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8D7A-FB76-432B-A3DA-8579C44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9C51-2F54-4AE9-9DB4-436D1FE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0242-A703-456C-96A3-8AF2AA4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264-1606-495B-AF3B-794C49E7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4387-572A-45E3-92DE-39202BCF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8AE2-DA01-4333-B120-5A2E253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5C6A-A840-4A31-8606-A0A305A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18F6-E570-4E77-9853-94325108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0719-3A0A-4C40-9F08-9532EF7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BF5B-BA6B-4E0A-9B6C-E10B43ED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3F5B-89E3-4A7C-8FAA-29E86CC9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F87B-D505-4068-8201-4C5E2E49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D7DE-533F-4D4E-808D-1CAE63A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AB47-F0B5-49A9-9C37-6E10F035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860-C3B8-4DA5-B83B-50E820F3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CD02-C75F-4914-BE95-0E68071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BC56-FD15-406B-9B6A-321A046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49A3-922D-4974-A6EF-B9516AC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EF87-26E6-4E7C-9EB9-D6609E3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49BB-190A-4BC4-A198-A162DB63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1A0C-C2AF-46F6-9C19-4346AC0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80B1-F220-49D5-9029-7A1CD5E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DC13-8CE5-4F6B-AF41-3D0BB8AD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D169-04F9-47D6-8A2D-86872AD7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48D4-AB5C-4F40-957A-74C7A9EA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100-A1DD-4B02-8AE2-E1C98D5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A6CD-A593-4DED-B230-4068B683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9D8E-E1EF-4BB6-8FF1-41D654A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7247-0626-442E-8746-49C715D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294A-C113-4002-A9C8-0B832D04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B06C-E77F-4175-9B73-F2F1E3C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647C-8601-405B-A7FD-8A054EE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0399-09E6-49F0-8FB4-42B35CB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1569-BFBE-46FC-ABDE-A0CBB2B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1312-AE99-4A11-9E63-8FD8339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2C09-F7B9-4301-BC74-D5AE8907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858-D360-4F71-BE23-43E63BD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80E4-FA09-4753-A8AC-AF86189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FA1F-E110-4078-9800-5C921BA3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51B4-8B5B-459D-BA38-5D29350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46F3-1DDF-452E-8D01-0330B89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970C-D63E-4700-ABDF-AF99169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F5AC-15B3-464B-86C5-4A6DB37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390B-5E17-4F6F-98DB-DFB1C827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3A9B2-E9BF-4449-8C5E-76F91DA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CC63-D089-40E2-908D-1703B558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926E-0D98-4502-A55B-0470AE2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A16-46E4-40EF-9DBA-B601800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9B91-1A4C-4959-9E51-29A3E75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14C3-F6FC-40F9-802C-F259F512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3D3C-2A4F-41F3-950B-D6EB6F9A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B3ED-79B1-4A1B-BCA7-B04D322C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92BDA-EDFD-44B2-81D8-6ED2D86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3BF3-C8F9-4A69-B3C5-9B6C243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5D8F-EC9C-4C4A-9455-FA709456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9416-45D8-4342-8459-904C20D4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1088-0CAD-467F-8B58-3D973AA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85E7-8C00-42FD-9E4E-265E1A9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843-5155-4B6F-86EB-26E18333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B0826-308A-42DE-B2A8-EB5AFB8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A000-B219-48ED-B16C-DA2FE33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CFE9-21E8-4813-B8EC-3B2BBCA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18DE-8455-4AA3-BEE9-70EBC2BD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778E-87DE-46F3-9E92-19C61CB6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95DF-A54F-449B-BA02-B8AD26FE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E6C7-FDDB-4970-9AD8-F5FA7201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3579D-92D7-4D0B-8E4A-5B19549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14DF0-03EB-4B1E-B8A2-9C00D3E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0ADD1-9751-480D-9495-107052A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03F-BCE5-4321-B701-1BE2D7B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48C04-527C-4A8D-B328-8A8817F0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EB120-6A64-48AA-8F27-EED537F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19243-68D6-4065-BCC7-5B4C678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2517-2706-4C66-A534-4803641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615B3-93F4-4D6C-9E41-F873668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8FA5-B75C-40D3-B402-F997C868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A9472-1778-46F7-9BDA-73C9BD4B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C55-5E0C-4575-8477-AF0BF0713A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500-CEE2-48FE-A296-C548CD536A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BE3-2CDA-4F45-A2FF-C85643A13B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E347-00CB-40E2-B9C0-42F0D00102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B8F-95CD-408C-84F2-568C7CB7E8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0E9-9068-4287-9D83-B320B4EB12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989-57EE-4EF1-9BAE-36AEFBEA21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5B3-604D-4341-8D6D-1A9E79E406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polynomials p(x), x – c is a factor of p(x) if and only if p(c) = 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Factor theorem to show that -4x + 3 is a factor of the polynomial p(x) = -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x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of -4x + 3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4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(3/4)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e:  For any positive integer n, show that x – 1 is a factor of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rue only if p(1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raised to any power is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a polynomial p(x) and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the quotient polynomial q(x) obtained when p(x) is divided by x –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n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p(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ll the zeros of the function p, wh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= 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 it and find a zero!  -2 so x +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 ÷ x + 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20x + 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(2x – 7) (2x – 3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7/2   and 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olynomial of degree n has at most n zer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nomial Graph Wigglines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≥ 1with real coefficients.  The graph of y = p(x) can cross any horizontal line y = k at most n tim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st power of (x – r) that appears as a factor of that polynom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2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( 3x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zero x = -2 has multiplicity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219640" cy="5143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952880" y="5333760"/>
            <a:ext cx="373392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+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Pages 245 – 247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1 – 9, 13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2:17:37Z</dcterms:created>
  <dc:creator>teacher</dc:creator>
  <dc:description/>
  <dc:language>en-US</dc:language>
  <cp:lastModifiedBy>Laura Helbing</cp:lastModifiedBy>
  <dcterms:modified xsi:type="dcterms:W3CDTF">2011-12-05T13:46:27Z</dcterms:modified>
  <cp:revision>4</cp:revision>
  <dc:subject/>
  <dc:title>Zeros of Polynomials</dc:title>
</cp:coreProperties>
</file>