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BF8-5AD6-461A-A201-EFB132F3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69E-6267-4B10-B9D7-9EBDF18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42D-81C7-4DA2-BA92-5D54A9D8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925-6EEE-420E-A17D-3558873F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0D02-3169-4E80-BCE8-B845DD6F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60A2-D32A-42EE-B526-D4BA17B0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2432-2C8F-44D5-B7E5-F1D2B99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3502-A7FE-4485-978B-CE92D71A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224-020D-4A2E-A7DB-78433BBB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8849-5115-4C03-903B-F94C4AF5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F7C6-8987-417E-A5AC-B644297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553-F9BB-4618-82B9-1F423FB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73C-3291-4949-A342-8AAB8CFE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3671-6E13-4922-8C62-05E48E8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62DC-C456-44C2-A40E-1B710B9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8AA8-A6FF-49FA-8AED-B3AB70CC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5D4F-2119-4FF5-A97E-79B976C8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CC62-0D43-476F-8E5D-3B576791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D2AA-9AF9-4858-A57E-AC3F83ED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3E197-B612-4538-AA93-496B0CA9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79CE-66CA-48B9-AEDF-E4EE3B25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8120-6214-4C49-AE5A-9ABACF48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D7B-8773-4B65-AED8-737146C8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0E82-6C50-4500-88AF-0CBE25D9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1959-A8F9-4DC3-AF25-75BC02A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8BBF5-9D9A-496D-BB6A-BB7A284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E72B-8BE6-4954-8A49-A10A496B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E55B-E6DD-43CB-91E0-75972E46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C2CD-077B-4327-A01E-F592B1D0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B2F9-0D7A-41DD-8084-84724B89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B7EC-A667-4A34-8D4C-2205E15D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1009-612F-4FCA-B3AC-224579A3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9752-EA92-4E05-841F-BAC40FC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773-D0B4-4D95-8936-7CD6D112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210A-A64C-4014-9D08-5930E907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13AF-A7F6-4870-A909-983375AE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B3B9-544B-4837-BBBA-4E624C1D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9A59-B39E-4C8B-8B46-4C21A87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1925-91E7-49DE-85D5-C2E28ED0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83EB-7D6B-4D49-ACC7-08898FE5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FCD06-4FF0-400E-80DA-B7D7F3A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C57A-F9EC-47D6-AB73-78AFF742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85D45-2F5B-4AEF-AB9A-69D89965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917D1-3551-4D9A-898B-A10CE6D1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509-8B4F-401E-94E5-6F67422A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72F0-84DF-46BF-BB91-AF2E8E2B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CD098-68B0-4751-AFBB-EE24AFBD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F3F30-685B-4404-BB27-8E8A6D94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FA31C-CC28-47FC-A867-C504C981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3C005-BCF2-4EFD-9D61-CA4080CE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5931-B75A-4646-B01F-0DFF140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3934-3C55-4413-B320-490DCA22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DE75-B909-4D6F-99EC-F34B674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672D-027C-46F7-9961-2B640935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1EFDD-5BDB-4803-A89F-585BA49D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DBF-A7A4-4770-9DE5-037D74B6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14925-3106-45BF-98E4-2ABACC9E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B3628-2D18-466B-A652-4CCDB6A1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EF39A-DE20-445D-9B5C-EE61FD39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0EEEE-29DC-4619-AEA3-1A6B2920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4541F-927A-4A13-9BC5-4AC94E0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42E9C-8B30-44A7-A24C-847E9C0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30976-D6C1-4A02-91F8-74801E4C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C03A1-F852-44C8-8B05-4AE33684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CC1D9-5914-40AA-9CC4-24FD48C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3CABA-E1A7-4E7B-AD09-CE3E9B4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5A-757B-427F-80C0-3ACD5D3A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A9559-4B2D-403C-97BE-94DE3A6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36A6-A548-46F7-9D4F-B6681137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2CC01-4D38-4E4D-BE78-0B8D1A18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A8BA2-8313-4A5B-BD16-DA4B52A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69D4B-AE1F-4F34-9A1E-E6FD7D14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31D63-F68D-4EC8-9D5C-211C98C7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85EE5-9D3D-4BB5-B7D8-8DEEDE9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08FF-F842-42B2-A5AD-666BED5A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D195-B690-41C6-B84F-C4FE1F09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35A6-8580-4E3A-BA94-9D39F4C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486-1389-4E33-9C31-A2F146DC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E1389-CFD2-42A7-9DB2-8BADAD9A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4E987-E9C4-49A1-9EBF-40B1C1EE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6D8CE-594F-4ACA-B09F-82DCB64E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BC651-5AA3-45F3-A4B4-9D6E31A8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D97A0-2D33-42A0-8648-C087AAD6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46EE4-1BEE-4FFF-9340-6C074006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E7989-CE0F-4AAE-B6EF-724BE96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99C69-DCB0-4B5C-852C-5E7117CF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84633-5CF0-41AB-96C0-5EAE1A43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A744-6EDE-4E6F-A07D-E39D40A8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E3A-71C0-4EC4-B37A-58B537D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A945-40E3-4FCA-BEE7-B3E44523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9CE7-D41F-450E-B0E7-55D1741C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C0502-49EE-42E6-9AAF-9D7BC67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D2F58-E826-4A12-B0F0-032F05FE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AB327-423E-48EB-92D7-CB1DDDAF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8B8A-3A5D-4F86-B5E9-88C97DA9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C44AD-CCE7-42ED-9497-9166A3A5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ABF7-936F-4FAF-9AA1-98F4870A33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B62E-7433-448A-9521-7041ADF3337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8C9E-B336-4ABC-AB58-191FD13DD8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B8D5-8653-4016-BE23-10E8699461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DE78-FDD6-4E79-A088-B45AA6139B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797C-7852-45EF-AD7A-188BB12EA55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7D7E-2388-4647-86EC-A2920F88FF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8978-76C3-4FE4-99C9-16AD8F3A9A1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polynomials p(x), x – c is a factor of p(x) if and only if p(c) = 0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 the Factor theorem to show that -4x + 3 is a factor of the polynomial p(x) = -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x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ro of -4x + 3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4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1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3(3/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26(3/4) – 3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e:  For any positive integer n, show that x – 1 is a factor of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rue only if p(1)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 raised to any power is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  = 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a polynomial p(x) and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the quotient polynomial q(x) obtained when p(x) is divided by x –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then c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zero of p(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all the zeros of the function p, whe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(x) = 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ph it and find a zero!  -2 so x + 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19x + 42 ÷ x + 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20x + 2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(2x – 7) (2x – 3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7/2   and x = 3/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olynomial of degree n has at most n zer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nomial Graph Wigglines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p(x) be a polynomial of degree ≥ 1with real coefficients.  The graph of y = p(x) can cross any horizontal line y = k at most n tim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ighest power of (x – r) that appears as a factor of that polynomi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+ 2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( 3x + 5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zero x = -2 has multiplicity 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1905120" y="914400"/>
            <a:ext cx="5219640" cy="51436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952880" y="5333760"/>
            <a:ext cx="373392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x – 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x+4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Pages 245 – 247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Lucida Sans Unicode"/>
              </a:rPr>
              <a:t>1 – 9, 13</a:t>
            </a:r>
            <a:endParaRPr b="0" lang="en-US" sz="8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02:17:37Z</dcterms:created>
  <dc:creator>teacher</dc:creator>
  <dc:description/>
  <dc:language>en-US</dc:language>
  <cp:lastModifiedBy>Laura Helbing</cp:lastModifiedBy>
  <dcterms:modified xsi:type="dcterms:W3CDTF">2011-12-05T13:46:27Z</dcterms:modified>
  <cp:revision>4</cp:revision>
  <dc:subject/>
  <dc:title>Zeros of Polynomials</dc:title>
</cp:coreProperties>
</file>