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F5F6-CD13-4573-8C6B-14C68306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87C8-6221-4760-98D9-9CD82B77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55EE-DEE7-461D-8174-78906F0E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6E05-B2FB-4A0A-B6C0-DB597BB4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4BFB-AF1F-467B-9505-E8A658B4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3CD6-A188-438E-9C1B-47AD849B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FD3D-946F-4417-BDC5-C40AE2EB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40F4-6091-4118-BC8B-EC4DECBA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9C7B-7112-47AA-8197-EEA510B3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6CCE-8F9D-4F7F-8B45-8B0B5719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F804-DC84-4AA7-BCE4-F2028914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8A5A-F491-4A83-8A85-65798ABE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BFAD-38E3-4B81-BCF3-C4EE33D9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CB01-4184-4D0D-9766-6E1B11B8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E752-D1C5-4AB6-9550-E15C99A6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7B9B-5347-4BB0-A4C2-F5331011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57F4-A9C2-46B1-A53C-9129895D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B7615-590C-41E5-9629-C100E5ED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9E583-1C75-43AA-86C6-F9687C22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EC04A-7AF7-4F65-AC82-4D5D53B5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EE2CF-AAD0-491D-88F3-1A5163019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CC53F-8090-4D03-A73F-337DE5EE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146-C13D-4DAA-B7B7-B039D29B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93D95-FFEA-454B-A61E-6BA65A4A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38E44-9625-4D0D-A7CA-F642378F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C8B49-876B-488E-8873-7B5DB95D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8193A-2F5C-406B-ADE0-38D1EB10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A3C0F-8AF2-48C8-B64B-E6303791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525F8-50D7-4C6E-BE00-2322611B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44B4C-207F-42D5-AF79-0A4CC96E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67065-10E0-4A0B-B5F8-3E9F41FE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D50FF-AFAB-47EA-A420-E8D4F59B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781BB-B405-4C43-A460-235FE966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7436-E50A-40C2-A6DA-0C15150F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87A9F-A6D4-4F69-8514-5227212E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D5264-A1F3-43F1-A86B-22EE074C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0008D-8E0E-4EA9-87F0-B81C7608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335C5-CF70-46B5-9C4D-E01AC7C1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C4B42-EEA1-4547-8A7B-7C29A43B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65D25-9235-4AFC-970D-75CE14D7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868DD-EBE9-40D2-97AF-A5C39775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1FDC4-6B25-4C93-AF3F-832A814D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96AB5-A340-4FF1-8A1C-C825BB0B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0D995-A579-45C9-847A-6F919941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C413-C594-44D5-8E5C-4714D61D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BA954-7845-49F3-B301-8B828C49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001CF-D80B-4953-B8E0-39BAD2EC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9CFBD-B405-4A7A-BBBD-E38FB2D7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D5C6B-0773-4779-8386-46D0F231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898D0-4031-4283-8136-5BF69761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69B80-A0E8-4D14-A180-512E4859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B1212-5973-43BA-A905-EE9F634A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A7470-5A64-4A2E-8E06-557EF848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BA0CF-8647-43D1-85BF-51FB3990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FB499-E8B0-4A33-B067-A53ACF94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A9F6-1C8A-468A-80CA-6368317B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8F9A3-9AEF-4A6A-BEEB-79BE7C90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B00B2-0309-4D0D-8FE4-78D42D64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B37EB-898C-4DD1-9464-7B223AEE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52734-4E6D-4026-8675-422B2D0A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D70B2-4DB8-40F1-B5D8-77F80691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05265-ED0B-4CBC-AC86-272AF31F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D953B-B4A4-4207-A0E3-9CBA7127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82EF9-643D-49BF-A4E4-A32963E6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087E9-40BE-45CC-9A15-938944AB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543F0-46BE-4A32-B70D-825068DA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475-D428-429B-877C-75848502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FED48-48BE-4DFD-A120-D76C6DE3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1F50F-C257-4D86-984E-DDF114D2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45987-30C1-4445-BFA2-F03CE31F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65441-C872-403D-B7FB-5435DCBE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D0DF5-E0F4-4E9B-98BC-6F50E0F9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478CC-6162-42B7-82D9-7982E9A5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A33A9-1058-4E3B-98E7-BEE64CB0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0CB49-A915-49C7-AD62-2AA49E85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F16CD-B3F5-4F18-9168-C3C8D880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9DA9C-AF4E-4A54-8CE2-755914E9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D7E2-583F-44DD-8D52-30F6E522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32B36-4E11-4432-BB50-A27E5432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ECF87-D25E-455A-B207-FE2E14A0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1FE92-4796-4A40-B554-B4B45F14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A9DC0-0A3C-4AD0-A333-EF332347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0E8B4-6B8F-46BF-BCF7-7BE6607F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39DA9-61F3-4C84-95A7-45B6A23C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7774B-541E-416C-BEAC-FC7952BB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0840C-9DCE-4C22-8946-2F692272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16618-82BE-42E1-BCEF-76DB75C4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3D99E-657A-4C3C-BF64-7D68744C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3208-046A-4418-8D20-2DE5CE37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B6CF2-249D-420F-8F38-8FA8D8AC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4E379-42D6-4381-A18D-CF8B83CD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D97E8-6F60-4361-A4EB-F2096D69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D82E5-6B45-45C8-9480-98B3A2CC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337F7-433C-4200-8D9C-6BADC841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17886-A922-41AD-93AB-3E02B494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14ABC-F1F9-49F8-A941-4E077195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9017-44EA-480A-A519-7CC609533AD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1D8A-D925-4977-9E13-AB1E23AF0A6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2924-731E-4F55-8EF4-E88DB590411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678D-781E-42D5-AE9B-D9306C5BB47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E061-8ACE-42AB-B055-49A579A2061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4348-1ECF-40D1-ACA5-4C9E1BEBB26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1984-2F44-4F88-8764-81D92678350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64D3-BC0E-443F-9085-CACF49EE051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Lesson 4.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all polynomials p(x), x – c is a factor of p(x) if and only if p(c) = 0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the Factor theorem to show that -4x + 3 is a factor of the polynomial p(x) = -4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31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3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26x – 3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ro of -4x + 3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4(3/4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31(3/4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3(3/4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26(3/4) – 3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ve:  For any positive integer n, show that x – 1 is a factor of 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true only if p(1)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 raised to any power is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  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 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a zero of a polynomial p(x) and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a zero of the quotient polynomial q(x) obtained when p(x) is divided by x –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then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a zero of p(x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nd all the zeros of the function p, wher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(x) = 4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2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9x + 4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ph it and find a zero!  -2 so x + 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2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9x + 42 ÷ x + 2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20x + 2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 (2x – 7) (2x – 3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7/2   and x = 3/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olynomial of degree n has at most n zero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lynomial Graph Wiggliness Theore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 p(x) be a polynomial of degree ≥ 1with real coefficients.  The graph of y = p(x) can cross any horizontal line y = k at most n tim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ighest power of (x – r) that appears as a factor of that polynomia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x + 2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x – 3)( 3x + 5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zero x = -2 has multiplicity 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1905120" y="914400"/>
            <a:ext cx="5219640" cy="51436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952880" y="5333760"/>
            <a:ext cx="373392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x – 3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x+4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Lucida Sans Unicode"/>
              </a:rPr>
              <a:t>Pages 245 – 247</a:t>
            </a:r>
            <a:endParaRPr b="0" lang="en-US" sz="8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Lucida Sans Unicode"/>
              </a:rPr>
              <a:t>1 – 9, 13</a:t>
            </a:r>
            <a:endParaRPr b="0" lang="en-US" sz="8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02:17:37Z</dcterms:created>
  <dc:creator>teacher</dc:creator>
  <dc:description/>
  <dc:language>en-US</dc:language>
  <cp:lastModifiedBy>Laura Helbing</cp:lastModifiedBy>
  <dcterms:modified xsi:type="dcterms:W3CDTF">2011-12-05T13:46:27Z</dcterms:modified>
  <cp:revision>4</cp:revision>
  <dc:subject/>
  <dc:title>Zeros of Polynomials</dc:title>
</cp:coreProperties>
</file>