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2D58-6432-43E2-B6DF-58ECA443C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470C-C41D-4C04-8EC6-9A5126ED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5CD3-D356-43AB-8606-604BA92C6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5F9C-0F24-4CA1-8945-F09BA4E63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0E7E-7245-404F-A130-A7195B2D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E935-4045-4F63-A56B-065CC5CC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FAEA-1930-4773-8585-3E1C90AE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9D20-B445-466B-AA86-F1B55C45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E8C5-1D3D-4F74-B5AE-2ADA549E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BB76-142F-48A1-9F53-142804FC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05C6-ADFF-4825-999B-3A4D53FC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A371-EFD2-4659-BAED-D9D66641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29DC-7B9B-4399-A772-020FABB1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9AF9-1A96-4A74-BF3A-6D399499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5391-F657-49FB-A280-39C5EB9C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1930-576B-4A9E-B662-53E1A8AB9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F846-0007-409F-A46F-50B523E69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ED311-3881-40B9-958A-C4CDED46B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4C50F-EE9B-4F65-861F-A54BC243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FB966-213C-4485-B47F-1B3FE6CE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4FCC5-74D3-4480-A236-FEB31F45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92900-3543-4F5D-888F-8DD6CB00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3A45-A469-49BD-B0E2-414EB3C8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1495C-97C0-402C-9019-19A733DF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226A3-6437-4428-8F49-C7C03FC8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ADC9D-F63C-4007-826A-CEDE1966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B91BC-EEC7-4C4E-A423-73510E34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37FB8-7F6A-46DB-A7D7-9FE76B33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23150-C306-4BCE-B098-E0596EF8B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94E8E-ABF1-4BAE-A478-620B59DED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676A0-3E63-4D76-8F71-E1364B02E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1E748-DC5B-4979-B74C-55630F8B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2C7EB-4D41-444C-9D48-B107FC50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36E5-B7AD-4870-A5C5-D71C7175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59724-9583-4E22-B09F-21BAB7B0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45BA2-7D61-4048-8A86-066C9D90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D9840-B297-4BD7-9B6A-928C2F90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56DB2-F0C3-4754-B6DF-6B608199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6E3B9-0A80-4948-A78D-6F94D710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A925C-29E6-44B8-AACF-2E7626CF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A6215-2A08-458A-BD60-DB130633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A85E3-A0F5-46C2-BA28-0B39B8E25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BE253-5A5D-4496-93D7-FF7E41EA3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1DE2B-2BA7-4AAC-A853-CD5844498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8402-8C16-4440-9FE1-0DCCD273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6944A-D198-4AD3-8450-CEB5E728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27BD7-8206-42E5-9148-222A0204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F9ADA-6808-493D-89BF-4C6AA644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3319F-14DA-418C-B07B-F7D9DF2B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21EC7-5CDA-414A-B125-40256EF0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ADDF4-A543-49AA-9C4C-A52FA5E8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9FABD-DF98-4BC2-94EA-2A0EC60C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DBE86-A12F-4C35-AB46-058372A9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6619A-1F99-4793-AAFE-1FCE14B7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581BE-0CED-4E10-BFC4-610F04BEE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57E4-9F72-4432-8637-6209D158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DFCD6-9166-4C32-ABE9-8E209AACE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F5E63-3112-4DB9-96E6-F5816ADB7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33473-B4AF-44B3-B39E-CFCF1088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B88BA-36AA-4B71-B762-226AF0A1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ABC9C-3998-4EE7-92CF-C3237EE3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2CCF9-C8FB-4E8F-B42D-B93ACE37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E0FCC-437E-4A5B-94A8-88E4B9C1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8F04E-343C-4677-B1A0-FFCE2C70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0ECA7-55D5-412F-81EC-EA8E7698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FF3D0-3C74-4C56-B88B-3048C8B3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6FB9-248B-4E0B-A235-A3B9FED2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EE1D7-7C9A-46C3-854F-2270D60D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78A97-1CDB-419F-B360-B2D336588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55CB2-7C78-4DA8-AB4C-3AF9235EA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2A0B6-A1B7-4C9A-A66E-4C7F9AA05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6F2CD-5F18-4DD0-B8D9-8C3DDF74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0E7DC-C6C6-416E-BA0B-8BE9DE8D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157FE-185F-4CCB-B66C-6411F5F5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1200F-74C2-4CAE-8CA5-480D41A9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C2A9A-F811-4EE0-91A7-AF29B6A0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98F8B-5175-4B77-B703-AB115715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59DC-4A35-4998-8FCD-310D0623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4050E-0906-4387-A5EA-6638E3FD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0D85B-7CCF-468B-BADA-A016B4BC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63A97-5099-4C69-8B7E-ADA0D25A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75005-E736-4EC3-BFCE-6F2D7EE08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1EC26-61F7-4AF3-9899-71F3A1936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0A798-E853-4880-BAC9-6C71A07A8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81208-5DF8-4D5E-90BB-83202E8B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63F1E-618C-41AF-ADB6-5E10E029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98472-9E1C-4E5C-AAA9-DA492B5B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31918-AAFA-40DB-BCE4-AEF85E3D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6F05-EDB0-4F28-BB54-9D28A73D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F9457-ECF1-4335-90B7-3D7C0AC3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6A0EC-3FB9-4F18-8F79-679F0B10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14A42-C0BA-495C-B06A-6ED9D6B1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4C154-AF99-4184-BC06-7E1C58B4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39C39-E64D-4355-82EC-A52CC735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B5F34-0B14-4556-8A88-72686B009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8D991-F772-4D1A-8694-24E16BA17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409D-7718-4E9D-B011-B2E346BA1E5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CBE5-FEA3-4362-B083-6C57625E96C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2B40-342F-4DE6-9F8A-31C6D8E4CF0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2769-E7FC-4AF6-96EE-C929B966268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13B6-E46B-4334-93A1-1A4890E3033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4C6D-E4B1-4B0E-8B77-21BBB509046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DA78-4198-4C42-9A32-0E26E86EFAD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92B3-251F-4F19-928A-01701EDF38F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Lesson 4.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all polynomials p(x), x – c is a factor of p(x) if and only if p(c) = 0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the Factor theorem to show that -4x + 3 is a factor of the polynomial p(x) = -4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31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3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26x – 33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Zero of -4x + 3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¾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4(3/4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31(3/4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3(3/4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26(3/4) – 33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ve:  For any positive integer n, show that x – 1 is a factor of 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1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is true only if p(1) = 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1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 raised to any power is 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  1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1  = 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s a zero of a polynomial p(x) and 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s a zero of the quotient polynomial q(x) obtained when p(x) is divided by x – 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then 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s a zero of p(x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nd all the zeros of the function p, wher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(x) = 4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12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19x + 4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ph it and find a zero!  -2 so x + 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4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12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19x + 42 ÷ x + 2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4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20x + 2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 (2x – 7) (2x – 3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 = 7/2   and x = 3/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polynomial of degree n has at most n zero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lynomial Graph Wiggliness Theorem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t p(x) be a polynomial of degree ≥ 1with real coefficients.  The graph of y = p(x) can cross any horizontal line y = k at most n tim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highest power of (x – r) that appears as a factor of that polynomia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x + 2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x – 3)( 3x + 5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zero x = -2 has multiplicity 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"/>
          <p:cNvPicPr/>
          <p:nvPr/>
        </p:nvPicPr>
        <p:blipFill>
          <a:blip r:embed="rId2"/>
          <a:stretch/>
        </p:blipFill>
        <p:spPr>
          <a:xfrm>
            <a:off x="1905120" y="914400"/>
            <a:ext cx="5219640" cy="514368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952880" y="5333760"/>
            <a:ext cx="3733920" cy="67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x – 3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(x+4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Lucida Sans Unicode"/>
              </a:rPr>
              <a:t>Pages 245 – 247</a:t>
            </a:r>
            <a:endParaRPr b="0" lang="en-US" sz="8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8800" spc="-1" strike="noStrike">
                <a:solidFill>
                  <a:srgbClr val="000000"/>
                </a:solidFill>
                <a:latin typeface="Lucida Sans Unicode"/>
              </a:rPr>
              <a:t>1 – 9, 13</a:t>
            </a:r>
            <a:endParaRPr b="0" lang="en-US" sz="8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02:17:37Z</dcterms:created>
  <dc:creator>teacher</dc:creator>
  <dc:description/>
  <dc:language>en-US</dc:language>
  <cp:lastModifiedBy>Laura Helbing</cp:lastModifiedBy>
  <dcterms:modified xsi:type="dcterms:W3CDTF">2011-12-05T13:46:27Z</dcterms:modified>
  <cp:revision>4</cp:revision>
  <dc:subject/>
  <dc:title>Zeros of Polynomials</dc:title>
</cp:coreProperties>
</file>