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AD0-175D-4388-99E6-F43D5A1B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902-12C8-4DDF-AB6F-19E98C8E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C55-4381-47FD-95F7-86F473D6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A2B-BED7-43AB-BDCD-057429D5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6922-1D02-4A66-9873-2F890918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2326-A9D1-4C44-AFFE-EC00B062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586C-9B66-4176-A30A-5A62ACF1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8965-A79A-45F9-BD00-34BCE2F8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2D6F-C3CE-442B-870C-3E6B2E33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0F0-AD68-4C0D-9F29-C40B0D5D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CF1A-99E6-4265-A8F5-D927814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9D0-4B39-44D8-8678-B2FA57DE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8E81-A607-4A54-B042-656DED4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92E2-122B-48FD-BFE9-D03DC351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C1F1-1DC3-4303-97A7-C2B4569D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BE61-08E4-457B-B2F4-F92947F5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B87-E3A6-4ADB-8304-B013AEF2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1DAE6-D4D5-4BE7-9922-500C4F69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C84A9-94B8-40B1-83C3-D0FCCA0A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F5A66-2ADE-49C8-B6B3-32726CF1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C57F1-E665-4E1B-8A95-F37AD37B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56E0A-C447-4DA6-92D2-5BC943F8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A38-E75F-4363-9D44-DEF44CE4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5AC48-4940-4A42-9E4C-586939D3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1989A-47F9-48C8-B373-CF8707B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31646-60AB-433D-B4C4-600BABC6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AEE52-B0B4-4938-AF3F-28C0D840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8E819-FD98-4A94-86BF-F5D06CE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86A1D-7C98-4677-92A0-E91DD261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8E061-87D8-475B-8758-A2AD9892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A096-584E-4519-A0FC-5CBBF1E0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A5C4-8542-4E2F-B0AC-51C07A68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38A53-97CE-4BA9-B476-3B29D81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EA0-C975-460B-A9D3-AB223D3C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70F65-AC16-46B1-B044-C6BE6C9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7DDB-0E53-4A50-8593-3AE12202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1E3E6-8C4A-48AE-90AD-4C1588EB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C104-D8C7-4644-9448-8D28638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C479-EE64-4BA7-9E07-BC0E63A0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D4FB8-F739-4486-A66B-68BDE326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B10B-C3B5-4680-83BC-D8962072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819C-9B7C-432E-AE98-2F8B2FEF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B143-3271-4EF5-BECE-BB107C5F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C5E07-5AE9-4CD4-B64B-E2CB1E01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2EF-C0E1-46D0-9BE2-4A6C5F48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77F5E-7470-48E6-93FE-43929AA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D4D2E-4B76-43E7-B139-48C23AA4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2C274-8D41-477A-810A-1EDEE342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0A888E-D915-475B-99E2-69F2EE04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477EC-A047-4479-A95A-34C87040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838DB-2051-4CE5-9B4F-ECF6EC2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FDDEE-475A-4E3F-B36A-4BBB3FD1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65919-E78C-4E90-A023-4179A86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ACCA8-A09A-46EB-B0AA-1F230F58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FF422-6C09-45B6-865F-3A61E0ED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2FD-B6FA-49DE-AEB3-A624B3ED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D16061-ADFB-4591-8800-F1CF4F00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C8B25D-7F2B-4B65-8F8F-D1649D45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FE195-3CF3-4A0F-8822-9107825A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125E5-6865-4DE0-A61E-B396995D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6F392-E52F-447F-92D6-481023D2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4762F-97E7-4E2D-9659-CCA66FA7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639088-E6F7-4A9F-BEDE-8F4269D6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BCA951-4BAF-49F0-858A-763B709F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E7538-AE4A-4AB7-9AFF-DAADFE33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E2C7AD-5AC7-4453-B02D-AB51790E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B102-9C7A-4647-925F-EC6E4A5B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A8E9B-85A2-4EB1-8CF6-AB7EA247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2642A-EF26-421D-9FB9-3CE4E644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BB159-0C97-4FDD-A53E-A180E484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FC49A-B77A-4B74-8398-F7C9B1D7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74E51-0FE0-4FC4-90AB-A5497FB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DD320-B7DF-4835-B281-B17269F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201337-734C-48BC-82D6-C563EDA6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FCDD8-3A17-4184-AB65-BE61469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2E388-CDE8-4A2A-A872-EC95B8D5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7AEE1-AAE5-4A48-A5CF-BD5F174E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6AD-DA4E-4D5C-BBCE-5B75B3BD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CA4A6-BBC9-42BB-9A9C-A8062777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AFDC1-A43F-43C6-AC87-0471B6E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5465F-9949-4208-AF0C-4D3F9ABE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247FC-66AB-4468-B108-40601A4C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879DE-B6E6-423A-B11E-FBD4BD87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947-0F15-4999-8848-9CB7121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C594-59FC-43E2-B823-6F5FBCDA3B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6F64-6786-446D-A4D1-9DDAB87A34A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7609-222C-4260-B5BD-AAE34E473C0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5995-2727-4E97-B8DE-02CB4B24D9F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E9AD-2AD2-4A73-92A6-4A4A73416B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64FB-5E94-4443-A0CE-408972C7EB3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78C-18C9-46A5-92B7-43CEF0FE2E8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urvebank.calstatela.edu/volrev/volrev.htm" TargetMode="External"/><Relationship Id="rId2" Type="http://schemas.openxmlformats.org/officeDocument/2006/relationships/hyperlink" Target="http://www.intmath.com/applications-integration/4-volume-solid-revolution.php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VOLUMES OF SURFACES OF R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14.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Pages 849 – 850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entury Schoolbook"/>
              </a:rPr>
              <a:t>3, 7 - 13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DEA OF S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are taking an area and rotating it around the x-axis.  By doing this, we are creating a 3-d figure, and therefore can find the volume of the figur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imation: </a:t>
            </a: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curvebank.calstatela.edu/volrev/volrev.ht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intmath.com/applications-integration/4-volume-solid-revolution.ph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?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ing integrals, we are able to create (or prove) formulas for various geometric fig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PROCESS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ke the integral that you would use to find the area above the cur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quare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y it by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aluate the integ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t’s try one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region bounded by the line y = 2x + 1, the x-axis, the y-axis, and the line x = 10.  Find the volume of the solid generated by rotating this region about the x-axi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2"/>
              <p:cNvSpPr txBox="1"/>
              <p:nvPr/>
            </p:nvSpPr>
            <p:spPr>
              <a:xfrm>
                <a:off x="0" y="3809880"/>
                <a:ext cx="21812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2514600" y="3733920"/>
                <a:ext cx="26384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5626080" y="3657600"/>
                <a:ext cx="35179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5"/>
              <p:cNvSpPr txBox="1"/>
              <p:nvPr/>
            </p:nvSpPr>
            <p:spPr>
              <a:xfrm>
                <a:off x="-34920" y="5421240"/>
                <a:ext cx="35877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4114800" y="5486400"/>
                <a:ext cx="137160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63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7"/>
              <p:cNvSpPr txBox="1"/>
              <p:nvPr/>
            </p:nvSpPr>
            <p:spPr>
              <a:xfrm>
                <a:off x="6553080" y="5715000"/>
                <a:ext cx="1371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49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: </a:t>
            </a:r>
            <a:r>
              <a:rPr b="0" lang="en-US" sz="3000" spc="-1" strike="noStrike">
                <a:solidFill>
                  <a:srgbClr val="575f6d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ND THE VOLUME O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7146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ll be a c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adius: r (constan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ight: 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rcRect l="85809" t="16842" r="6053" b="73496"/>
          <a:stretch/>
        </p:blipFill>
        <p:spPr>
          <a:xfrm>
            <a:off x="304920" y="1447920"/>
            <a:ext cx="5029200" cy="3730680"/>
          </a:xfrm>
          <a:prstGeom prst="rect">
            <a:avLst/>
          </a:prstGeom>
          <a:ln w="0">
            <a:noFill/>
          </a:ln>
        </p:spPr>
      </p:pic>
      <p:sp>
        <p:nvSpPr>
          <p:cNvPr id="370" name="Straight Connector 5"/>
          <p:cNvSpPr/>
          <p:nvPr/>
        </p:nvSpPr>
        <p:spPr>
          <a:xfrm flipH="1">
            <a:off x="2741760" y="1982880"/>
            <a:ext cx="2880" cy="2971800"/>
          </a:xfrm>
          <a:prstGeom prst="line">
            <a:avLst/>
          </a:prstGeom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5943600" y="4419720"/>
                <a:ext cx="178452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Content Placeholder 3"/>
              <p:cNvSpPr txBox="1"/>
              <p:nvPr/>
            </p:nvSpPr>
            <p:spPr>
              <a:xfrm>
                <a:off x="457200" y="0"/>
                <a:ext cx="2100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Content Placeholder 3"/>
              <p:cNvSpPr txBox="1"/>
              <p:nvPr/>
            </p:nvSpPr>
            <p:spPr>
              <a:xfrm>
                <a:off x="2738520" y="0"/>
                <a:ext cx="31766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Content Placeholder 3"/>
              <p:cNvSpPr txBox="1"/>
              <p:nvPr/>
            </p:nvSpPr>
            <p:spPr>
              <a:xfrm>
                <a:off x="127080" y="2438280"/>
                <a:ext cx="292104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Content Placeholder 3"/>
              <p:cNvSpPr txBox="1"/>
              <p:nvPr/>
            </p:nvSpPr>
            <p:spPr>
              <a:xfrm>
                <a:off x="3276720" y="2438280"/>
                <a:ext cx="3022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Content Placeholder 3"/>
              <p:cNvSpPr txBox="1"/>
              <p:nvPr/>
            </p:nvSpPr>
            <p:spPr>
              <a:xfrm>
                <a:off x="201600" y="4597560"/>
                <a:ext cx="338148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Content Placeholder 3"/>
              <p:cNvSpPr txBox="1"/>
              <p:nvPr/>
            </p:nvSpPr>
            <p:spPr>
              <a:xfrm>
                <a:off x="3809880" y="4800600"/>
                <a:ext cx="2511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π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Content Placeholder 3"/>
              <p:cNvSpPr txBox="1"/>
              <p:nvPr/>
            </p:nvSpPr>
            <p:spPr>
              <a:xfrm>
                <a:off x="6581880" y="4749840"/>
                <a:ext cx="18446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π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60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about our semi-circl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78126" t="15000" r="5625" b="66004"/>
          <a:stretch/>
        </p:blipFill>
        <p:spPr>
          <a:xfrm>
            <a:off x="0" y="3200400"/>
            <a:ext cx="5005440" cy="365760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2"/>
          <p:cNvSpPr/>
          <p:nvPr/>
        </p:nvSpPr>
        <p:spPr>
          <a:xfrm>
            <a:off x="3429000" y="6019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*remember r is a consta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Content Placeholder 3"/>
              <p:cNvSpPr txBox="1"/>
              <p:nvPr/>
            </p:nvSpPr>
            <p:spPr>
              <a:xfrm>
                <a:off x="5181480" y="3352680"/>
                <a:ext cx="348156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Content Placeholder 3"/>
              <p:cNvSpPr txBox="1"/>
              <p:nvPr/>
            </p:nvSpPr>
            <p:spPr>
              <a:xfrm>
                <a:off x="0" y="0"/>
                <a:ext cx="34815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Content Placeholder 3"/>
              <p:cNvSpPr txBox="1"/>
              <p:nvPr/>
            </p:nvSpPr>
            <p:spPr>
              <a:xfrm>
                <a:off x="4537080" y="0"/>
                <a:ext cx="46069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Content Placeholder 3"/>
              <p:cNvSpPr txBox="1"/>
              <p:nvPr/>
            </p:nvSpPr>
            <p:spPr>
              <a:xfrm>
                <a:off x="0" y="1752480"/>
                <a:ext cx="3890880" cy="18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Content Placeholder 3"/>
              <p:cNvSpPr txBox="1"/>
              <p:nvPr/>
            </p:nvSpPr>
            <p:spPr>
              <a:xfrm>
                <a:off x="5410080" y="2057400"/>
                <a:ext cx="389124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Content Placeholder 3"/>
              <p:cNvSpPr txBox="1"/>
              <p:nvPr/>
            </p:nvSpPr>
            <p:spPr>
              <a:xfrm>
                <a:off x="0" y="3657600"/>
                <a:ext cx="42498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Content Placeholder 3"/>
              <p:cNvSpPr txBox="1"/>
              <p:nvPr/>
            </p:nvSpPr>
            <p:spPr>
              <a:xfrm>
                <a:off x="166680" y="5391000"/>
                <a:ext cx="637236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Content Placeholder 3"/>
              <p:cNvSpPr txBox="1"/>
              <p:nvPr/>
            </p:nvSpPr>
            <p:spPr>
              <a:xfrm>
                <a:off x="7238880" y="5219640"/>
                <a:ext cx="14842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2:35:53Z</dcterms:created>
  <dc:creator>Laura Helbing</dc:creator>
  <dc:description/>
  <dc:language>en-US</dc:language>
  <cp:lastModifiedBy>Laura Helbing</cp:lastModifiedBy>
  <dcterms:modified xsi:type="dcterms:W3CDTF">2012-08-14T13:56:35Z</dcterms:modified>
  <cp:revision>4</cp:revision>
  <dc:subject/>
  <dc:title>Volumes of Surfaces of Revolution</dc:title>
</cp:coreProperties>
</file>