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92C-8618-4AC1-AEDB-26F55104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85F-6176-496A-83AB-B8E5EB2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6B2-78FD-466E-8E87-0B9D3F1C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1D0-7C99-4BC2-B996-A744029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CD4B-2B28-4C49-B73F-AF120621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284F-ACAD-4BEC-A2D6-7EF16FE4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90A9-AD1B-4D57-9E59-DBB05358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E29D-B126-47D8-8CBC-8A5F22E1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0117-63A6-4477-B0C1-6EED16A3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4DE3-28F0-4EB6-927D-09F12BC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CECE-D756-48AB-9EC1-459EFFFB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D70-D75C-4E5C-B09B-E2530924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B7D6-0D05-45EF-84AC-449F4325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F2D3-1957-451E-8F10-D7EFE838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D49-EE9B-400E-A529-FF1146AA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899D-B840-4B9E-AFD8-8275A8FF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FC8E-3972-4282-A3A6-D207B33C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A52A2-C851-45EF-8356-73B62FB8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D8DB7-827D-4BA8-9AC0-D30F8F4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96C6A-343D-465F-8D99-78A7278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BAEDF-AB53-47AA-815D-80F8AF44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D0B90-02C4-4C2D-8A4F-1FDD601C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0A2-2AC5-46CD-8A34-9C1F8DE4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B0B62-9B5D-41F3-A81F-C6C8389D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709A6-13D4-4651-BACC-7BB9D002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C7536-9399-45B1-B679-FEA90E5D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8BC82-1867-42C3-9B5E-F807B60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6652C-59FF-4339-9081-12B5FA9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2F765-CD54-40B6-ACC2-7D042B78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804A1-F7E0-4208-9604-ED9ABD7C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6155-82EB-4D6B-93FE-FAA9B962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AEB3-E223-478A-BF6B-B1DC3F0B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8F49-A666-4E7B-B25D-6F53974C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632-5389-4A3B-B78C-521FC09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C287E-E0AE-4211-8B3C-92E75E25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1F02-9959-4D33-B813-16897F7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D2E5-B003-4A27-AE0E-28CC518B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40B8-A85F-4D80-8993-8EB3D5B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E7C1-6BB4-4C31-BFCA-EBA41A4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96F6-1D0F-4529-9B5E-625C0B3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FC17-A095-4386-95F9-179FD47D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CD43-E4DE-4892-B5A0-95FA48F5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4387-A162-426E-8775-A266C9C6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A7125-7274-4B30-88EF-D8893853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61B-44AA-4F5E-AC67-15EBB96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30C71-2458-4AA9-B1AD-EC6FCF05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DB1AE-9FAA-48B1-904D-0591611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10A40-59E7-4BC5-BD42-E8AA2C3A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E78F5-2EDA-4DF3-86D3-3232262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27913-C784-409E-A65C-35D6E87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AC810-D485-47FF-8187-82EDD84F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DD064-53A2-41A9-A5F4-EFE8CEFC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C92EA-9CD9-4B67-AC3E-7DE5C87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F6130-9835-4711-B96E-097D19E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2E782-FFFF-4F48-8F2D-2E33EF0F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96C-50E9-4CDA-B4AE-1AEA5698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FEE60-31A8-4981-8348-5D7A95B2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88701-A0CD-424C-A846-B7C2D18C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C6F5F-42ED-48A7-916B-D8B76EA1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87B61-2C3E-4837-BBD7-3E54AE8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6962A-47AE-4753-A53F-BD47D0A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4823F-D1C3-4A0A-921E-F768021A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1CEE0-D926-428E-8CBC-8AA3E00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01F8C-C88A-46E4-B441-197F62D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17CE7-F870-4B08-A174-CE480D8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17FC4-48B6-4A87-8F92-1362FA6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EA4-8A3D-4CAC-97CC-E469B65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8A63A-8659-4253-BFCA-BCC542C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EDC1E-511A-4798-AB93-80ED7CE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EB51F-BA5F-49A5-AD0A-E38669B1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6F4AB-EA22-4F57-AB4E-A3ED71DF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DB446-B2E9-4E5E-A9A7-E544D302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6C282-FC3D-4632-B806-9BABE0A9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ACADC-1BC1-475E-B323-9EF5009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B5894-AD80-4865-88B9-28BE896C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CCDB2-8D30-4D04-AA36-2A70AC2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07E5E-A45D-44CB-96EC-87CC1FE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1E5-C488-4B58-A716-A4051C9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0413E-03A2-42C8-BDB8-84449F4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AC948-9DBD-4FA0-9A5E-7B560EC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F4E67-3C69-4A2F-8AF3-CAAAD15B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82398-F25C-4D6C-A3CF-FF095B34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CE71C-9E82-42CE-9879-651939F7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51A-507F-459E-81D1-A048398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7730-B460-4736-B855-2DC7044D96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429-8920-4FB3-A954-EEAF6FB09E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1AF7-D2FF-4A4E-A35E-36BCA57748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AF9A-5F12-4F45-9737-15C5D760222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735-38DD-42AF-B402-3A20116D63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6DD-17F9-4424-A1F7-84EB25BF52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84F-5B01-4AC8-B8B0-B594466B5A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vebank.calstatela.edu/volrev/volrev.htm" TargetMode="External"/><Relationship Id="rId2" Type="http://schemas.openxmlformats.org/officeDocument/2006/relationships/hyperlink" Target="http://www.intmath.com/applications-integration/4-volume-solid-revolution.php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OLUMES OF SURFACES OF R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1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Pages 849 – 850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3, 7 - 1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DEA OF S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re taking an area and rotating it around the x-axis.  By doing this, we are creating a 3-d figure, and therefore can find the volume of the fig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tion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urvebank.calstatela.edu/volrev/volrev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intmath.com/applications-integration/4-volume-solid-revolution.ph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?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integrals, we are able to create (or prove) formulas for various geometric fig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PROCESS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integral that you would use to find the area above the cur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quare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y it by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integ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’s try on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region bounded by the line y = 2x + 1, the x-axis, the y-axis, and the line x = 10.  Find the volume of the solid generated by rotating this region about the x-ax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0" y="3809880"/>
                <a:ext cx="21812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514600" y="3733920"/>
                <a:ext cx="26384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626080" y="3657600"/>
                <a:ext cx="3517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-34920" y="5421240"/>
                <a:ext cx="3587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4114800" y="5486400"/>
                <a:ext cx="13716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3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6553080" y="571500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49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: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 THE VOLUME 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 c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us: r (consta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ight: 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85809" t="16842" r="6053" b="73496"/>
          <a:stretch/>
        </p:blipFill>
        <p:spPr>
          <a:xfrm>
            <a:off x="304920" y="1447920"/>
            <a:ext cx="5029200" cy="3730680"/>
          </a:xfrm>
          <a:prstGeom prst="rect">
            <a:avLst/>
          </a:prstGeom>
          <a:ln w="0">
            <a:noFill/>
          </a:ln>
        </p:spPr>
      </p:pic>
      <p:sp>
        <p:nvSpPr>
          <p:cNvPr id="370" name="Straight Connector 5"/>
          <p:cNvSpPr/>
          <p:nvPr/>
        </p:nvSpPr>
        <p:spPr>
          <a:xfrm flipH="1">
            <a:off x="2741760" y="1982880"/>
            <a:ext cx="2880" cy="297180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943600" y="4419720"/>
                <a:ext cx="1784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Content Placeholder 3"/>
              <p:cNvSpPr txBox="1"/>
              <p:nvPr/>
            </p:nvSpPr>
            <p:spPr>
              <a:xfrm>
                <a:off x="457200" y="0"/>
                <a:ext cx="2100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Content Placeholder 3"/>
              <p:cNvSpPr txBox="1"/>
              <p:nvPr/>
            </p:nvSpPr>
            <p:spPr>
              <a:xfrm>
                <a:off x="2738520" y="0"/>
                <a:ext cx="3176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Content Placeholder 3"/>
              <p:cNvSpPr txBox="1"/>
              <p:nvPr/>
            </p:nvSpPr>
            <p:spPr>
              <a:xfrm>
                <a:off x="127080" y="2438280"/>
                <a:ext cx="292104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Content Placeholder 3"/>
              <p:cNvSpPr txBox="1"/>
              <p:nvPr/>
            </p:nvSpPr>
            <p:spPr>
              <a:xfrm>
                <a:off x="3276720" y="2438280"/>
                <a:ext cx="3022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Content Placeholder 3"/>
              <p:cNvSpPr txBox="1"/>
              <p:nvPr/>
            </p:nvSpPr>
            <p:spPr>
              <a:xfrm>
                <a:off x="201600" y="4597560"/>
                <a:ext cx="3381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Content Placeholder 3"/>
              <p:cNvSpPr txBox="1"/>
              <p:nvPr/>
            </p:nvSpPr>
            <p:spPr>
              <a:xfrm>
                <a:off x="3809880" y="4800600"/>
                <a:ext cx="2511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Content Placeholder 3"/>
              <p:cNvSpPr txBox="1"/>
              <p:nvPr/>
            </p:nvSpPr>
            <p:spPr>
              <a:xfrm>
                <a:off x="6581880" y="4749840"/>
                <a:ext cx="18446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about our semi-circ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78126" t="15000" r="5625" b="66004"/>
          <a:stretch/>
        </p:blipFill>
        <p:spPr>
          <a:xfrm>
            <a:off x="0" y="3200400"/>
            <a:ext cx="5005440" cy="365760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2"/>
          <p:cNvSpPr/>
          <p:nvPr/>
        </p:nvSpPr>
        <p:spPr>
          <a:xfrm>
            <a:off x="3429000" y="6019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*remember r is a cons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Content Placeholder 3"/>
              <p:cNvSpPr txBox="1"/>
              <p:nvPr/>
            </p:nvSpPr>
            <p:spPr>
              <a:xfrm>
                <a:off x="5181480" y="3352680"/>
                <a:ext cx="3481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Content Placeholder 3"/>
              <p:cNvSpPr txBox="1"/>
              <p:nvPr/>
            </p:nvSpPr>
            <p:spPr>
              <a:xfrm>
                <a:off x="0" y="0"/>
                <a:ext cx="34815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Content Placeholder 3"/>
              <p:cNvSpPr txBox="1"/>
              <p:nvPr/>
            </p:nvSpPr>
            <p:spPr>
              <a:xfrm>
                <a:off x="4537080" y="0"/>
                <a:ext cx="46069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Content Placeholder 3"/>
              <p:cNvSpPr txBox="1"/>
              <p:nvPr/>
            </p:nvSpPr>
            <p:spPr>
              <a:xfrm>
                <a:off x="0" y="1752480"/>
                <a:ext cx="38908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Content Placeholder 3"/>
              <p:cNvSpPr txBox="1"/>
              <p:nvPr/>
            </p:nvSpPr>
            <p:spPr>
              <a:xfrm>
                <a:off x="5410080" y="2057400"/>
                <a:ext cx="3891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Content Placeholder 3"/>
              <p:cNvSpPr txBox="1"/>
              <p:nvPr/>
            </p:nvSpPr>
            <p:spPr>
              <a:xfrm>
                <a:off x="0" y="3657600"/>
                <a:ext cx="42498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Content Placeholder 3"/>
              <p:cNvSpPr txBox="1"/>
              <p:nvPr/>
            </p:nvSpPr>
            <p:spPr>
              <a:xfrm>
                <a:off x="166680" y="5391000"/>
                <a:ext cx="637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Content Placeholder 3"/>
              <p:cNvSpPr txBox="1"/>
              <p:nvPr/>
            </p:nvSpPr>
            <p:spPr>
              <a:xfrm>
                <a:off x="7238880" y="5219640"/>
                <a:ext cx="1484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2:35:53Z</dcterms:created>
  <dc:creator>Laura Helbing</dc:creator>
  <dc:description/>
  <dc:language>en-US</dc:language>
  <cp:lastModifiedBy>Laura Helbing</cp:lastModifiedBy>
  <dcterms:modified xsi:type="dcterms:W3CDTF">2012-08-14T13:56:35Z</dcterms:modified>
  <cp:revision>4</cp:revision>
  <dc:subject/>
  <dc:title>Volumes of Surfaces of Revolution</dc:title>
</cp:coreProperties>
</file>