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44D-EF39-4393-94AA-3421F51F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DF4-AD6A-43DE-A198-986DCA7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8CA-E013-4D1F-9222-37ED3F1C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EA4-551C-45D6-997B-16C7DDDC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AB9-8C4F-4CDA-93B7-CC768B6F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01A2-20E5-4A0A-BFE7-F2FB3DE5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3A6A-D777-4871-BA9F-6D9C0348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9469-5601-44EF-9A21-9DE0F3C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BC64-CD23-44D1-B05E-985DE7AC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7C20-6DF9-4A33-ABB4-63659DF6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8DEA-0093-49ED-ACBD-D6AC24F1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424-CB3E-4338-8512-34858BC1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F4AB-88BF-44DE-8255-3BF2DA81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A56E-A954-492A-A4BB-245D8799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FA4E-EA10-4B17-BAB8-73B07C5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6D4B-90F7-44CE-9068-8277BABC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BDC9-E0BF-4433-B810-D6E34722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ADA8A-4EDD-4E6C-8EF3-03E1EC17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DF72A-7762-4E66-9A13-1120324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1973C-144E-4059-B2C0-1DC689A0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2996B-97CD-4392-AC04-AB2A9B81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B88CB-23BF-49F4-BC14-A701447C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BD1-E667-4EFE-8F0A-5894B1C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BB0D4-3841-47D5-8223-4ED7D4C7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0AFA9-1921-47E2-A5B2-75F3D048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2ECA7-A356-4DB3-844E-94DE76B5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D1372-9F1C-4972-9F63-7289DFE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14EA2-F1DF-4576-898C-4BF0843C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F2C0C-9F72-47F9-BCCD-EBB22C62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4773D-766F-47C7-BEE1-C5FC5B0A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60A9C-A2DE-464C-9C3B-13C420CB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B9C9-271D-4565-998D-FFACA16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BF87-FB90-47FC-A60C-79ADE01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FFA-8843-468A-9301-79A395E5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83A5A-CCA6-4946-A479-1307224E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CF7A-06CC-4947-A0AE-7363E7D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C72C7-968D-4B2D-88F1-D9D02103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4DE4-F9BF-457F-AA8D-98F6E6A6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1FC17-88D3-4291-8A56-A7DF431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46EE-3CFA-4F12-8616-737A4325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7C07-235B-472C-A780-9BF42830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CD300-04D3-44AC-A727-5D4E2D5B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7F577-55D6-4767-9FDF-CCB6F36C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20A7F-546F-42C5-B33F-DABEF60E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CE1-9451-4A08-8F9F-E263C542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97E84-9269-47DA-BBE1-870A039C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62F95D-C1D4-4FC3-B527-82F10536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174CC-B66D-4E18-9686-2F4DDE50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65044-5B0C-4DD1-B01F-C1AEEED5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90798-2E40-4A13-82CB-149C1DC5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9C50C-BDE1-4771-B74E-EC7AE5EB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DF326-708B-4740-8DFC-AEAF579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C2239-BAD2-46E6-95D0-861AC787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ECCCD-2FF4-4F76-A5E5-AF259F50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7A1CB-C8B2-46C9-876A-7808BB41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CC6-0E2A-4B21-B112-05767465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57DD2-8C47-499F-A7BC-33EA377A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2B24B-1CC4-41D0-BE26-04810DA2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ABA487-0D44-43C9-90F8-ADF2FC4C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C2975-4AD1-4556-A067-2007C159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3D6FE-AABC-4561-B2F8-6B03EABB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E5889-08BC-4B25-B08E-E0F39498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59384-3512-4CCA-B51A-69C32E5A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333B2-AEFA-4259-812B-0F0C45F1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63351-892E-41BB-B7B9-56AE73DD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B6594-0A19-4495-969C-70195271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7E2-093D-4C46-BABA-1293E74B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1A44A-893E-4453-B57D-F1A0CADA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D19CE-64AA-411A-8544-DD65BFDE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D2A36-80E7-4F3F-981E-EA0D30F3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76277-726D-4744-A23A-EC0E6322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11CC2-9556-4E3B-9839-A983078E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E2DD76-66C6-46AA-BEE9-893E1D92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8D0A5-CD56-4D03-9122-76FB40B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B37DD-0CE8-40D7-9DB7-00EC110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C7FE5-9E6C-4A1A-A19A-319083A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BC7E9-F6D2-47D3-A218-8F7544E0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C9D-4FCA-45F9-89CE-7A101709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5CDCD-581E-41A9-A649-64F88AD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4F19C-3963-4C89-98C5-96B5D12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AD44D0-C4CE-4456-BA28-1052AA34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57F6D-61FE-4E90-A353-4E5F1CE6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7E080-54BC-4EFD-8616-6EF94158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7FD-25A5-4279-B1B5-11542B9A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27AA-A297-4C5D-AF40-09187E7734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B83-6968-446E-879F-A98E0785607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1AA-8281-4D89-9178-8E5E6423A37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DF2-3693-4E2D-B102-4C79091E6E1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480B-C982-4C7D-A72F-B59E4A8A27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F685-B55A-4F9D-B5EB-B875DA10BC3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8C8E-8E2B-48D5-99E5-6C1F132B804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vebank.calstatela.edu/volrev/volrev.htm" TargetMode="External"/><Relationship Id="rId2" Type="http://schemas.openxmlformats.org/officeDocument/2006/relationships/hyperlink" Target="http://www.intmath.com/applications-integration/4-volume-solid-revolution.php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OLUMES OF SURFACES OF R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1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Pages 849 – 850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3, 7 - 1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DEA OF S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re taking an area and rotating it around the x-axis.  By doing this, we are creating a 3-d figure, and therefore can find the volume of the fig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tion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curvebank.calstatela.edu/volrev/volrev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intmath.com/applications-integration/4-volume-solid-revolution.ph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?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integrals, we are able to create (or prove) formulas for various geometric fig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PROCESS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integral that you would use to find the area above the cur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quare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y it by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the integ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’s try on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region bounded by the line y = 2x + 1, the x-axis, the y-axis, and the line x = 10.  Find the volume of the solid generated by rotating this region about the x-ax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0" y="3809880"/>
                <a:ext cx="21812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514600" y="3733920"/>
                <a:ext cx="26384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626080" y="3657600"/>
                <a:ext cx="3517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-34920" y="5421240"/>
                <a:ext cx="35877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4114800" y="5486400"/>
                <a:ext cx="13716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3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6553080" y="5715000"/>
                <a:ext cx="137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49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: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 THE VOLUME 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 c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us: r (consta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ight: 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85809" t="16842" r="6053" b="73496"/>
          <a:stretch/>
        </p:blipFill>
        <p:spPr>
          <a:xfrm>
            <a:off x="304920" y="1447920"/>
            <a:ext cx="5029200" cy="3730680"/>
          </a:xfrm>
          <a:prstGeom prst="rect">
            <a:avLst/>
          </a:prstGeom>
          <a:ln w="0">
            <a:noFill/>
          </a:ln>
        </p:spPr>
      </p:pic>
      <p:sp>
        <p:nvSpPr>
          <p:cNvPr id="370" name="Straight Connector 5"/>
          <p:cNvSpPr/>
          <p:nvPr/>
        </p:nvSpPr>
        <p:spPr>
          <a:xfrm flipH="1">
            <a:off x="2741760" y="1982880"/>
            <a:ext cx="2880" cy="297180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5943600" y="4419720"/>
                <a:ext cx="17845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Content Placeholder 3"/>
              <p:cNvSpPr txBox="1"/>
              <p:nvPr/>
            </p:nvSpPr>
            <p:spPr>
              <a:xfrm>
                <a:off x="457200" y="0"/>
                <a:ext cx="2100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Content Placeholder 3"/>
              <p:cNvSpPr txBox="1"/>
              <p:nvPr/>
            </p:nvSpPr>
            <p:spPr>
              <a:xfrm>
                <a:off x="2738520" y="0"/>
                <a:ext cx="31766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Content Placeholder 3"/>
              <p:cNvSpPr txBox="1"/>
              <p:nvPr/>
            </p:nvSpPr>
            <p:spPr>
              <a:xfrm>
                <a:off x="127080" y="2438280"/>
                <a:ext cx="292104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Content Placeholder 3"/>
              <p:cNvSpPr txBox="1"/>
              <p:nvPr/>
            </p:nvSpPr>
            <p:spPr>
              <a:xfrm>
                <a:off x="3276720" y="2438280"/>
                <a:ext cx="3022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Content Placeholder 3"/>
              <p:cNvSpPr txBox="1"/>
              <p:nvPr/>
            </p:nvSpPr>
            <p:spPr>
              <a:xfrm>
                <a:off x="201600" y="4597560"/>
                <a:ext cx="338148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Content Placeholder 3"/>
              <p:cNvSpPr txBox="1"/>
              <p:nvPr/>
            </p:nvSpPr>
            <p:spPr>
              <a:xfrm>
                <a:off x="3809880" y="4800600"/>
                <a:ext cx="2511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Content Placeholder 3"/>
              <p:cNvSpPr txBox="1"/>
              <p:nvPr/>
            </p:nvSpPr>
            <p:spPr>
              <a:xfrm>
                <a:off x="6581880" y="4749840"/>
                <a:ext cx="18446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π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about our semi-circ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78126" t="15000" r="5625" b="66004"/>
          <a:stretch/>
        </p:blipFill>
        <p:spPr>
          <a:xfrm>
            <a:off x="0" y="3200400"/>
            <a:ext cx="5005440" cy="365760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2"/>
          <p:cNvSpPr/>
          <p:nvPr/>
        </p:nvSpPr>
        <p:spPr>
          <a:xfrm>
            <a:off x="3429000" y="6019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*remember r is a cons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Content Placeholder 3"/>
              <p:cNvSpPr txBox="1"/>
              <p:nvPr/>
            </p:nvSpPr>
            <p:spPr>
              <a:xfrm>
                <a:off x="5181480" y="3352680"/>
                <a:ext cx="3481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Content Placeholder 3"/>
              <p:cNvSpPr txBox="1"/>
              <p:nvPr/>
            </p:nvSpPr>
            <p:spPr>
              <a:xfrm>
                <a:off x="0" y="0"/>
                <a:ext cx="34815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Content Placeholder 3"/>
              <p:cNvSpPr txBox="1"/>
              <p:nvPr/>
            </p:nvSpPr>
            <p:spPr>
              <a:xfrm>
                <a:off x="4537080" y="0"/>
                <a:ext cx="46069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Content Placeholder 3"/>
              <p:cNvSpPr txBox="1"/>
              <p:nvPr/>
            </p:nvSpPr>
            <p:spPr>
              <a:xfrm>
                <a:off x="0" y="1752480"/>
                <a:ext cx="38908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Content Placeholder 3"/>
              <p:cNvSpPr txBox="1"/>
              <p:nvPr/>
            </p:nvSpPr>
            <p:spPr>
              <a:xfrm>
                <a:off x="5410080" y="2057400"/>
                <a:ext cx="3891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Content Placeholder 3"/>
              <p:cNvSpPr txBox="1"/>
              <p:nvPr/>
            </p:nvSpPr>
            <p:spPr>
              <a:xfrm>
                <a:off x="0" y="3657600"/>
                <a:ext cx="42498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Content Placeholder 3"/>
              <p:cNvSpPr txBox="1"/>
              <p:nvPr/>
            </p:nvSpPr>
            <p:spPr>
              <a:xfrm>
                <a:off x="166680" y="5391000"/>
                <a:ext cx="6372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Content Placeholder 3"/>
              <p:cNvSpPr txBox="1"/>
              <p:nvPr/>
            </p:nvSpPr>
            <p:spPr>
              <a:xfrm>
                <a:off x="7238880" y="5219640"/>
                <a:ext cx="14842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2:35:53Z</dcterms:created>
  <dc:creator>Laura Helbing</dc:creator>
  <dc:description/>
  <dc:language>en-US</dc:language>
  <cp:lastModifiedBy>Laura Helbing</cp:lastModifiedBy>
  <dcterms:modified xsi:type="dcterms:W3CDTF">2012-08-14T13:56:35Z</dcterms:modified>
  <cp:revision>4</cp:revision>
  <dc:subject/>
  <dc:title>Volumes of Surfaces of Revolution</dc:title>
</cp:coreProperties>
</file>