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BC3-3E59-48E5-B57B-D19ADEA6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B7E-D737-41EE-B4B2-F06B32E4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FFD-DDF6-4C48-82D5-B4900444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EF9-A113-4A70-A3C8-180D473C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C336-78DA-4D3C-AE45-C2693D13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C2F6-DB53-4ECA-9E97-BC97DE3E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F5B1-F8BF-4C77-BF92-49835D58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D37F-A7BB-4C0F-868C-66273394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D761-F579-4B7D-AF51-9D57731F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1036-9204-4155-A3AB-787370B6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6FA5-EAED-42E0-889C-CDD4F6FD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1BF-F8FF-40A2-B435-A487D13C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93C0-1790-4672-B58C-C39D694C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CCC0-678B-41D6-88AA-96CFFD31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6093-383F-4E2B-BED0-B6F027A5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7C19-FD79-4E74-9810-5DA5AE05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0D2C-4440-429A-A75B-34142F09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E652F-C61F-48A0-A77C-6AA24DEE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F7052-9607-4582-A2C7-602605B6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24476-758B-4DEC-A0C4-16AFC3A5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9050D-43FC-437B-9A29-B2E619B3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A8B12-4B56-4F77-9059-552CE2B4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C20-E8E7-4413-9CA0-48EC0427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351B7-D311-49C0-9892-B2ECED37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29067-4F41-4F14-AB1E-B3A1A0C5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0DBA3-CBF8-418F-8C1E-CB2EBC91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EEA1A-1D1F-4241-9C6E-F1C4A455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2CCBD-E287-4BB3-A244-224089D4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04236-E64F-4E18-A0B5-D22D6ECD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4A6D3-46D6-4F94-9CE6-E547A440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C862-558E-4FC0-BD98-7E214E62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2BB0-7261-46C1-BAB8-863B9A74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57D8A-9677-401C-8507-D1E9379B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EC1-7EEC-413A-A37B-8EF239AC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164BB-0F3E-48E6-AD9E-027C9971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CA16-CEB5-4957-8403-E7E0D423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9D4A-A3B4-4545-A6F0-680B259B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83C38-2799-4E71-8F3D-61C88B60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04100-B24D-45D5-90AC-08A58E9A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5C29A-0E8B-42E9-8340-9B011ACE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55F10-06E7-49C7-8CBB-5C8F6BC5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86B6-6F68-4B97-8AEC-70620481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A25E8-4ECC-423A-8D8B-84993FB7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E4C8D-2D2E-489C-B0C1-2E6971C4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159-C12E-4E12-966F-F5A35771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139EE-2FC6-42A3-920E-E0E36C90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05434-5A20-47CB-8E26-EA084CB8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BFC1B-C4BE-448E-9F89-CFA5B5C2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E426B-7228-4BA6-8AAD-376715B6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5DD67-B3CF-4CEE-93BB-C8067C28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1A9169-187B-4331-8B4C-1BDBFCF1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DC2118-8D74-4BC4-A612-3BA5DB3A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9BD97-2343-4D15-AC00-74DB260C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E0CD5-6595-4975-B81D-17E588EA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CC1432-7C6C-4B2A-9AA2-7BED7247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BB2-8CD2-4007-82BE-D29BFD46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54DD2-7FFC-43B6-9F40-75CC855E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809B4-D158-4A0B-A0C7-7ECD2CA3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68366-4F9A-447E-9549-AC166FC4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3DFE1-6128-460D-AF9E-663707BC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DB2004-F673-4BED-9690-07AC2C3B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B05D20-1616-4C5D-BFF1-34F8180E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83936F-7A41-45B4-B41A-59BF6CA4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D77B04-D0C7-4483-BE7A-7B475CB9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322E6-EDA2-47E0-8FF2-25CC28C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5A573-257E-4BF5-82D9-1106008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EC6-9FC6-4F74-A78F-CCCF4A30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A82A9-7B1B-4A9C-955B-C999B795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6D6FF1-1536-46C9-A1D8-63B36648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E9021-1377-4730-95D3-26CD4D97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88ABF8-9C5C-411E-8191-FF19D1E7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5B3F7-4C9C-40F5-B44F-1D73F331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A9016-C5BC-4288-94F9-17D5FB49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F8693-6A54-4D39-BF4E-C9D626E6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13CA8-1E2B-4BDF-ADDB-D5E3CBC9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1AD420-B2F0-43F0-841F-DD6162B1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C3F383-8B8E-4632-A97F-C96CADC7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3FB-2ED5-45FE-B383-62EC0E24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BF6EC-8C41-4F92-BA62-8EAD4E77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0DD58-5483-404E-BEE1-10CF9C47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CDABC4-7497-4C6B-BBE1-E245E5C4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24904-FA50-4CAF-B898-899C322C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1B362-467D-41CA-A3C1-BC663F96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15C-AB07-4EC2-9981-AEB0EFFD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B48A-233B-4941-8870-57E873A49D9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2678-73B4-479F-BF88-BBFE5CF9D69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E552-3513-49CF-A529-69A5C38A7F9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F2C4-7FC4-45ED-8355-C7146BB8F47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B766-851D-4A52-8F8F-D280FC02383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9932-B6C3-4850-B23A-B8CB7F2DEE2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4CB3-7DB1-4E52-9D50-1EAA69E7AE2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urvebank.calstatela.edu/volrev/volrev.htm" TargetMode="External"/><Relationship Id="rId2" Type="http://schemas.openxmlformats.org/officeDocument/2006/relationships/hyperlink" Target="http://www.intmath.com/applications-integration/4-volume-solid-revolution.php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VOLUMES OF SURFACES OF REV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14.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Schoolbook"/>
              </a:rPr>
              <a:t>Pages 849 – 850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Schoolbook"/>
              </a:rPr>
              <a:t>3, 7 - 13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DEA OF S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are taking an area and rotating it around the x-axis.  By doing this, we are creating a 3-d figure, and therefore can find the volume of the figu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imation: 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curvebank.calstatela.edu/volrev/volrev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intmath.com/applications-integration/4-volume-solid-revolution.ph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?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ing integrals, we are able to create (or prove) formulas for various geometric fig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PROCESS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ke the integral that you would use to find the area above the cur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quare the fun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y it by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e the integ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t’s try on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 the region bounded by the line y = 2x + 1, the x-axis, the y-axis, and the line x = 10.  Find the volume of the solid generated by rotating this region about the x-axi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0" y="3809880"/>
                <a:ext cx="21812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2514600" y="3733920"/>
                <a:ext cx="26384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5626080" y="3657600"/>
                <a:ext cx="35179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-34920" y="5421240"/>
                <a:ext cx="35877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4114800" y="5486400"/>
                <a:ext cx="13716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3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6553080" y="5715000"/>
                <a:ext cx="1371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49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: </a:t>
            </a:r>
            <a:r>
              <a:rPr b="0" lang="en-US" sz="3000" spc="-1" strike="noStrike">
                <a:solidFill>
                  <a:srgbClr val="575f6d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ND THE VOLUME O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7146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ll be a c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dius: r (constan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ight: 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c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85809" t="16842" r="6053" b="73496"/>
          <a:stretch/>
        </p:blipFill>
        <p:spPr>
          <a:xfrm>
            <a:off x="304920" y="1447920"/>
            <a:ext cx="5029200" cy="3730680"/>
          </a:xfrm>
          <a:prstGeom prst="rect">
            <a:avLst/>
          </a:prstGeom>
          <a:ln w="0">
            <a:noFill/>
          </a:ln>
        </p:spPr>
      </p:pic>
      <p:sp>
        <p:nvSpPr>
          <p:cNvPr id="370" name="Straight Connector 5"/>
          <p:cNvSpPr/>
          <p:nvPr/>
        </p:nvSpPr>
        <p:spPr>
          <a:xfrm flipH="1">
            <a:off x="2741760" y="1982880"/>
            <a:ext cx="2880" cy="2971800"/>
          </a:xfrm>
          <a:prstGeom prst="line">
            <a:avLst/>
          </a:prstGeom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5943600" y="4419720"/>
                <a:ext cx="178452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Content Placeholder 3"/>
              <p:cNvSpPr txBox="1"/>
              <p:nvPr/>
            </p:nvSpPr>
            <p:spPr>
              <a:xfrm>
                <a:off x="457200" y="0"/>
                <a:ext cx="21002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Content Placeholder 3"/>
              <p:cNvSpPr txBox="1"/>
              <p:nvPr/>
            </p:nvSpPr>
            <p:spPr>
              <a:xfrm>
                <a:off x="2738520" y="0"/>
                <a:ext cx="31766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Content Placeholder 3"/>
              <p:cNvSpPr txBox="1"/>
              <p:nvPr/>
            </p:nvSpPr>
            <p:spPr>
              <a:xfrm>
                <a:off x="127080" y="2438280"/>
                <a:ext cx="292104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Content Placeholder 3"/>
              <p:cNvSpPr txBox="1"/>
              <p:nvPr/>
            </p:nvSpPr>
            <p:spPr>
              <a:xfrm>
                <a:off x="3276720" y="2438280"/>
                <a:ext cx="302256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Content Placeholder 3"/>
              <p:cNvSpPr txBox="1"/>
              <p:nvPr/>
            </p:nvSpPr>
            <p:spPr>
              <a:xfrm>
                <a:off x="201600" y="4597560"/>
                <a:ext cx="338148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Content Placeholder 3"/>
              <p:cNvSpPr txBox="1"/>
              <p:nvPr/>
            </p:nvSpPr>
            <p:spPr>
              <a:xfrm>
                <a:off x="3809880" y="4800600"/>
                <a:ext cx="25117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Content Placeholder 3"/>
              <p:cNvSpPr txBox="1"/>
              <p:nvPr/>
            </p:nvSpPr>
            <p:spPr>
              <a:xfrm>
                <a:off x="6581880" y="4749840"/>
                <a:ext cx="184464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π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60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about our semi-circl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78126" t="15000" r="5625" b="66004"/>
          <a:stretch/>
        </p:blipFill>
        <p:spPr>
          <a:xfrm>
            <a:off x="0" y="3200400"/>
            <a:ext cx="5005440" cy="3657600"/>
          </a:xfrm>
          <a:prstGeom prst="rect">
            <a:avLst/>
          </a:prstGeom>
          <a:ln w="0">
            <a:noFill/>
          </a:ln>
        </p:spPr>
      </p:pic>
      <p:sp>
        <p:nvSpPr>
          <p:cNvPr id="382" name="Content Placeholder 2"/>
          <p:cNvSpPr/>
          <p:nvPr/>
        </p:nvSpPr>
        <p:spPr>
          <a:xfrm>
            <a:off x="3429000" y="6019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*remember r is a const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Content Placeholder 3"/>
              <p:cNvSpPr txBox="1"/>
              <p:nvPr/>
            </p:nvSpPr>
            <p:spPr>
              <a:xfrm>
                <a:off x="5181480" y="3352680"/>
                <a:ext cx="348156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Content Placeholder 3"/>
              <p:cNvSpPr txBox="1"/>
              <p:nvPr/>
            </p:nvSpPr>
            <p:spPr>
              <a:xfrm>
                <a:off x="0" y="0"/>
                <a:ext cx="34815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Content Placeholder 3"/>
              <p:cNvSpPr txBox="1"/>
              <p:nvPr/>
            </p:nvSpPr>
            <p:spPr>
              <a:xfrm>
                <a:off x="4537080" y="0"/>
                <a:ext cx="46069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Content Placeholder 3"/>
              <p:cNvSpPr txBox="1"/>
              <p:nvPr/>
            </p:nvSpPr>
            <p:spPr>
              <a:xfrm>
                <a:off x="0" y="1752480"/>
                <a:ext cx="389088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Content Placeholder 3"/>
              <p:cNvSpPr txBox="1"/>
              <p:nvPr/>
            </p:nvSpPr>
            <p:spPr>
              <a:xfrm>
                <a:off x="5410080" y="2057400"/>
                <a:ext cx="38912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Content Placeholder 3"/>
              <p:cNvSpPr txBox="1"/>
              <p:nvPr/>
            </p:nvSpPr>
            <p:spPr>
              <a:xfrm>
                <a:off x="0" y="3657600"/>
                <a:ext cx="42498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Content Placeholder 3"/>
              <p:cNvSpPr txBox="1"/>
              <p:nvPr/>
            </p:nvSpPr>
            <p:spPr>
              <a:xfrm>
                <a:off x="166680" y="5391000"/>
                <a:ext cx="637236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Content Placeholder 3"/>
              <p:cNvSpPr txBox="1"/>
              <p:nvPr/>
            </p:nvSpPr>
            <p:spPr>
              <a:xfrm>
                <a:off x="7238880" y="5219640"/>
                <a:ext cx="148428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2:35:53Z</dcterms:created>
  <dc:creator>Laura Helbing</dc:creator>
  <dc:description/>
  <dc:language>en-US</dc:language>
  <cp:lastModifiedBy>Laura Helbing</cp:lastModifiedBy>
  <dcterms:modified xsi:type="dcterms:W3CDTF">2012-08-14T13:56:35Z</dcterms:modified>
  <cp:revision>4</cp:revision>
  <dc:subject/>
  <dc:title>Volumes of Surfaces of Revolution</dc:title>
</cp:coreProperties>
</file>