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B07-E308-4833-B390-0CBE8F8C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9D7-02AD-410C-AC28-0F9E78F3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70C-7A62-4480-B500-53E50D26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740-2E90-48A9-AFB2-ECE4187D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FEF6-A4CB-4018-B901-7688D2C1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1A8B-C5F2-4C79-A92A-08AE8A9E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0F28-B065-44AA-A7D0-B08AF4B2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F0D4-116C-4B79-84AF-D8D195A1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8B50-00F4-4E10-9895-3446309C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92A1-FB51-4C8E-87CC-BFF8E668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8095-1908-4182-9E9F-6C59A4D6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E56-4C9A-4E71-927E-C0C19051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6F20-630C-4AA3-B943-60874C5B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7DDD-00AE-4D96-9EC6-8E6E637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C2FF-AE50-4110-9FF3-30FDB63A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73F2-EC6B-40A3-9C02-9FEB376F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DAB6-F344-4F8C-AE1D-1D321807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1AFC6-0411-438D-81D6-91576271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86424-E44F-4ADC-BEC5-B071A354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6BE42-8265-4A00-BBC7-A9B87E80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E2455-D7C0-4001-8AFA-88F5A578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14947-FCA3-4618-8980-15008383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5EE-E788-4726-8963-FCB40366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23EB3-81D2-44F9-85F7-639CAAEB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4BADF-C1AD-4E13-A55D-463E8D70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EF84F-A5AE-45FD-B665-D8111DF6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A0647-3804-4B24-91B8-66C5EEA8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D4067-9A2D-4469-A583-01BEABDF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6EA66-A5EF-432A-A965-D854740C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B100D-0D32-4F33-9E49-63F73D7C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9920D-33B3-42B8-A9FE-F02EFE60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B0499-DD38-4B06-846A-62EF58F3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4B3E1-08A5-457A-8B69-9BD07387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706-CB46-4669-AC84-121FC522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03D67-B7C1-449F-AB05-AF92E3B6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E7F9-BC11-465B-B291-5894345C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93D96-62D5-4125-9466-1E910D73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EF02B-B2D0-493B-8385-0E1947DC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8FE3B-9DEE-40B3-8622-0ADB5C09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36DC-2891-4F13-9F7B-E4F434B2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0A1D-452C-45CF-AC2E-CA862FFA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2CF1-3329-49D3-9203-81221146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307B1-A93A-482E-BF81-F9207150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FD39B-10A4-4B1E-B64A-58FEFA05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2DB-6258-4612-9F76-7C365B5E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E5743-2215-475E-BF8B-F410FE06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5619F-FF60-477B-9595-8D3B7275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DF4EA-A198-4335-BBCC-812FFC48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30A46-4577-46FD-B337-91B91E5C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5526C-E72B-42E4-AD34-FD125F68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71B8A-B510-424D-9EEC-B154B3C2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44802-6DEB-46DC-9F88-C1D073DD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E7D1C-686A-4F88-AD72-00BCC9C2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AD26C-F5FC-42D0-81EE-654B6436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71098-DCBD-4563-BBAA-8167421A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2ED-B603-47DE-A296-E17874E4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E3D8F-9A20-43B0-B768-E06E1A11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E983E-2E2F-42AD-AF2E-5ADD43C9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7F9BC-B46F-4914-9E6F-CEDD4B86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B7B06-F837-4595-B1FA-82B55BA3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91F6B-788A-46C6-BFB9-120B4333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766FD-8706-4588-A435-66175B9D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CB711-A8E7-4E9E-9883-598650D8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8F5EA-52A7-4922-BD93-25B187EA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0B51E-480D-474F-B6E3-973F1C07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59222-F548-4816-B8A9-878036B8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661-BAB0-4642-86A1-CC5827B8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9C51F-7280-450E-95B0-59B05827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28E72-5592-4F43-B307-A7A9EBEA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45CD9-7977-423D-9699-4C5B78BF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256419-0F94-4951-A879-A80C9E90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7A6D5-B3E6-4157-B56C-AE45D6EB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B1454-B202-44BA-A62E-C53CDC25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8A04F-B404-473E-8E26-B3B4872A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7102B-33C1-4EC3-95AD-75213CB2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E1E22-5464-4ED1-9384-FF05B4C5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7E058-1465-4E63-969A-0F2C0225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E46-2E35-44E9-AEE5-209CB185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E4F88-58D8-44BE-93C1-AFB4C837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EE6F7-289E-44B5-B3C2-1873A30E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8E59D-900D-466C-BB60-8DB7EE0D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2D2E9-FEBE-4E67-AB33-563C0984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CD6BC-B3F5-4F65-A422-BB91C791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90F-3B29-4DD4-A207-0A556122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0703-AD34-4B4D-AD63-80A3AD4284D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6A96-CF62-4C0E-A5B2-EDCF90DB8DB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ADE5-38B9-4769-9391-AF5FB7ED07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9F48-B0F4-41C5-A9B9-BA2813DB9A4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BBB6-BE4E-4117-81F6-C39D8DC7679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D3A9-73A2-43BB-83AF-7B7A4C7E8B9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93F9-B55B-4AE7-808A-1751B18EB30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urvebank.calstatela.edu/volrev/volrev.htm" TargetMode="External"/><Relationship Id="rId2" Type="http://schemas.openxmlformats.org/officeDocument/2006/relationships/hyperlink" Target="http://www.intmath.com/applications-integration/4-volume-solid-revolution.php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VOLUMES OF SURFACES OF R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14.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Pages 849 – 850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3, 7 - 13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DEA OF S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are taking an area and rotating it around the x-axis.  By doing this, we are creating a 3-d figure, and therefore can find the volume of the figu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imation: 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curvebank.calstatela.edu/volrev/volrev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intmath.com/applications-integration/4-volume-solid-revolution.ph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?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ing integrals, we are able to create (or prove) formulas for various geometric fig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PROCESS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e the integral that you would use to find the area above the cur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quare the fun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y it by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e the integ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t’s try on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 the region bounded by the line y = 2x + 1, the x-axis, the y-axis, and the line x = 10.  Find the volume of the solid generated by rotating this region about the x-axi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0" y="3809880"/>
                <a:ext cx="21812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2514600" y="3733920"/>
                <a:ext cx="26384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626080" y="3657600"/>
                <a:ext cx="35179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-34920" y="5421240"/>
                <a:ext cx="35877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4114800" y="5486400"/>
                <a:ext cx="13716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3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6553080" y="5715000"/>
                <a:ext cx="1371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49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: </a:t>
            </a:r>
            <a:r>
              <a:rPr b="0" lang="en-US" sz="3000" spc="-1" strike="noStrike">
                <a:solidFill>
                  <a:srgbClr val="575f6d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ND THE VOLUME O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7146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ll be a c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dius: r (constan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ight: 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85809" t="16842" r="6053" b="73496"/>
          <a:stretch/>
        </p:blipFill>
        <p:spPr>
          <a:xfrm>
            <a:off x="304920" y="1447920"/>
            <a:ext cx="5029200" cy="3730680"/>
          </a:xfrm>
          <a:prstGeom prst="rect">
            <a:avLst/>
          </a:prstGeom>
          <a:ln w="0">
            <a:noFill/>
          </a:ln>
        </p:spPr>
      </p:pic>
      <p:sp>
        <p:nvSpPr>
          <p:cNvPr id="370" name="Straight Connector 5"/>
          <p:cNvSpPr/>
          <p:nvPr/>
        </p:nvSpPr>
        <p:spPr>
          <a:xfrm flipH="1">
            <a:off x="2741760" y="1982880"/>
            <a:ext cx="2880" cy="297180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5943600" y="4419720"/>
                <a:ext cx="17845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Content Placeholder 3"/>
              <p:cNvSpPr txBox="1"/>
              <p:nvPr/>
            </p:nvSpPr>
            <p:spPr>
              <a:xfrm>
                <a:off x="457200" y="0"/>
                <a:ext cx="2100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Content Placeholder 3"/>
              <p:cNvSpPr txBox="1"/>
              <p:nvPr/>
            </p:nvSpPr>
            <p:spPr>
              <a:xfrm>
                <a:off x="2738520" y="0"/>
                <a:ext cx="31766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Content Placeholder 3"/>
              <p:cNvSpPr txBox="1"/>
              <p:nvPr/>
            </p:nvSpPr>
            <p:spPr>
              <a:xfrm>
                <a:off x="127080" y="2438280"/>
                <a:ext cx="292104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Content Placeholder 3"/>
              <p:cNvSpPr txBox="1"/>
              <p:nvPr/>
            </p:nvSpPr>
            <p:spPr>
              <a:xfrm>
                <a:off x="3276720" y="2438280"/>
                <a:ext cx="3022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Content Placeholder 3"/>
              <p:cNvSpPr txBox="1"/>
              <p:nvPr/>
            </p:nvSpPr>
            <p:spPr>
              <a:xfrm>
                <a:off x="201600" y="4597560"/>
                <a:ext cx="338148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Content Placeholder 3"/>
              <p:cNvSpPr txBox="1"/>
              <p:nvPr/>
            </p:nvSpPr>
            <p:spPr>
              <a:xfrm>
                <a:off x="3809880" y="4800600"/>
                <a:ext cx="2511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Content Placeholder 3"/>
              <p:cNvSpPr txBox="1"/>
              <p:nvPr/>
            </p:nvSpPr>
            <p:spPr>
              <a:xfrm>
                <a:off x="6581880" y="4749840"/>
                <a:ext cx="184464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π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60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about our semi-circl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78126" t="15000" r="5625" b="66004"/>
          <a:stretch/>
        </p:blipFill>
        <p:spPr>
          <a:xfrm>
            <a:off x="0" y="3200400"/>
            <a:ext cx="5005440" cy="3657600"/>
          </a:xfrm>
          <a:prstGeom prst="rect">
            <a:avLst/>
          </a:prstGeom>
          <a:ln w="0">
            <a:noFill/>
          </a:ln>
        </p:spPr>
      </p:pic>
      <p:sp>
        <p:nvSpPr>
          <p:cNvPr id="382" name="Content Placeholder 2"/>
          <p:cNvSpPr/>
          <p:nvPr/>
        </p:nvSpPr>
        <p:spPr>
          <a:xfrm>
            <a:off x="3429000" y="6019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*remember r is a const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Content Placeholder 3"/>
              <p:cNvSpPr txBox="1"/>
              <p:nvPr/>
            </p:nvSpPr>
            <p:spPr>
              <a:xfrm>
                <a:off x="5181480" y="3352680"/>
                <a:ext cx="3481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Content Placeholder 3"/>
              <p:cNvSpPr txBox="1"/>
              <p:nvPr/>
            </p:nvSpPr>
            <p:spPr>
              <a:xfrm>
                <a:off x="0" y="0"/>
                <a:ext cx="34815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Content Placeholder 3"/>
              <p:cNvSpPr txBox="1"/>
              <p:nvPr/>
            </p:nvSpPr>
            <p:spPr>
              <a:xfrm>
                <a:off x="4537080" y="0"/>
                <a:ext cx="46069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Content Placeholder 3"/>
              <p:cNvSpPr txBox="1"/>
              <p:nvPr/>
            </p:nvSpPr>
            <p:spPr>
              <a:xfrm>
                <a:off x="0" y="1752480"/>
                <a:ext cx="389088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Content Placeholder 3"/>
              <p:cNvSpPr txBox="1"/>
              <p:nvPr/>
            </p:nvSpPr>
            <p:spPr>
              <a:xfrm>
                <a:off x="5410080" y="2057400"/>
                <a:ext cx="3891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Content Placeholder 3"/>
              <p:cNvSpPr txBox="1"/>
              <p:nvPr/>
            </p:nvSpPr>
            <p:spPr>
              <a:xfrm>
                <a:off x="0" y="3657600"/>
                <a:ext cx="42498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Content Placeholder 3"/>
              <p:cNvSpPr txBox="1"/>
              <p:nvPr/>
            </p:nvSpPr>
            <p:spPr>
              <a:xfrm>
                <a:off x="166680" y="5391000"/>
                <a:ext cx="637236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Content Placeholder 3"/>
              <p:cNvSpPr txBox="1"/>
              <p:nvPr/>
            </p:nvSpPr>
            <p:spPr>
              <a:xfrm>
                <a:off x="7238880" y="5219640"/>
                <a:ext cx="14842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2:35:53Z</dcterms:created>
  <dc:creator>Laura Helbing</dc:creator>
  <dc:description/>
  <dc:language>en-US</dc:language>
  <cp:lastModifiedBy>Laura Helbing</cp:lastModifiedBy>
  <dcterms:modified xsi:type="dcterms:W3CDTF">2012-08-14T13:56:35Z</dcterms:modified>
  <cp:revision>4</cp:revision>
  <dc:subject/>
  <dc:title>Volumes of Surfaces of Revolution</dc:title>
</cp:coreProperties>
</file>