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F5F-27B8-4BBE-86BA-DF3E4061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30120" y="696960"/>
            <a:ext cx="619776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CCE3-DB2F-45E1-92CB-24F55849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B1F-980F-4669-9679-84D2EAEB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55B-88D4-4255-B9A6-FD9C05D3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504-6506-400D-A840-117E82F7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7CA-6C41-483E-82C8-E15AE7B3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16C-5691-4069-BCFA-5375FDC6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EEA-3D24-48A5-8E5A-6B771A65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99B-8589-49D3-BD7D-ABEA633A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A4F-66B4-465F-9399-FD813E21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37A-55AC-44FC-B197-3C0C6CE3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776-94BF-4669-9A59-3394784D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647-AC2F-40B7-8BD5-C50DA31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BEC-0CD0-42AD-8C72-F6E58DB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5C89-787F-4421-815E-4935967D3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404040"/>
                </a:solidFill>
                <a:latin typeface="Calibri"/>
              </a:rPr>
              <a:t>Vectors in a Pla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404040"/>
                </a:solidFill>
                <a:latin typeface="Calibri"/>
              </a:rPr>
              <a:t>Lesson 10.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67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In standard position, what is the ending point of the vecto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 – 60, 290 – 130) = (-20, 1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[ 161.2, 97.1] to rectang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0" y="3943440"/>
                <a:ext cx="6845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0" y="4519440"/>
                <a:ext cx="6692760" cy="6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 of a v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u = &lt;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u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 th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ero Vector: (0,0)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length 0 in any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 ve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1,0&gt;  =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lt;0,1&gt;= j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4038480" y="819000"/>
                <a:ext cx="476424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|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715000" y="1657440"/>
            <a:ext cx="3429000" cy="3486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912600">
            <a:off x="6980040" y="490320"/>
            <a:ext cx="210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0"/>
            <a:ext cx="6934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person is exerting a force of 80 pounds in a direction 22˚ east of north to move a sofa.  What are the x and y components of the force vect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80, 68˚]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= 80cos 68 = 29.968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 = 80sin 68 = 74.17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4"/>
          <p:cNvCxnSpPr/>
          <p:nvPr/>
        </p:nvCxnSpPr>
        <p:spPr>
          <a:xfrm flipV="1">
            <a:off x="7467480" y="2037960"/>
            <a:ext cx="457920" cy="12960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age 6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1 -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8949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Vector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determined by direction and magnitud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Polar representa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nonnegative magnitude r and direction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 measured counterclockwise from the polar axis is [r, </a:t>
            </a:r>
            <a:r>
              <a:rPr b="1" lang="el-GR" sz="35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404040"/>
                </a:solidFill>
                <a:latin typeface="Calibri"/>
              </a:rPr>
              <a:t>Standard position</a:t>
            </a:r>
            <a:r>
              <a:rPr b="1" lang="en-US" sz="3500" spc="-1" strike="noStrike">
                <a:solidFill>
                  <a:srgbClr val="404040"/>
                </a:solidFill>
                <a:latin typeface="Calibri"/>
              </a:rPr>
              <a:t>: initial point starts at the orig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35003" t="59672" r="16001" b="10003"/>
          <a:stretch/>
        </p:blipFill>
        <p:spPr>
          <a:xfrm>
            <a:off x="762120" y="1123920"/>
            <a:ext cx="739116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. Draw an arrow in standard position representing the veloc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76720" y="2324160"/>
            <a:ext cx="2819160" cy="281952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6"/>
          <p:cNvCxnSpPr/>
          <p:nvPr/>
        </p:nvCxnSpPr>
        <p:spPr>
          <a:xfrm flipV="1">
            <a:off x="4724280" y="3332880"/>
            <a:ext cx="144864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666720"/>
            <a:ext cx="899172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b. Write the polar representation of the velocity vector of the st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[ 30, 15˚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5715000" y="2324160"/>
            <a:ext cx="2819520" cy="2819520"/>
          </a:xfrm>
          <a:prstGeom prst="rect">
            <a:avLst/>
          </a:prstGeom>
          <a:ln w="0">
            <a:noFill/>
          </a:ln>
        </p:spPr>
      </p:pic>
      <p:cxnSp>
        <p:nvCxnSpPr>
          <p:cNvPr id="62" name="Straight Arrow Connector 6"/>
          <p:cNvCxnSpPr/>
          <p:nvPr/>
        </p:nvCxnSpPr>
        <p:spPr>
          <a:xfrm flipV="1">
            <a:off x="7162560" y="3332880"/>
            <a:ext cx="1448280" cy="3819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9092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1920" y="514080"/>
            <a:ext cx="8991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A storm is traveling at 30 miles per hour in a direction 15˚ north of 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c</a:t>
            </a:r>
            <a:r>
              <a:rPr b="1" lang="en-US" sz="3000" spc="-1" strike="noStrike">
                <a:solidFill>
                  <a:srgbClr val="404040"/>
                </a:solidFill>
                <a:latin typeface="Calibri"/>
              </a:rPr>
              <a:t>. Describe the storm’s movement each hour in terms of a number of miles east-west and a number of miles north-sou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East-west (green) = 30 cos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29 miles east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North-south(red) = 30 si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Moving 7.8 miles north per h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rcRect l="44448" t="0" r="0" b="34823"/>
          <a:stretch/>
        </p:blipFill>
        <p:spPr>
          <a:xfrm>
            <a:off x="6553080" y="2482920"/>
            <a:ext cx="2266920" cy="2660760"/>
          </a:xfrm>
          <a:prstGeom prst="rect">
            <a:avLst/>
          </a:prstGeom>
          <a:ln w="0">
            <a:noFill/>
          </a:ln>
        </p:spPr>
      </p:pic>
      <p:sp>
        <p:nvSpPr>
          <p:cNvPr id="66" name="Straight Connector 9"/>
          <p:cNvSpPr/>
          <p:nvPr/>
        </p:nvSpPr>
        <p:spPr>
          <a:xfrm flipH="1">
            <a:off x="8685360" y="3790800"/>
            <a:ext cx="1440" cy="687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"/>
          <p:cNvSpPr/>
          <p:nvPr/>
        </p:nvSpPr>
        <p:spPr>
          <a:xfrm>
            <a:off x="6781680" y="4476600"/>
            <a:ext cx="1905120" cy="18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7395480" y="3562200"/>
            <a:ext cx="63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6"/>
          <p:cNvCxnSpPr/>
          <p:nvPr/>
        </p:nvCxnSpPr>
        <p:spPr>
          <a:xfrm flipV="1">
            <a:off x="6781680" y="3790080"/>
            <a:ext cx="1905840" cy="6865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Line Callout 2 17"/>
          <p:cNvSpPr/>
          <p:nvPr/>
        </p:nvSpPr>
        <p:spPr>
          <a:xfrm>
            <a:off x="5791320" y="4530600"/>
            <a:ext cx="1066680" cy="613080"/>
          </a:xfrm>
          <a:prstGeom prst="borderCallout2">
            <a:avLst>
              <a:gd name="adj1" fmla="val 18750"/>
              <a:gd name="adj2" fmla="val -8333"/>
              <a:gd name="adj3" fmla="val 6101"/>
              <a:gd name="adj4" fmla="val 105365"/>
              <a:gd name="adj5" fmla="val -28518"/>
              <a:gd name="adj6" fmla="val 14477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Component Re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Component representation of a plane vector u is the ordered pair, &lt;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1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, u</a:t>
            </a:r>
            <a:r>
              <a:rPr b="1" lang="en-US" sz="3400" spc="-1" strike="noStrike" baseline="-25000">
                <a:solidFill>
                  <a:srgbClr val="404040"/>
                </a:solidFill>
                <a:latin typeface="Calibri"/>
              </a:rPr>
              <a:t>2</a:t>
            </a: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 &gt;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04040"/>
                </a:solidFill>
                <a:latin typeface="Calibri"/>
              </a:rPr>
              <a:t>the rectangular coordinates of the point at the end of the standard position arrow.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057400" y="180972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Line Callout 1 (No Border) 8"/>
          <p:cNvSpPr/>
          <p:nvPr/>
        </p:nvSpPr>
        <p:spPr>
          <a:xfrm>
            <a:off x="3505320" y="2343240"/>
            <a:ext cx="1828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918" y="-36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orizontal 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Callout 1 (No Border) 9"/>
          <p:cNvSpPr/>
          <p:nvPr/>
        </p:nvSpPr>
        <p:spPr>
          <a:xfrm flipH="1">
            <a:off x="6705000" y="2495520"/>
            <a:ext cx="24382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0212" y="-7192"/>
                </a:moveTo>
                <a:lnTo>
                  <a:pt x="23304" y="40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74304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the vector represented by an arrow from (60, 130) to (40, 29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Find the length and direction of the v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304920" y="2876400"/>
                <a:ext cx="8458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6000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0" y="3814920"/>
                <a:ext cx="652464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6318360" y="4248000"/>
                <a:ext cx="28256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rcRect l="4452" t="0" r="71057" b="40971"/>
          <a:stretch/>
        </p:blipFill>
        <p:spPr>
          <a:xfrm>
            <a:off x="7238880" y="666720"/>
            <a:ext cx="167652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rcRect l="0" t="0" r="0" b="40971"/>
          <a:stretch/>
        </p:blipFill>
        <p:spPr>
          <a:xfrm>
            <a:off x="685800" y="666720"/>
            <a:ext cx="6840360" cy="403848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4"/>
          <p:cNvCxnSpPr>
            <a:stCxn id="85" idx="1"/>
            <a:endCxn id="86" idx="6"/>
          </p:cNvCxnSpPr>
          <p:nvPr/>
        </p:nvCxnSpPr>
        <p:spPr>
          <a:xfrm flipH="1" flipV="1">
            <a:off x="6095520" y="932760"/>
            <a:ext cx="1100880" cy="18248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6" name="Oval 8"/>
          <p:cNvSpPr/>
          <p:nvPr/>
        </p:nvSpPr>
        <p:spPr>
          <a:xfrm>
            <a:off x="5943600" y="819000"/>
            <a:ext cx="15228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8"/>
          <p:cNvSpPr/>
          <p:nvPr/>
        </p:nvSpPr>
        <p:spPr>
          <a:xfrm flipH="1">
            <a:off x="6019920" y="1047600"/>
            <a:ext cx="1440" cy="167796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7"/>
          <p:cNvSpPr/>
          <p:nvPr/>
        </p:nvSpPr>
        <p:spPr>
          <a:xfrm flipH="1" flipV="1">
            <a:off x="6019560" y="2723760"/>
            <a:ext cx="1338120" cy="33480"/>
          </a:xfrm>
          <a:prstGeom prst="line">
            <a:avLst/>
          </a:prstGeom>
          <a:ln w="57240">
            <a:solidFill>
              <a:srgbClr val="00b05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7162920" y="2724120"/>
            <a:ext cx="228600" cy="228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4079520"/>
            <a:ext cx="152388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27946E-007 L -0.35174 0.24491 E">
                                      <p:cBhvr>
                                        <p:cTn id="12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3:46:32Z</dcterms:created>
  <dc:creator>Laura Helbing</dc:creator>
  <dc:description/>
  <dc:language>en-US</dc:language>
  <cp:lastModifiedBy>Laura Helbing</cp:lastModifiedBy>
  <dcterms:modified xsi:type="dcterms:W3CDTF">2013-04-25T19:02:01Z</dcterms:modified>
  <cp:revision>74</cp:revision>
  <dc:subject/>
  <dc:title>Vectors in a Plane</dc:title>
</cp:coreProperties>
</file>