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5145088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30120" y="696960"/>
            <a:ext cx="6197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3621-27F6-4C83-BF84-7389FD126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330120" y="696960"/>
            <a:ext cx="6197760" cy="3486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B8CC-690D-4BAA-A10C-4AE32BF36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00A0-D3D5-486F-92EA-7CAF44C8D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79A0-E5DC-495F-9921-F32A9AA1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2314-5BDF-4643-99C1-8209C9B75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C8C9-D38C-4AD6-BD68-4BB50DC54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6CA2-619C-42C4-93C4-3BB8520B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69E5-F303-4348-ADC4-8DB48AE0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FC54-3452-4B01-B4C1-BF88AA73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B433-CFE2-46B0-B3A9-D907516E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A480-E42D-4582-A08A-9BFABBC2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6997-75C0-406A-8680-15FAC4E9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AFC1-C33B-4A10-88F2-F68F6ED7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9109-952D-45B0-A3DB-A7CFF8C1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C99B-DB42-475E-AAB4-37A5845A0F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43080"/>
            <a:ext cx="7772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8000" spc="-1" strike="noStrike">
                <a:solidFill>
                  <a:srgbClr val="404040"/>
                </a:solidFill>
                <a:latin typeface="Calibri"/>
              </a:rPr>
              <a:t>Vectors in a Plan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830320"/>
            <a:ext cx="64008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404040"/>
                </a:solidFill>
                <a:latin typeface="Calibri"/>
              </a:rPr>
              <a:t>Lesson 10.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2670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74304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the vector represented by an arrow from (60, 130) to (40, 29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In standard position, what is the ending point of the vecto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40 – 60, 290 – 130) = (-20, 1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[ 161.2, 97.1] to rectang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4"/>
              <p:cNvSpPr txBox="1"/>
              <p:nvPr/>
            </p:nvSpPr>
            <p:spPr>
              <a:xfrm>
                <a:off x="0" y="3943440"/>
                <a:ext cx="68454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5"/>
              <p:cNvSpPr txBox="1"/>
              <p:nvPr/>
            </p:nvSpPr>
            <p:spPr>
              <a:xfrm>
                <a:off x="0" y="4519440"/>
                <a:ext cx="6692760" cy="6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rm of a vec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f u = &lt;u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u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&gt; th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Zero Vector: (0,0)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length 0 in any dir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nit vect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&lt;1,0&gt;  =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&lt;0,1&gt;= j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2"/>
              <p:cNvSpPr txBox="1"/>
              <p:nvPr/>
            </p:nvSpPr>
            <p:spPr>
              <a:xfrm>
                <a:off x="4038480" y="819000"/>
                <a:ext cx="476424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|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5715000" y="1657440"/>
            <a:ext cx="3429000" cy="34862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 rot="912600">
            <a:off x="6980040" y="490320"/>
            <a:ext cx="210816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0"/>
            <a:ext cx="69343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person is exerting a force of 80 pounds in a direction 22˚ east of north to move a sofa.  What are the x and y components of the force vecto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[80, 68˚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x = 80cos 68 = 29.968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y = 80sin 68 = 74.17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0" name="Straight Arrow Connector 4"/>
          <p:cNvCxnSpPr/>
          <p:nvPr/>
        </p:nvCxnSpPr>
        <p:spPr>
          <a:xfrm flipV="1">
            <a:off x="7467480" y="2037960"/>
            <a:ext cx="457920" cy="12960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Page 604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1 - 11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404040"/>
                </a:solidFill>
                <a:latin typeface="Calibri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894960"/>
            <a:ext cx="914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404040"/>
                </a:solidFill>
                <a:latin typeface="Calibri"/>
              </a:rPr>
              <a:t>Vector</a:t>
            </a:r>
            <a:r>
              <a:rPr b="1" lang="en-US" sz="3500" spc="-1" strike="noStrike">
                <a:solidFill>
                  <a:srgbClr val="404040"/>
                </a:solidFill>
                <a:latin typeface="Calibri"/>
              </a:rPr>
              <a:t>: determined by direction and magnitud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404040"/>
                </a:solidFill>
                <a:latin typeface="Calibri"/>
              </a:rPr>
              <a:t>Polar representation</a:t>
            </a:r>
            <a:r>
              <a:rPr b="1" lang="en-US" sz="3500" spc="-1" strike="noStrike">
                <a:solidFill>
                  <a:srgbClr val="404040"/>
                </a:solidFill>
                <a:latin typeface="Calibri"/>
              </a:rPr>
              <a:t>: nonnegative magnitude r and direction </a:t>
            </a:r>
            <a:r>
              <a:rPr b="1" lang="el-GR" sz="3500" spc="-1" strike="noStrike">
                <a:solidFill>
                  <a:srgbClr val="404040"/>
                </a:solidFill>
                <a:latin typeface="Calibri"/>
              </a:rPr>
              <a:t>θ</a:t>
            </a:r>
            <a:r>
              <a:rPr b="1" lang="en-US" sz="3500" spc="-1" strike="noStrike">
                <a:solidFill>
                  <a:srgbClr val="404040"/>
                </a:solidFill>
                <a:latin typeface="Calibri"/>
              </a:rPr>
              <a:t> measured counterclockwise from the polar axis is [r, </a:t>
            </a:r>
            <a:r>
              <a:rPr b="1" lang="el-GR" sz="3500" spc="-1" strike="noStrike">
                <a:solidFill>
                  <a:srgbClr val="404040"/>
                </a:solidFill>
                <a:latin typeface="Calibri"/>
              </a:rPr>
              <a:t>θ</a:t>
            </a:r>
            <a:r>
              <a:rPr b="1" lang="en-US" sz="3500" spc="-1" strike="noStrike">
                <a:solidFill>
                  <a:srgbClr val="404040"/>
                </a:solidFill>
                <a:latin typeface="Calibri"/>
              </a:rPr>
              <a:t>]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404040"/>
                </a:solidFill>
                <a:latin typeface="Calibri"/>
              </a:rPr>
              <a:t>Standard position</a:t>
            </a:r>
            <a:r>
              <a:rPr b="1" lang="en-US" sz="3500" spc="-1" strike="noStrike">
                <a:solidFill>
                  <a:srgbClr val="404040"/>
                </a:solidFill>
                <a:latin typeface="Calibri"/>
              </a:rPr>
              <a:t>: initial point starts at the origi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rcRect l="35003" t="59672" r="16001" b="10003"/>
          <a:stretch/>
        </p:blipFill>
        <p:spPr>
          <a:xfrm>
            <a:off x="762120" y="1123920"/>
            <a:ext cx="739116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59092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404040"/>
                </a:solidFill>
                <a:latin typeface="Calibri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1920" y="666720"/>
            <a:ext cx="8991720" cy="44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A storm is traveling at 30 miles per hour in a direction 15˚ north of ea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a. Draw an arrow in standard position representing the veloc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3276720" y="2324160"/>
            <a:ext cx="2819160" cy="2819520"/>
          </a:xfrm>
          <a:prstGeom prst="rect">
            <a:avLst/>
          </a:prstGeom>
          <a:ln w="0">
            <a:noFill/>
          </a:ln>
        </p:spPr>
      </p:pic>
      <p:cxnSp>
        <p:nvCxnSpPr>
          <p:cNvPr id="58" name="Straight Arrow Connector 6"/>
          <p:cNvCxnSpPr/>
          <p:nvPr/>
        </p:nvCxnSpPr>
        <p:spPr>
          <a:xfrm flipV="1">
            <a:off x="4724280" y="3332880"/>
            <a:ext cx="1448640" cy="38196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59092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404040"/>
                </a:solidFill>
                <a:latin typeface="Calibri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1920" y="666720"/>
            <a:ext cx="8991720" cy="44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A storm is traveling at 30 miles per hour in a direction 15˚ north of ea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b. Write the polar representation of the velocity vector of the stor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[ 30, 15˚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5715000" y="2324160"/>
            <a:ext cx="2819520" cy="2819520"/>
          </a:xfrm>
          <a:prstGeom prst="rect">
            <a:avLst/>
          </a:prstGeom>
          <a:ln w="0">
            <a:noFill/>
          </a:ln>
        </p:spPr>
      </p:pic>
      <p:cxnSp>
        <p:nvCxnSpPr>
          <p:cNvPr id="62" name="Straight Arrow Connector 6"/>
          <p:cNvCxnSpPr/>
          <p:nvPr/>
        </p:nvCxnSpPr>
        <p:spPr>
          <a:xfrm flipV="1">
            <a:off x="7162560" y="3332880"/>
            <a:ext cx="1448280" cy="38196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59092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404040"/>
                </a:solidFill>
                <a:latin typeface="Calibri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51920" y="514080"/>
            <a:ext cx="899172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A storm is traveling at 30 miles per hour in a direction 15˚ north of ea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c</a:t>
            </a:r>
            <a:r>
              <a:rPr b="1" lang="en-US" sz="3000" spc="-1" strike="noStrike">
                <a:solidFill>
                  <a:srgbClr val="404040"/>
                </a:solidFill>
                <a:latin typeface="Calibri"/>
              </a:rPr>
              <a:t>. Describe the storm’s movement each hour in terms of a number of miles east-west and a number of miles north-sou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East-west (green) = 30 cos 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Moving 29 miles east per ho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North-south(red) = 30 sin 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Moving 7.8 miles north per ho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2"/>
          <a:srcRect l="44448" t="0" r="0" b="34823"/>
          <a:stretch/>
        </p:blipFill>
        <p:spPr>
          <a:xfrm>
            <a:off x="6553080" y="2482920"/>
            <a:ext cx="2266920" cy="2660760"/>
          </a:xfrm>
          <a:prstGeom prst="rect">
            <a:avLst/>
          </a:prstGeom>
          <a:ln w="0">
            <a:noFill/>
          </a:ln>
        </p:spPr>
      </p:pic>
      <p:sp>
        <p:nvSpPr>
          <p:cNvPr id="66" name="Straight Connector 9"/>
          <p:cNvSpPr/>
          <p:nvPr/>
        </p:nvSpPr>
        <p:spPr>
          <a:xfrm flipH="1">
            <a:off x="8685360" y="3790800"/>
            <a:ext cx="1440" cy="687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12"/>
          <p:cNvSpPr/>
          <p:nvPr/>
        </p:nvSpPr>
        <p:spPr>
          <a:xfrm>
            <a:off x="6781680" y="4476600"/>
            <a:ext cx="1905120" cy="180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6"/>
          <p:cNvSpPr/>
          <p:nvPr/>
        </p:nvSpPr>
        <p:spPr>
          <a:xfrm>
            <a:off x="7395480" y="3562200"/>
            <a:ext cx="631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Straight Arrow Connector 6"/>
          <p:cNvCxnSpPr/>
          <p:nvPr/>
        </p:nvCxnSpPr>
        <p:spPr>
          <a:xfrm flipV="1">
            <a:off x="6781680" y="3790080"/>
            <a:ext cx="1905840" cy="68652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Line Callout 2 17"/>
          <p:cNvSpPr/>
          <p:nvPr/>
        </p:nvSpPr>
        <p:spPr>
          <a:xfrm>
            <a:off x="5791320" y="4530600"/>
            <a:ext cx="1066680" cy="613080"/>
          </a:xfrm>
          <a:prstGeom prst="borderCallout2">
            <a:avLst>
              <a:gd name="adj1" fmla="val 18750"/>
              <a:gd name="adj2" fmla="val -8333"/>
              <a:gd name="adj3" fmla="val 6101"/>
              <a:gd name="adj4" fmla="val 105365"/>
              <a:gd name="adj5" fmla="val -28518"/>
              <a:gd name="adj6" fmla="val 144773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5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Component Re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4040"/>
                </a:solidFill>
                <a:latin typeface="Calibri"/>
              </a:rPr>
              <a:t>Component representation of a plane vector u is the ordered pair, &lt; u</a:t>
            </a:r>
            <a:r>
              <a:rPr b="1" lang="en-US" sz="3400" spc="-1" strike="noStrike" baseline="-25000">
                <a:solidFill>
                  <a:srgbClr val="404040"/>
                </a:solidFill>
                <a:latin typeface="Calibri"/>
              </a:rPr>
              <a:t>1</a:t>
            </a:r>
            <a:r>
              <a:rPr b="1" lang="en-US" sz="3400" spc="-1" strike="noStrike">
                <a:solidFill>
                  <a:srgbClr val="404040"/>
                </a:solidFill>
                <a:latin typeface="Calibri"/>
              </a:rPr>
              <a:t>, u</a:t>
            </a:r>
            <a:r>
              <a:rPr b="1" lang="en-US" sz="3400" spc="-1" strike="noStrike" baseline="-25000">
                <a:solidFill>
                  <a:srgbClr val="404040"/>
                </a:solidFill>
                <a:latin typeface="Calibri"/>
              </a:rPr>
              <a:t>2</a:t>
            </a:r>
            <a:r>
              <a:rPr b="1" lang="en-US" sz="3400" spc="-1" strike="noStrike">
                <a:solidFill>
                  <a:srgbClr val="404040"/>
                </a:solidFill>
                <a:latin typeface="Calibri"/>
              </a:rPr>
              <a:t> &gt;,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4040"/>
                </a:solidFill>
                <a:latin typeface="Calibri"/>
              </a:rPr>
              <a:t>the rectangular coordinates of the point at the end of the standard position arrow.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traight Arrow Connector 7"/>
          <p:cNvCxnSpPr/>
          <p:nvPr/>
        </p:nvCxnSpPr>
        <p:spPr>
          <a:xfrm>
            <a:off x="2057400" y="1809720"/>
            <a:ext cx="3816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Line Callout 1 (No Border) 8"/>
          <p:cNvSpPr/>
          <p:nvPr/>
        </p:nvSpPr>
        <p:spPr>
          <a:xfrm>
            <a:off x="3505320" y="2343240"/>
            <a:ext cx="18288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0918" y="-3692"/>
                </a:moveTo>
                <a:lnTo>
                  <a:pt x="23304" y="4000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Horizontal  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Callout 1 (No Border) 9"/>
          <p:cNvSpPr/>
          <p:nvPr/>
        </p:nvSpPr>
        <p:spPr>
          <a:xfrm flipH="1">
            <a:off x="6705000" y="2495520"/>
            <a:ext cx="24382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0212" y="-7192"/>
                </a:moveTo>
                <a:lnTo>
                  <a:pt x="23304" y="4000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Ver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8195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74304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the vector represented by an arrow from (60, 130) to (40, 29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Find the length and direction of the vec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3"/>
              <p:cNvSpPr txBox="1"/>
              <p:nvPr/>
            </p:nvSpPr>
            <p:spPr>
              <a:xfrm>
                <a:off x="304920" y="2876400"/>
                <a:ext cx="84582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9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6000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4"/>
              <p:cNvSpPr txBox="1"/>
              <p:nvPr/>
            </p:nvSpPr>
            <p:spPr>
              <a:xfrm>
                <a:off x="0" y="3814920"/>
                <a:ext cx="6524640" cy="13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5"/>
              <p:cNvSpPr txBox="1"/>
              <p:nvPr/>
            </p:nvSpPr>
            <p:spPr>
              <a:xfrm>
                <a:off x="6318360" y="4248000"/>
                <a:ext cx="282564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rcRect l="4452" t="0" r="71057" b="40971"/>
          <a:stretch/>
        </p:blipFill>
        <p:spPr>
          <a:xfrm>
            <a:off x="7238880" y="666720"/>
            <a:ext cx="1676520" cy="4038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2"/>
          <a:srcRect l="0" t="0" r="0" b="40971"/>
          <a:stretch/>
        </p:blipFill>
        <p:spPr>
          <a:xfrm>
            <a:off x="685800" y="666720"/>
            <a:ext cx="6840360" cy="4038480"/>
          </a:xfrm>
          <a:prstGeom prst="rect">
            <a:avLst/>
          </a:prstGeom>
          <a:ln w="0">
            <a:noFill/>
          </a:ln>
        </p:spPr>
      </p:pic>
      <p:cxnSp>
        <p:nvCxnSpPr>
          <p:cNvPr id="84" name="Straight Arrow Connector 4"/>
          <p:cNvCxnSpPr>
            <a:stCxn id="85" idx="1"/>
            <a:endCxn id="86" idx="6"/>
          </p:cNvCxnSpPr>
          <p:nvPr/>
        </p:nvCxnSpPr>
        <p:spPr>
          <a:xfrm flipH="1" flipV="1">
            <a:off x="6095520" y="932760"/>
            <a:ext cx="1100880" cy="18248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Oval 8"/>
          <p:cNvSpPr/>
          <p:nvPr/>
        </p:nvSpPr>
        <p:spPr>
          <a:xfrm>
            <a:off x="5943600" y="819000"/>
            <a:ext cx="152280" cy="228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18"/>
          <p:cNvSpPr/>
          <p:nvPr/>
        </p:nvSpPr>
        <p:spPr>
          <a:xfrm flipH="1">
            <a:off x="6019920" y="1047600"/>
            <a:ext cx="1440" cy="1677960"/>
          </a:xfrm>
          <a:prstGeom prst="line">
            <a:avLst/>
          </a:prstGeom>
          <a:ln w="572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17"/>
          <p:cNvSpPr/>
          <p:nvPr/>
        </p:nvSpPr>
        <p:spPr>
          <a:xfrm flipH="1" flipV="1">
            <a:off x="6019560" y="2723760"/>
            <a:ext cx="1338120" cy="33480"/>
          </a:xfrm>
          <a:prstGeom prst="line">
            <a:avLst/>
          </a:prstGeom>
          <a:ln w="5724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7"/>
          <p:cNvSpPr/>
          <p:nvPr/>
        </p:nvSpPr>
        <p:spPr>
          <a:xfrm>
            <a:off x="7162920" y="2724120"/>
            <a:ext cx="228600" cy="228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4079520"/>
            <a:ext cx="152388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B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7.27946E-007 L -0.35174 0.24491 E">
                                      <p:cBhvr>
                                        <p:cTn id="128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4T13:46:32Z</dcterms:created>
  <dc:creator>Laura Helbing</dc:creator>
  <dc:description/>
  <dc:language>en-US</dc:language>
  <cp:lastModifiedBy>Laura Helbing</cp:lastModifiedBy>
  <dcterms:modified xsi:type="dcterms:W3CDTF">2013-04-25T19:02:01Z</dcterms:modified>
  <cp:revision>74</cp:revision>
  <dc:subject/>
  <dc:title>Vectors in a Plane</dc:title>
</cp:coreProperties>
</file>