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75E-D3EA-401F-8B94-F699E019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443-88C8-4F85-91B7-A7174ED0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6AA-568D-4321-BF35-62A19CFB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CB5-937B-4554-9FAC-1009F59E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C860-67ED-4B8B-ACF1-AD1C43BD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78C-B95A-4BF6-B7EC-3E002B84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F67-6C15-45ED-AD61-E43FB90B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FBE-AF89-46FA-8822-4634FA49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6A8-6E4D-464E-8728-DDE1C27C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251-7E07-4D7D-A6F7-67D660C1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5144-B587-4CA3-80B0-AB9B372F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4A5-F89C-4F46-96DF-E85069E3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A9C9-6DC0-4995-AA26-DDD449E456F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Calibri"/>
              </a:rPr>
              <a:t>Using Identit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2428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Section 5.9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Sin 2x =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Remember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2357280" y="2286000"/>
                <a:ext cx="60296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5"/>
              <p:cNvSpPr txBox="1"/>
              <p:nvPr/>
            </p:nvSpPr>
            <p:spPr>
              <a:xfrm>
                <a:off x="2630520" y="3214800"/>
                <a:ext cx="56246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3790800" y="4000680"/>
                <a:ext cx="35578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Helpful Identities to Kno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 cos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 – 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cos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x + 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x =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2cos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x – 1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1 – 2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Sin 2x = 2sinx ∙ cos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Solve:  cos 2x = cos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+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cos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-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= cos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 +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0 = 2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0 = sin</a:t>
            </a:r>
            <a:r>
              <a:rPr b="1" lang="fr-CA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0 = sin 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Calibri"/>
              </a:rPr>
              <a:t>X = 0,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, etc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0 +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, where k is any integ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2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ow this is an identit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 + sin2x= (sinx + cosx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 + 2cosx sin x = si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 + 2sinx cosx + cos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+ 2cosx sin x = 1 + 2cos x sin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3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42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uppose 0 &lt; x &lt; </a:t>
            </a:r>
            <a:r>
              <a:rPr b="1" lang="el-GR" sz="33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and cos x = 1/5.  Find cos 2x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Best identity?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 cos</a:t>
            </a:r>
            <a:r>
              <a:rPr b="1" lang="en-US" sz="33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x – 1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 (1/5)</a:t>
            </a:r>
            <a:r>
              <a:rPr b="1" lang="en-US" sz="33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– 1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(1/25) – 1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2/25 – 25/2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os 2x = -23/2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n appropriate identity for cos 2x to write the trigonometric value in terms of rational numbers and radic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t ident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Cos 2x = 1 – 2sin</a:t>
            </a:r>
            <a:r>
              <a:rPr b="0" lang="fr-CA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8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3143160" y="471492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 (2 *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5357880" y="471492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Cos (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3214800" y="5500800"/>
                <a:ext cx="26827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57360" y="35676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4 (continued)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8)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2714760" y="185724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 (2 *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5072040" y="192888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Cos (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285840" y="2643120"/>
                <a:ext cx="36766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3"/>
              <p:cNvSpPr txBox="1"/>
              <p:nvPr/>
            </p:nvSpPr>
            <p:spPr>
              <a:xfrm>
                <a:off x="4429080" y="2643120"/>
                <a:ext cx="403560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142920" y="4143240"/>
                <a:ext cx="415620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4587840" y="4214880"/>
                <a:ext cx="383688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285840" y="5380200"/>
                <a:ext cx="3957480" cy="14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7"/>
              <p:cNvSpPr txBox="1"/>
              <p:nvPr/>
            </p:nvSpPr>
            <p:spPr>
              <a:xfrm>
                <a:off x="4857840" y="5398920"/>
                <a:ext cx="395748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Calibri"/>
              </a:rPr>
              <a:t>Page 33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Calibri"/>
              </a:rPr>
              <a:t>4 – 1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Calibri"/>
              </a:rPr>
              <a:t>(skip 7)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18:59Z</dcterms:created>
  <dc:creator>Éric Vadeboncoeur</dc:creator>
  <dc:description/>
  <dc:language>en-US</dc:language>
  <cp:lastModifiedBy>Laura Helbing</cp:lastModifiedBy>
  <dcterms:modified xsi:type="dcterms:W3CDTF">2011-01-10T14:28:11Z</dcterms:modified>
  <cp:revision>27</cp:revision>
  <dc:subject/>
  <dc:title>PRESENTATION  NAME</dc:title>
</cp:coreProperties>
</file>