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134-2B30-4D54-B921-C17E9F4E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5DA-1E1E-417C-9BE7-790813AD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912-3C9D-421B-A2FA-4EEE36DF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EDC-C895-4D7E-8509-487C5F91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863-6FD4-4CC0-9C41-B31B857D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738-6CBC-4B78-8417-D30DB66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12E-4D7D-40C4-B551-113E8141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0B8-6EC2-4957-984E-1922E64E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679-0840-46E7-AC81-C0141E95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A01-62E5-47B3-87D6-C876AA8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058-99BA-4576-B46E-4E5B0CE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565-A475-4B87-AA86-1060E9B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1230-84DE-40EB-BF95-A0D09B5EF65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Using Ident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Section 5.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Sin 2x =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357280" y="2286000"/>
                <a:ext cx="602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630520" y="3214800"/>
                <a:ext cx="5624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3790800" y="4000680"/>
                <a:ext cx="3557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elpful Identitie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 –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2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– 1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in 2x = 2sinx ∙ co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olve:  cos 2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-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2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 = 0,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 +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, where k is any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w this is an identit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sin2x= (sinx + cosx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2cosx sin x = 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+ 2sinx cosx + 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+ 2cosx sin x = 1 + 2cos x sin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uppose 0 &lt; x &lt; </a:t>
            </a:r>
            <a:r>
              <a:rPr b="1" lang="el-GR" sz="33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and cos x = 1/5.  Find cos 2x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Best identity?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cos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x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(1/5)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(1/25)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/25 – 25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-23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appropriate identity for cos 2x to write the trigonometric value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dent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14316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5788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214800" y="5500800"/>
                <a:ext cx="2682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 (continued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714760" y="1857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072040" y="19288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285840" y="2643120"/>
                <a:ext cx="36766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429080" y="2643120"/>
                <a:ext cx="40356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2920" y="4143240"/>
                <a:ext cx="41562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87840" y="4214880"/>
                <a:ext cx="38368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5840" y="5380200"/>
                <a:ext cx="39574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4857840" y="5398920"/>
                <a:ext cx="39574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Page 3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4 –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(skip 7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14:28:11Z</dcterms:modified>
  <cp:revision>27</cp:revision>
  <dc:subject/>
  <dc:title>PRESENTATION  NAME</dc:title>
</cp:coreProperties>
</file>