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8B9-687C-4CE9-A0EB-B4D72497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F3F-5EB9-480E-8F82-602BEB6B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581-AF51-4EEC-ABF1-CE04D1F2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6C5-283D-4B7D-8E24-61487C28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75F-8B77-41C8-9BFB-FE8CA871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FE6-C089-4D36-987D-935B77B5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D8A-FAE7-4B4F-9738-C4A1BEE9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110-13DB-48A5-B7A1-E7D5C535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D3B-E15F-4AB7-A47C-E35A2BC3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25B-AED8-497B-A6E0-4FB8AA98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CCA-9461-41A3-8B27-55294C1F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123-15CD-4F1E-B2C6-5061B43B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3AAD-A28B-4928-913C-B8C2C955783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Using Ident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Section 5.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Sin 2x =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membe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2357280" y="2286000"/>
                <a:ext cx="6029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2630520" y="3214800"/>
                <a:ext cx="56246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3790800" y="4000680"/>
                <a:ext cx="3557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elpful Identities to K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 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 – 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2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– 1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1 – 2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in 2x = 2sinx ∙ co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Solve:  cos 2x = 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-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= 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2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sin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 = 0,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, etc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 +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, where k is any inte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ow this is an identit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 + sin2x= (sinx + cosx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 + 2cosx sin x = si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+ 2sinx cosx + cos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+ 2cosx sin x = 1 + 2cos x sin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3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42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uppose 0 &lt; x &lt; </a:t>
            </a:r>
            <a:r>
              <a:rPr b="1" lang="el-GR" sz="33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and cos x = 1/5.  Find cos 2x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Best identity?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 cos</a:t>
            </a:r>
            <a:r>
              <a:rPr b="1" lang="en-US" sz="33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x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 (1/5)</a:t>
            </a:r>
            <a:r>
              <a:rPr b="1" lang="en-US" sz="33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(1/25)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/25 – 25/2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-23/2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n appropriate identity for cos 2x to write the trigonometric value in terms of rational numbers and radic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ident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1 – 2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8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143160" y="471492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 (2 *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357880" y="471492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Cos 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3214800" y="5500800"/>
                <a:ext cx="26827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 (continued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8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714760" y="185724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 (2 *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5072040" y="192888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Cos 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285840" y="2643120"/>
                <a:ext cx="36766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3"/>
              <p:cNvSpPr txBox="1"/>
              <p:nvPr/>
            </p:nvSpPr>
            <p:spPr>
              <a:xfrm>
                <a:off x="4429080" y="2643120"/>
                <a:ext cx="40356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142920" y="4143240"/>
                <a:ext cx="41562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4587840" y="4214880"/>
                <a:ext cx="38368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285840" y="5380200"/>
                <a:ext cx="395748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4857840" y="5398920"/>
                <a:ext cx="39574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Page 33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4 – 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(skip 7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18:59Z</dcterms:created>
  <dc:creator>Éric Vadeboncoeur</dc:creator>
  <dc:description/>
  <dc:language>en-US</dc:language>
  <cp:lastModifiedBy>Laura Helbing</cp:lastModifiedBy>
  <dcterms:modified xsi:type="dcterms:W3CDTF">2011-01-10T14:28:11Z</dcterms:modified>
  <cp:revision>27</cp:revision>
  <dc:subject/>
  <dc:title>PRESENTATION  NAME</dc:title>
</cp:coreProperties>
</file>