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1F37-1671-4418-90CC-07EC0689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D5CA-C7C2-4879-946F-AEAD35C5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4C0A-48BE-4E8D-BFDF-3DA0133F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4013-628B-47A9-B20D-4A88DCC2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0899-E2FA-4BD9-9AA7-3E427607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31E4-9C4D-421C-9B35-232709BE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6777-6574-45B9-98EA-118B1461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0A7D-7DD7-4C29-B6F2-F7FC988B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6783-C89F-4E48-B6DD-9DD2BA6B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04B0-FF0A-4466-9F2A-577C2843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C052-DCB5-44A5-9EA8-A4B782A8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15C7-0BBA-4A3D-8584-4E3275BB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BFB7-5719-4EEC-9DFC-E761D2AE82FA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ffffff"/>
                </a:solidFill>
                <a:latin typeface="Calibri"/>
              </a:rPr>
              <a:t>Using Identit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2428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Calibri"/>
              </a:rPr>
              <a:t>Section 5.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Sin 2x =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member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2357280" y="2286000"/>
                <a:ext cx="60296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5"/>
              <p:cNvSpPr txBox="1"/>
              <p:nvPr/>
            </p:nvSpPr>
            <p:spPr>
              <a:xfrm>
                <a:off x="2630520" y="3214800"/>
                <a:ext cx="56246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6"/>
              <p:cNvSpPr txBox="1"/>
              <p:nvPr/>
            </p:nvSpPr>
            <p:spPr>
              <a:xfrm>
                <a:off x="3790800" y="4000680"/>
                <a:ext cx="35578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Helpful Identities to Know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s 2x =  cos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x – sin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cos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x + sin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x =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s 2x = 2cos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x – 1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s 2x = 1 – 2sin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in 2x = 2sinx ∙ cos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1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Solve:  cos 2x = cos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 + sin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cos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 - sin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 = cos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 + sin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0 = 2sin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0 = sin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0 = sin 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X = 0, </a:t>
            </a:r>
            <a:r>
              <a:rPr b="1" lang="el-GR" sz="36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, etc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0 + </a:t>
            </a:r>
            <a:r>
              <a:rPr b="1" lang="el-GR" sz="36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, where k is any integ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2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ow this is an identit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 + sin2x= (sinx + cosx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 + 2cosx sin x = si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 + 2sinx cosx + cos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+ 2cosx sin x = 1 + 2cos x sin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3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42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uppose 0 &lt; x &lt; </a:t>
            </a:r>
            <a:r>
              <a:rPr b="1" lang="el-GR" sz="33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and cos x = 1/5.  Find cos 2x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Best identity?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s 2x = 2 cos</a:t>
            </a:r>
            <a:r>
              <a:rPr b="1" lang="en-US" sz="33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x – 1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s 2x = 2 (1/5)</a:t>
            </a:r>
            <a:r>
              <a:rPr b="1" lang="en-US" sz="33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– 1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s 2x = 2(1/25) – 1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s 2x = 2/25 – 25/2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s 2x = -23/2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4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n appropriate identity for cos 2x to write the trigonometric value in terms of rational numbers and radic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t ident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s 2x = 1 – 2sin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8)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3143160" y="471492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 (2 *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5357880" y="471492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Cos (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5"/>
              <p:cNvSpPr txBox="1"/>
              <p:nvPr/>
            </p:nvSpPr>
            <p:spPr>
              <a:xfrm>
                <a:off x="3214800" y="5500800"/>
                <a:ext cx="268272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4 (continued)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8)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2714760" y="185724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 (2 *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5072040" y="192888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Cos (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2"/>
              <p:cNvSpPr txBox="1"/>
              <p:nvPr/>
            </p:nvSpPr>
            <p:spPr>
              <a:xfrm>
                <a:off x="285840" y="2643120"/>
                <a:ext cx="367668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3"/>
              <p:cNvSpPr txBox="1"/>
              <p:nvPr/>
            </p:nvSpPr>
            <p:spPr>
              <a:xfrm>
                <a:off x="4429080" y="2643120"/>
                <a:ext cx="403560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4"/>
              <p:cNvSpPr txBox="1"/>
              <p:nvPr/>
            </p:nvSpPr>
            <p:spPr>
              <a:xfrm>
                <a:off x="142920" y="4143240"/>
                <a:ext cx="415620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5"/>
              <p:cNvSpPr txBox="1"/>
              <p:nvPr/>
            </p:nvSpPr>
            <p:spPr>
              <a:xfrm>
                <a:off x="4587840" y="4214880"/>
                <a:ext cx="383688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285840" y="5380200"/>
                <a:ext cx="395748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7"/>
              <p:cNvSpPr txBox="1"/>
              <p:nvPr/>
            </p:nvSpPr>
            <p:spPr>
              <a:xfrm>
                <a:off x="4857840" y="5398920"/>
                <a:ext cx="395748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Calibri"/>
              </a:rPr>
              <a:t>Page 33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Calibri"/>
              </a:rPr>
              <a:t>4 – 1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Calibri"/>
              </a:rPr>
              <a:t>(skip 7)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8:18:59Z</dcterms:created>
  <dc:creator>Éric Vadeboncoeur</dc:creator>
  <dc:description/>
  <dc:language>en-US</dc:language>
  <cp:lastModifiedBy>Laura Helbing</cp:lastModifiedBy>
  <dcterms:modified xsi:type="dcterms:W3CDTF">2011-01-10T14:28:11Z</dcterms:modified>
  <cp:revision>27</cp:revision>
  <dc:subject/>
  <dc:title>PRESENTATION  NAME</dc:title>
</cp:coreProperties>
</file>