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B1C-15AA-4E8E-B497-F8F0F092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C52-4A2A-478C-8E08-74DAACA7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5526-1BC6-4D0B-9E1C-0C8B6D57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6AC-8AE4-414D-8614-88B0DC84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650-4DE0-41BA-9829-C212F974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2B1-BA4C-487B-ABE7-9F2FC6D8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F9B-AC16-4A43-8EAA-F0C5D103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4F8-31C8-40E0-A83E-7F7CB89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F3B-8203-4603-95EC-FD424A74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B9B-AD49-4234-9B8B-045AA183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F57-9E1F-4AD2-B03C-FD741A68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3EC-73D8-4624-A3F5-CFBD9CF2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973F-EA32-4060-9A26-5AEEF529C36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Using Ident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Section 5.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Sin 2x =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357280" y="2286000"/>
                <a:ext cx="602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630520" y="3214800"/>
                <a:ext cx="5624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3790800" y="4000680"/>
                <a:ext cx="3557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elpful Identitie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 –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2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– 1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in 2x = 2sinx ∙ co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olve:  cos 2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-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2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 = 0,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 +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, where k is any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w this is an identit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sin2x= (sinx + cosx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2cosx sin x = 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+ 2sinx cosx +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+ 2cosx sin x = 1 + 2cos x sin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uppose 0 &lt; x &lt; </a:t>
            </a:r>
            <a:r>
              <a:rPr b="1" lang="el-GR" sz="33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and cos x = 1/5.  Find cos 2x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Best identity?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cos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x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(1/5)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(1/25)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/25 – 25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-23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appropriate identity for cos 2x to write the trigonometric value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dent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14316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5788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14800" y="5500800"/>
                <a:ext cx="2682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 (continued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714760" y="1857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072040" y="19288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85840" y="2643120"/>
                <a:ext cx="36766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429080" y="2643120"/>
                <a:ext cx="40356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2920" y="4143240"/>
                <a:ext cx="41562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87840" y="4214880"/>
                <a:ext cx="38368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5840" y="5380200"/>
                <a:ext cx="39574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4857840" y="5398920"/>
                <a:ext cx="39574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Page 3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4 –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(skip 7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14:28:11Z</dcterms:modified>
  <cp:revision>27</cp:revision>
  <dc:subject/>
  <dc:title>PRESENTATION  NAME</dc:title>
</cp:coreProperties>
</file>