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9FD-57C0-479A-9734-D576B465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8D5-57E8-4C53-BA67-24B4BEAF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4E7-8BE2-4F8F-9DD0-672958EC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3D7-709C-43F6-ACAE-0450C8DC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4E9B-8725-4F06-950B-1DDBEA61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A823-721E-4518-B115-D11DC10B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9CDC-C614-41E0-9961-882766E2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3F51-6E45-4486-B866-E74AC3D0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92BE-A08E-4395-8A22-548CF88B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D813-9B80-4667-9A98-9D209CFF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A36D-29F0-4405-BA73-AC917116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0DD-3F1F-4051-A56A-FF1B6791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14A2-178A-4EF3-963C-76C546D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C860-4719-47F0-B3D7-356EDAC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A5AB-D7B4-4607-8E06-CB550384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0702-3938-48EC-BF60-55F4D8FD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B58B-D63C-4903-B18A-3D1FD995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41D4-B4D9-4B8A-8D14-F6C48926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DBAE-B7F5-4FE0-8CA6-D22E68F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2F03-507C-443B-A45A-B7411191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05243-01C1-426A-A453-89077D2D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7900-911C-4F05-B7A6-0609B8F6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C3B-0327-420E-90EB-3C614DA0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F65EE-8C5B-4701-9663-D0CCC170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9A9D-8B91-4813-8D7E-4E519D2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67D3-936A-41D1-832B-C6DADCBE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4966-ED85-4309-B726-27E4FD00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7372-BA69-4A5E-9C21-96C96F98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3FE2-F4B1-4CF3-8D20-DBD5BD61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A6F2-DA73-4460-BDB4-04EB8B4E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5F0D-F143-435B-9B4F-65EF4844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03113-E2B5-44CA-8C37-9F1941F1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278B-0965-48D3-B926-BD549CC0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E0A-C19C-4759-B655-C78A5CF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CBFF-D20C-4444-98C3-84820356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964C-9B32-4C8C-A1FB-720A3309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FD287-6DE5-4D50-A6B7-80CDD37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C6AF-900B-4657-98A3-6616769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9640-B32D-4BE0-8408-80F9655E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5C4A4-1A23-4940-888D-DC853DE9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2442-3495-4E97-AD91-56E8A0A1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E261-FC70-4366-B03F-DE208A88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7B001-A6D3-486D-850D-59A7A455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80E4-28FE-427D-B222-D87A878C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6D3-AAC4-4809-8A87-FA7DB7FC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C723-0A6A-4DEF-BFDB-C8FB6A7E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AF191-1EBF-459D-A3E4-5F2848F1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9F16-49B2-4B28-9C0F-5CB93664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3A5C8-F310-49B1-BAC3-79B20E0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2FAF6-546E-4858-AA2A-5FE441DE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FBF7-114A-4CB4-8462-F95A7F9D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92FF0-C8A6-41D1-9F41-4844C873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35E83-1D1F-4209-8E8C-E28AE20F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05B37-C2D7-4DC3-9806-7E58D6B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BAAA4-5174-449B-9E8F-8030DE8C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7D7-57D4-4E3C-A02E-C0944F60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66AA4-AA56-4037-9F35-BA25D2B7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0CA-2B95-4C6F-A8D5-7AA08275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962-D294-49D4-BFA8-2239CD58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F76-74D3-4A08-829B-EF1253B4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F30C-14D7-44AA-8ADE-43BEDA2F986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9C8D-9482-4839-8EC0-D5FF6AAADB33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68A3-7AE0-423C-959B-8FF1104D586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55C6-6D51-4D9E-9F99-073A210E490B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B670-A033-426C-9C96-413FCA32469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9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FA23-A045-465F-B059-B501E605F94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tangent function has a discontinuous graph, repeating in a period of 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 The graph is discontinuous a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ke the tangent, cotangent is discontinuous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ontinuities of the cotangent are      units left of those for tangen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Object 5"/>
          <p:cNvGraphicFramePr/>
          <p:nvPr/>
        </p:nvGraphicFramePr>
        <p:xfrm>
          <a:off x="1143000" y="5715000"/>
          <a:ext cx="3780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5715000"/>
                    <a:ext cx="378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6" descr="Resources\Tan.bmp"/>
          <p:cNvPicPr/>
          <p:nvPr/>
        </p:nvPicPr>
        <p:blipFill>
          <a:blip r:embed="rId4"/>
          <a:stretch/>
        </p:blipFill>
        <p:spPr>
          <a:xfrm>
            <a:off x="6024600" y="1905120"/>
            <a:ext cx="2043000" cy="2057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Resources\Cot.bmp"/>
          <p:cNvPicPr/>
          <p:nvPr/>
        </p:nvPicPr>
        <p:blipFill>
          <a:blip r:embed="rId5"/>
          <a:stretch/>
        </p:blipFill>
        <p:spPr>
          <a:xfrm>
            <a:off x="6024600" y="4191120"/>
            <a:ext cx="2017800" cy="20574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6"/>
          <a:stretch/>
        </p:blipFill>
        <p:spPr>
          <a:xfrm>
            <a:off x="3581280" y="327672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3696-9C4B-421A-B300-A9CDE3FAA23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Resources\csc.bmp"/>
          <p:cNvPicPr/>
          <p:nvPr/>
        </p:nvPicPr>
        <p:blipFill>
          <a:blip r:embed="rId2">
            <a:biLevel thresh="50000"/>
            <a:lum contrast="36000"/>
          </a:blip>
          <a:stretch/>
        </p:blipFill>
        <p:spPr>
          <a:xfrm>
            <a:off x="4724280" y="4343400"/>
            <a:ext cx="2568600" cy="21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8"/>
          <p:cNvGraphicFramePr/>
          <p:nvPr/>
        </p:nvGraphicFramePr>
        <p:xfrm>
          <a:off x="1371600" y="4572000"/>
          <a:ext cx="2584440" cy="19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572000"/>
                    <a:ext cx="25844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ecant and Coseca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ecant and cosecant functions are the reciprocals of the cosine and sine functions respectively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magine each graph is balancing on the peaks and troughs of its reciprocal functio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-360" y="1609200"/>
            <a:ext cx="89154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Pages 134 – 135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1, 3, 6, 7, 9 – 12, 15, 17, 20, 21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5A07-8A68-4772-98BD-F389BF3CCAF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most fundamental sine wave,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,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as the graph show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fluctuates from 0 to a max of 1, min of –1, 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Resources\Sin.bmp"/>
          <p:cNvPicPr/>
          <p:nvPr/>
        </p:nvPicPr>
        <p:blipFill>
          <a:blip r:embed="rId2"/>
          <a:srcRect l="0" t="0" r="0" b="19882"/>
          <a:stretch/>
        </p:blipFill>
        <p:spPr>
          <a:xfrm>
            <a:off x="1295280" y="4038480"/>
            <a:ext cx="5867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4207-F0A1-4E6A-AFEF-978EE4C0712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graph of                                 is determined by four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, b, 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amplitude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height of each peak and the depth of each trough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frequency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b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number of full wave patterns that are completed in a space of 2</a:t>
            </a:r>
            <a:r>
              <a:rPr b="0" lang="en-US" sz="2300" spc="-1" strike="noStrike">
                <a:solidFill>
                  <a:srgbClr val="7f7f7f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period of the function 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two remaining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 the translation of the wave from the origin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6"/>
          <p:cNvGraphicFramePr/>
          <p:nvPr/>
        </p:nvGraphicFramePr>
        <p:xfrm>
          <a:off x="2514600" y="1752480"/>
          <a:ext cx="274320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752480"/>
                    <a:ext cx="2743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7"/>
          <p:cNvGraphicFramePr/>
          <p:nvPr/>
        </p:nvGraphicFramePr>
        <p:xfrm>
          <a:off x="5105520" y="3962520"/>
          <a:ext cx="399960" cy="65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39996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94FD-1B76-4F77-A084-A6E6937988B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0381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aph show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2x) - 1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4x)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4x)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39" name="Group 43"/>
          <p:cNvGrpSpPr/>
          <p:nvPr/>
        </p:nvGrpSpPr>
        <p:grpSpPr>
          <a:xfrm>
            <a:off x="398160" y="1676520"/>
            <a:ext cx="3461040" cy="3489840"/>
            <a:chOff x="398160" y="1676520"/>
            <a:chExt cx="3461040" cy="3489840"/>
          </a:xfrm>
        </p:grpSpPr>
        <p:sp>
          <p:nvSpPr>
            <p:cNvPr id="240" name="Rectangle 7"/>
            <p:cNvSpPr/>
            <p:nvPr/>
          </p:nvSpPr>
          <p:spPr>
            <a:xfrm>
              <a:off x="446040" y="1733400"/>
              <a:ext cx="3267000" cy="3263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441360" y="3365280"/>
              <a:ext cx="327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4136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39816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126036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21752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207972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289872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285156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371808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367092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2079720" y="1726920"/>
              <a:ext cx="1440" cy="327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9"/>
            <p:cNvSpPr/>
            <p:nvPr/>
          </p:nvSpPr>
          <p:spPr>
            <a:xfrm>
              <a:off x="2049480" y="17269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1991520" y="1676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>
              <a:off x="2049480" y="20541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1991520" y="200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3"/>
            <p:cNvSpPr/>
            <p:nvPr/>
          </p:nvSpPr>
          <p:spPr>
            <a:xfrm>
              <a:off x="2049480" y="23796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1991520" y="2328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2049480" y="27129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1991520" y="266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7"/>
            <p:cNvSpPr/>
            <p:nvPr/>
          </p:nvSpPr>
          <p:spPr>
            <a:xfrm>
              <a:off x="2049480" y="30384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8"/>
            <p:cNvSpPr/>
            <p:nvPr/>
          </p:nvSpPr>
          <p:spPr>
            <a:xfrm>
              <a:off x="1991520" y="2989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9"/>
            <p:cNvSpPr/>
            <p:nvPr/>
          </p:nvSpPr>
          <p:spPr>
            <a:xfrm>
              <a:off x="2049480" y="336528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0"/>
            <p:cNvSpPr/>
            <p:nvPr/>
          </p:nvSpPr>
          <p:spPr>
            <a:xfrm>
              <a:off x="2049480" y="36921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979640" y="36414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>
              <a:off x="2049480" y="40176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979640" y="39668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2049480" y="43509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1979640" y="43002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2049480" y="46764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7"/>
            <p:cNvSpPr/>
            <p:nvPr/>
          </p:nvSpPr>
          <p:spPr>
            <a:xfrm>
              <a:off x="1979640" y="4627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8"/>
            <p:cNvSpPr/>
            <p:nvPr/>
          </p:nvSpPr>
          <p:spPr>
            <a:xfrm>
              <a:off x="2049480" y="500364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1979640" y="4952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441360" y="2712960"/>
              <a:ext cx="3276720" cy="196308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85FA-FF6A-48A2-86C7-1960436267D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667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 between the high and low poi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raph is translated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 -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vertically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height of each pea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is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unt 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is 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2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78" name="Group 41"/>
          <p:cNvGrpSpPr/>
          <p:nvPr/>
        </p:nvGrpSpPr>
        <p:grpSpPr>
          <a:xfrm>
            <a:off x="855360" y="1600200"/>
            <a:ext cx="3461040" cy="3490200"/>
            <a:chOff x="855360" y="1600200"/>
            <a:chExt cx="3461040" cy="3490200"/>
          </a:xfrm>
        </p:grpSpPr>
        <p:sp>
          <p:nvSpPr>
            <p:cNvPr id="279" name="Rectangle 4"/>
            <p:cNvSpPr/>
            <p:nvPr/>
          </p:nvSpPr>
          <p:spPr>
            <a:xfrm>
              <a:off x="903240" y="1657440"/>
              <a:ext cx="3267000" cy="3263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898560" y="3289320"/>
              <a:ext cx="327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89856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85536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71756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167472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253692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1"/>
            <p:cNvSpPr/>
            <p:nvPr/>
          </p:nvSpPr>
          <p:spPr>
            <a:xfrm>
              <a:off x="335592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330876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417528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4"/>
            <p:cNvSpPr/>
            <p:nvPr/>
          </p:nvSpPr>
          <p:spPr>
            <a:xfrm>
              <a:off x="412812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5"/>
            <p:cNvSpPr/>
            <p:nvPr/>
          </p:nvSpPr>
          <p:spPr>
            <a:xfrm>
              <a:off x="2536920" y="1650960"/>
              <a:ext cx="1440" cy="327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6"/>
            <p:cNvSpPr/>
            <p:nvPr/>
          </p:nvSpPr>
          <p:spPr>
            <a:xfrm>
              <a:off x="2506680" y="165096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"/>
            <p:cNvSpPr/>
            <p:nvPr/>
          </p:nvSpPr>
          <p:spPr>
            <a:xfrm>
              <a:off x="2448720" y="16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2506680" y="19782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9"/>
            <p:cNvSpPr/>
            <p:nvPr/>
          </p:nvSpPr>
          <p:spPr>
            <a:xfrm>
              <a:off x="2448720" y="192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2506680" y="23036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"/>
            <p:cNvSpPr/>
            <p:nvPr/>
          </p:nvSpPr>
          <p:spPr>
            <a:xfrm>
              <a:off x="2448720" y="225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2"/>
            <p:cNvSpPr/>
            <p:nvPr/>
          </p:nvSpPr>
          <p:spPr>
            <a:xfrm>
              <a:off x="2506680" y="26370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3"/>
            <p:cNvSpPr/>
            <p:nvPr/>
          </p:nvSpPr>
          <p:spPr>
            <a:xfrm>
              <a:off x="2448720" y="2585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4"/>
            <p:cNvSpPr/>
            <p:nvPr/>
          </p:nvSpPr>
          <p:spPr>
            <a:xfrm>
              <a:off x="2506680" y="29624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5"/>
            <p:cNvSpPr/>
            <p:nvPr/>
          </p:nvSpPr>
          <p:spPr>
            <a:xfrm>
              <a:off x="244872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6"/>
            <p:cNvSpPr/>
            <p:nvPr/>
          </p:nvSpPr>
          <p:spPr>
            <a:xfrm>
              <a:off x="2506680" y="32893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2506680" y="36162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8"/>
            <p:cNvSpPr/>
            <p:nvPr/>
          </p:nvSpPr>
          <p:spPr>
            <a:xfrm>
              <a:off x="2436840" y="3565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>
              <a:off x="2506680" y="39416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0"/>
            <p:cNvSpPr/>
            <p:nvPr/>
          </p:nvSpPr>
          <p:spPr>
            <a:xfrm>
              <a:off x="2436840" y="3890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2506680" y="42750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2436840" y="42242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2506680" y="46004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2436840" y="455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506680" y="492768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6"/>
            <p:cNvSpPr/>
            <p:nvPr/>
          </p:nvSpPr>
          <p:spPr>
            <a:xfrm>
              <a:off x="2436840" y="48769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98560" y="2637000"/>
              <a:ext cx="3276720" cy="19634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38"/>
          <p:cNvSpPr/>
          <p:nvPr/>
        </p:nvSpPr>
        <p:spPr>
          <a:xfrm>
            <a:off x="914400" y="3657600"/>
            <a:ext cx="320040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0"/>
          <p:cNvSpPr/>
          <p:nvPr/>
        </p:nvSpPr>
        <p:spPr>
          <a:xfrm>
            <a:off x="838080" y="5334120"/>
            <a:ext cx="419112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sin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46F0-D4F1-4874-9575-4CB3AF9EF2D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graph of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 y=cos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resembles the graph of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but is shifted, or translated,      units to the left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also fluctuates fro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max of 1 to a min of –1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ven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Object 8"/>
          <p:cNvGraphicFramePr/>
          <p:nvPr/>
        </p:nvGraphicFramePr>
        <p:xfrm>
          <a:off x="6019920" y="2819520"/>
          <a:ext cx="4572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2819520"/>
                    <a:ext cx="457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Picture 9" descr="Resources\Cos.bmp"/>
          <p:cNvPicPr/>
          <p:nvPr/>
        </p:nvPicPr>
        <p:blipFill>
          <a:blip r:embed="rId4"/>
          <a:stretch/>
        </p:blipFill>
        <p:spPr>
          <a:xfrm>
            <a:off x="4572000" y="4038480"/>
            <a:ext cx="4191120" cy="19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B982-AFE8-41DF-A0BF-B69F01E2AE6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7"/>
          <p:cNvGraphicFramePr/>
          <p:nvPr/>
        </p:nvGraphicFramePr>
        <p:xfrm>
          <a:off x="2666880" y="3124080"/>
          <a:ext cx="34401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124080"/>
                    <a:ext cx="344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8"/>
          <p:cNvSpPr/>
          <p:nvPr/>
        </p:nvSpPr>
        <p:spPr>
          <a:xfrm>
            <a:off x="1225800" y="4191120"/>
            <a:ext cx="7038720" cy="119124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eight of each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umber of full wave pattern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erio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ce required to complet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rizontal and vertical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values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h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hange the shape and location of the wave as for the sin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9520-83D1-4DBE-8353-7A6BA826E05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the graph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5x) 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4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cos(3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cos(3x) +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sin(4x) +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63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34" name="Rectangle 40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3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4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5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6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7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9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0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1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2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3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4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5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6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7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8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9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1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97E3-1EC2-4F26-B0C1-ECC8B6EC454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ertical translation 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height of pe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=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=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28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61" name="Rectangle 4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1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8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0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3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26"/>
          <p:cNvSpPr/>
          <p:nvPr/>
        </p:nvSpPr>
        <p:spPr>
          <a:xfrm>
            <a:off x="5105520" y="3486240"/>
            <a:ext cx="403848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7"/>
          <p:cNvSpPr/>
          <p:nvPr/>
        </p:nvSpPr>
        <p:spPr>
          <a:xfrm>
            <a:off x="4419720" y="5029200"/>
            <a:ext cx="396216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cos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1:06:06Z</dcterms:created>
  <dc:creator>teacher</dc:creator>
  <dc:description/>
  <dc:language>en-US</dc:language>
  <cp:lastModifiedBy>Laura Helbing</cp:lastModifiedBy>
  <dcterms:modified xsi:type="dcterms:W3CDTF">2011-10-12T12:14:22Z</dcterms:modified>
  <cp:revision>5</cp:revision>
  <dc:subject/>
  <dc:title>Trigonometric Functions</dc:title>
</cp:coreProperties>
</file>