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4E4-99B4-4504-94A9-94B4B559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D80-0E18-4305-B9FD-8D1B4737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5A3-6B4C-48B2-817E-E00670A1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20A-5778-4C73-B53D-232729B6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20DD-D837-475A-9C1A-A29CBA8F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5596-A35D-46F0-AA6D-DF3092E8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8C00-A995-400A-94B9-77FB6092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D6DD-244C-42A1-8535-07051713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82D6-600A-4524-B239-2E69CED0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F3F8-3B98-4C7E-A02E-99F3E0DC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22A1-2BA9-4F81-A6FC-C5DEB2B1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4463-A46A-4435-B5A8-A06FE8C8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59D9-6550-48F0-BB8C-19F9683B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B640-4197-4E1F-ABE1-B5D0BB61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A75F-EBA9-4B0C-8AEB-794C6D97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FBFF-9B03-4F1B-8AD8-502E72E9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6FC7-6B0B-4B83-9806-8F4C30E6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66DB-9C85-479C-B30E-206B269D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E97A-B729-4F50-9C2E-ABA999B4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1C2B-93EC-45B4-B36A-34579E35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1B7B-BD7F-4C6D-90EA-23813DE0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2DAA-B8E0-44AD-B561-8FA5D859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44C5-7095-4190-9D4D-A1C1B827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BDCCD-B54C-4824-B3B9-46513655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9F81-E567-464B-A101-2C5B7D24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734E-EF2C-4DC0-B084-3EE9A684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607A5-28ED-4470-B70D-9EBEB167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351C-0B1A-4C48-ABA3-66D690DE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F3CD-EA7D-493D-976F-7EF9D50D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0C3A-6D30-4536-92E3-7D339282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4732F-355A-49E6-BF80-6ED907D9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9406-1237-4E35-B4C9-1BAAFD8E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FE409-80C9-4683-881F-413D1190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9A8-6299-4175-A52B-8D1AD621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CE99-08CC-4D6C-B24F-7B609132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9223-43CD-4079-87ED-6064924E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3AF3-FE2D-4EF2-A636-FCF12E8D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F457A-0F60-4980-8D68-1F37CED0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6A993-6B5C-4A2B-8642-ABDA7C2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2CCE-AF72-4AF7-B030-D61F10D8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7FDF3-016C-4A20-83A5-A2D9713B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618C-0DF1-4E87-BA84-B8628FA1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BB48-AA66-4231-9E02-74C929A7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4F51C-1EA3-4B98-A6D8-AD31CB8A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7CD-E368-46DC-861C-4336FBDB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8300-F344-42ED-974E-6EA403CE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C1727-A0FC-4494-88EC-FFF32A8D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FCE27-FC81-4032-8ACF-2E95729A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BFCE3-E821-43D4-8F34-E1575286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EB36C-EBB5-4EA1-8D34-78A05D34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0BC72-AE04-42F8-B574-2301D579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7721-C839-4AE7-A669-20EB262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88705-D55B-4815-B027-AB146C4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51F60-1DCE-42C2-AB82-EDB37153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2B68D-B33B-4E06-B6D0-1278F5F2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85B-4D30-4BD6-A8F8-898208F8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1466C-6C24-4132-BE34-24D94E9B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6EC-282E-4BC8-AF32-0F2E88C9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8EF-EBF3-443F-AEF8-6527371D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AF3-2111-4AAB-A230-4FD43599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B7C5-5EC6-423B-961F-731DFDD30F2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DFA2-0628-44C8-B089-D43C8815BD8A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B5D4-C411-4FBD-85A0-66BDEAC3AED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0E90-EED4-4738-A51D-AC88816EA6DC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5877-2C8D-4F25-8CFF-5C6E106BBB3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9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4D99-6F32-4009-AC4E-ACA3F1A575A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tangent function has a discontinuous graph, repeating in a period of 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 The graph is discontinuous a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ke the tangent, cotangent is discontinuous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ontinuities of the cotangent are      units left of those for tangen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Object 5"/>
          <p:cNvGraphicFramePr/>
          <p:nvPr/>
        </p:nvGraphicFramePr>
        <p:xfrm>
          <a:off x="1143000" y="5715000"/>
          <a:ext cx="37800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5715000"/>
                    <a:ext cx="378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6" descr="Resources\Tan.bmp"/>
          <p:cNvPicPr/>
          <p:nvPr/>
        </p:nvPicPr>
        <p:blipFill>
          <a:blip r:embed="rId4"/>
          <a:stretch/>
        </p:blipFill>
        <p:spPr>
          <a:xfrm>
            <a:off x="6024600" y="1905120"/>
            <a:ext cx="2043000" cy="2057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Resources\Cot.bmp"/>
          <p:cNvPicPr/>
          <p:nvPr/>
        </p:nvPicPr>
        <p:blipFill>
          <a:blip r:embed="rId5"/>
          <a:stretch/>
        </p:blipFill>
        <p:spPr>
          <a:xfrm>
            <a:off x="6024600" y="4191120"/>
            <a:ext cx="2017800" cy="20574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6"/>
          <a:stretch/>
        </p:blipFill>
        <p:spPr>
          <a:xfrm>
            <a:off x="3581280" y="327672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1782-0064-4FA9-BEB4-259DF4FCDC8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Resources\csc.bmp"/>
          <p:cNvPicPr/>
          <p:nvPr/>
        </p:nvPicPr>
        <p:blipFill>
          <a:blip r:embed="rId2">
            <a:biLevel thresh="50000"/>
            <a:lum contrast="36000"/>
          </a:blip>
          <a:stretch/>
        </p:blipFill>
        <p:spPr>
          <a:xfrm>
            <a:off x="4724280" y="4343400"/>
            <a:ext cx="2568600" cy="21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8"/>
          <p:cNvGraphicFramePr/>
          <p:nvPr/>
        </p:nvGraphicFramePr>
        <p:xfrm>
          <a:off x="1371600" y="4572000"/>
          <a:ext cx="2584440" cy="19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572000"/>
                    <a:ext cx="25844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ecant and Coseca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ecant and cosecant functions are the reciprocals of the cosine and sine functions respectively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magine each graph is balancing on the peaks and troughs of its reciprocal functio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-360" y="1609200"/>
            <a:ext cx="89154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Pages 134 – 135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1, 3, 6, 7, 9 – 12, 15, 17, 20, 21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9776-7D79-4E37-A0DD-8F957F05DC0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most fundamental sine wave,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,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as the graph show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fluctuates from 0 to a max of 1, min of –1, 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Resources\Sin.bmp"/>
          <p:cNvPicPr/>
          <p:nvPr/>
        </p:nvPicPr>
        <p:blipFill>
          <a:blip r:embed="rId2"/>
          <a:srcRect l="0" t="0" r="0" b="19882"/>
          <a:stretch/>
        </p:blipFill>
        <p:spPr>
          <a:xfrm>
            <a:off x="1295280" y="4038480"/>
            <a:ext cx="58676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3713-B9FC-486C-A208-0FF37B211F1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graph of                                 is determined by four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, b, 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amplitude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height of each peak and the depth of each trough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frequency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b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number of full wave patterns that are completed in a space of 2</a:t>
            </a:r>
            <a:r>
              <a:rPr b="0" lang="en-US" sz="2300" spc="-1" strike="noStrike">
                <a:solidFill>
                  <a:srgbClr val="7f7f7f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period of the function 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two remaining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 the translation of the wave from the origin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6"/>
          <p:cNvGraphicFramePr/>
          <p:nvPr/>
        </p:nvGraphicFramePr>
        <p:xfrm>
          <a:off x="2514600" y="1752480"/>
          <a:ext cx="274320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752480"/>
                    <a:ext cx="2743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7"/>
          <p:cNvGraphicFramePr/>
          <p:nvPr/>
        </p:nvGraphicFramePr>
        <p:xfrm>
          <a:off x="5105520" y="3962520"/>
          <a:ext cx="399960" cy="65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39996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EA2B-0BA1-4F6F-B8C9-38DF3ACAB31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0381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graph show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2x) - 1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4x)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4x)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39" name="Group 43"/>
          <p:cNvGrpSpPr/>
          <p:nvPr/>
        </p:nvGrpSpPr>
        <p:grpSpPr>
          <a:xfrm>
            <a:off x="398160" y="1676520"/>
            <a:ext cx="3461040" cy="3489840"/>
            <a:chOff x="398160" y="1676520"/>
            <a:chExt cx="3461040" cy="3489840"/>
          </a:xfrm>
        </p:grpSpPr>
        <p:sp>
          <p:nvSpPr>
            <p:cNvPr id="240" name="Rectangle 7"/>
            <p:cNvSpPr/>
            <p:nvPr/>
          </p:nvSpPr>
          <p:spPr>
            <a:xfrm>
              <a:off x="446040" y="1733400"/>
              <a:ext cx="3267000" cy="3263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441360" y="3365280"/>
              <a:ext cx="327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4136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39816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126036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21752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207972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289872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285156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371808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367092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8"/>
            <p:cNvSpPr/>
            <p:nvPr/>
          </p:nvSpPr>
          <p:spPr>
            <a:xfrm>
              <a:off x="2079720" y="1726920"/>
              <a:ext cx="1440" cy="327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9"/>
            <p:cNvSpPr/>
            <p:nvPr/>
          </p:nvSpPr>
          <p:spPr>
            <a:xfrm>
              <a:off x="2049480" y="17269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1991520" y="1676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>
              <a:off x="2049480" y="20541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1991520" y="200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3"/>
            <p:cNvSpPr/>
            <p:nvPr/>
          </p:nvSpPr>
          <p:spPr>
            <a:xfrm>
              <a:off x="2049480" y="23796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1991520" y="2328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2049480" y="27129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1991520" y="266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7"/>
            <p:cNvSpPr/>
            <p:nvPr/>
          </p:nvSpPr>
          <p:spPr>
            <a:xfrm>
              <a:off x="2049480" y="30384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8"/>
            <p:cNvSpPr/>
            <p:nvPr/>
          </p:nvSpPr>
          <p:spPr>
            <a:xfrm>
              <a:off x="1991520" y="2989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9"/>
            <p:cNvSpPr/>
            <p:nvPr/>
          </p:nvSpPr>
          <p:spPr>
            <a:xfrm>
              <a:off x="2049480" y="336528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0"/>
            <p:cNvSpPr/>
            <p:nvPr/>
          </p:nvSpPr>
          <p:spPr>
            <a:xfrm>
              <a:off x="2049480" y="36921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1979640" y="36414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>
              <a:off x="2049480" y="40176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979640" y="39668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2049480" y="43509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1979640" y="43002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2049480" y="46764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7"/>
            <p:cNvSpPr/>
            <p:nvPr/>
          </p:nvSpPr>
          <p:spPr>
            <a:xfrm>
              <a:off x="1979640" y="4627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8"/>
            <p:cNvSpPr/>
            <p:nvPr/>
          </p:nvSpPr>
          <p:spPr>
            <a:xfrm>
              <a:off x="2049480" y="500364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9"/>
            <p:cNvSpPr/>
            <p:nvPr/>
          </p:nvSpPr>
          <p:spPr>
            <a:xfrm>
              <a:off x="1979640" y="4952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441360" y="2712960"/>
              <a:ext cx="3276720" cy="196308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100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F519-E4BC-4AE6-B691-4B9B1742664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667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 between the high and low poi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raph is translated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 -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vertically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height of each pea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is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unt 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is 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2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78" name="Group 41"/>
          <p:cNvGrpSpPr/>
          <p:nvPr/>
        </p:nvGrpSpPr>
        <p:grpSpPr>
          <a:xfrm>
            <a:off x="855360" y="1600200"/>
            <a:ext cx="3461040" cy="3490200"/>
            <a:chOff x="855360" y="1600200"/>
            <a:chExt cx="3461040" cy="3490200"/>
          </a:xfrm>
        </p:grpSpPr>
        <p:sp>
          <p:nvSpPr>
            <p:cNvPr id="279" name="Rectangle 4"/>
            <p:cNvSpPr/>
            <p:nvPr/>
          </p:nvSpPr>
          <p:spPr>
            <a:xfrm>
              <a:off x="903240" y="1657440"/>
              <a:ext cx="3267000" cy="3263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898560" y="3289320"/>
              <a:ext cx="3276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>
              <a:off x="89856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85536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71756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167472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253692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1"/>
            <p:cNvSpPr/>
            <p:nvPr/>
          </p:nvSpPr>
          <p:spPr>
            <a:xfrm>
              <a:off x="335592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330876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"/>
            <p:cNvSpPr/>
            <p:nvPr/>
          </p:nvSpPr>
          <p:spPr>
            <a:xfrm>
              <a:off x="417528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4"/>
            <p:cNvSpPr/>
            <p:nvPr/>
          </p:nvSpPr>
          <p:spPr>
            <a:xfrm>
              <a:off x="412812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5"/>
            <p:cNvSpPr/>
            <p:nvPr/>
          </p:nvSpPr>
          <p:spPr>
            <a:xfrm>
              <a:off x="2536920" y="1650960"/>
              <a:ext cx="1440" cy="327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6"/>
            <p:cNvSpPr/>
            <p:nvPr/>
          </p:nvSpPr>
          <p:spPr>
            <a:xfrm>
              <a:off x="2506680" y="165096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"/>
            <p:cNvSpPr/>
            <p:nvPr/>
          </p:nvSpPr>
          <p:spPr>
            <a:xfrm>
              <a:off x="2448720" y="16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2506680" y="19782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9"/>
            <p:cNvSpPr/>
            <p:nvPr/>
          </p:nvSpPr>
          <p:spPr>
            <a:xfrm>
              <a:off x="2448720" y="192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2506680" y="23036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"/>
            <p:cNvSpPr/>
            <p:nvPr/>
          </p:nvSpPr>
          <p:spPr>
            <a:xfrm>
              <a:off x="2448720" y="225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2"/>
            <p:cNvSpPr/>
            <p:nvPr/>
          </p:nvSpPr>
          <p:spPr>
            <a:xfrm>
              <a:off x="2506680" y="26370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3"/>
            <p:cNvSpPr/>
            <p:nvPr/>
          </p:nvSpPr>
          <p:spPr>
            <a:xfrm>
              <a:off x="2448720" y="2585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4"/>
            <p:cNvSpPr/>
            <p:nvPr/>
          </p:nvSpPr>
          <p:spPr>
            <a:xfrm>
              <a:off x="2506680" y="29624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5"/>
            <p:cNvSpPr/>
            <p:nvPr/>
          </p:nvSpPr>
          <p:spPr>
            <a:xfrm>
              <a:off x="244872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6"/>
            <p:cNvSpPr/>
            <p:nvPr/>
          </p:nvSpPr>
          <p:spPr>
            <a:xfrm>
              <a:off x="2506680" y="32893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7"/>
            <p:cNvSpPr/>
            <p:nvPr/>
          </p:nvSpPr>
          <p:spPr>
            <a:xfrm>
              <a:off x="2506680" y="36162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8"/>
            <p:cNvSpPr/>
            <p:nvPr/>
          </p:nvSpPr>
          <p:spPr>
            <a:xfrm>
              <a:off x="2436840" y="3565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>
              <a:off x="2506680" y="39416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0"/>
            <p:cNvSpPr/>
            <p:nvPr/>
          </p:nvSpPr>
          <p:spPr>
            <a:xfrm>
              <a:off x="2436840" y="3890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2506680" y="42750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2436840" y="42242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2506680" y="46004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4"/>
            <p:cNvSpPr/>
            <p:nvPr/>
          </p:nvSpPr>
          <p:spPr>
            <a:xfrm>
              <a:off x="2436840" y="455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506680" y="492768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6"/>
            <p:cNvSpPr/>
            <p:nvPr/>
          </p:nvSpPr>
          <p:spPr>
            <a:xfrm>
              <a:off x="2436840" y="48769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98560" y="2637000"/>
              <a:ext cx="3276720" cy="19634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Line 38"/>
          <p:cNvSpPr/>
          <p:nvPr/>
        </p:nvSpPr>
        <p:spPr>
          <a:xfrm>
            <a:off x="914400" y="3657600"/>
            <a:ext cx="320040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0"/>
          <p:cNvSpPr/>
          <p:nvPr/>
        </p:nvSpPr>
        <p:spPr>
          <a:xfrm>
            <a:off x="838080" y="5334120"/>
            <a:ext cx="419112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sin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63C1-1B2F-4816-96F8-D1A33B9BD18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graph of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 y=cos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resembles the graph of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but is shifted, or translated,      units to the left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also fluctuates fro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max of 1 to a min of –1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ven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Object 8"/>
          <p:cNvGraphicFramePr/>
          <p:nvPr/>
        </p:nvGraphicFramePr>
        <p:xfrm>
          <a:off x="6019920" y="2819520"/>
          <a:ext cx="4572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2819520"/>
                    <a:ext cx="457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1" name="Picture 9" descr="Resources\Cos.bmp"/>
          <p:cNvPicPr/>
          <p:nvPr/>
        </p:nvPicPr>
        <p:blipFill>
          <a:blip r:embed="rId4"/>
          <a:stretch/>
        </p:blipFill>
        <p:spPr>
          <a:xfrm>
            <a:off x="4572000" y="4038480"/>
            <a:ext cx="4191120" cy="19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48CB-3C42-49C3-86BC-82C8BD3092F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7"/>
          <p:cNvGraphicFramePr/>
          <p:nvPr/>
        </p:nvGraphicFramePr>
        <p:xfrm>
          <a:off x="2666880" y="3124080"/>
          <a:ext cx="344016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124080"/>
                    <a:ext cx="3440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8"/>
          <p:cNvSpPr/>
          <p:nvPr/>
        </p:nvSpPr>
        <p:spPr>
          <a:xfrm>
            <a:off x="1225800" y="4191120"/>
            <a:ext cx="7038720" cy="119124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eight of each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umber of full wave patterns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erio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ace required to complet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rizontal and vertical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values of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h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hange the shape and location of the wave as for the sin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F4D6-C8BA-4968-9669-094DF89E617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the graph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5x) 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4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cos(3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cos(3x) +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sin(4x) +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63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34" name="Rectangle 40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3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44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5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6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7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9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0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1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2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3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4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5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6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7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8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9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1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E839-3398-481E-8838-C4F46136B7A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Vertical translation 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height of pe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=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=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28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61" name="Rectangle 4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1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8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0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1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3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26"/>
          <p:cNvSpPr/>
          <p:nvPr/>
        </p:nvSpPr>
        <p:spPr>
          <a:xfrm>
            <a:off x="5105520" y="3486240"/>
            <a:ext cx="403848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7"/>
          <p:cNvSpPr/>
          <p:nvPr/>
        </p:nvSpPr>
        <p:spPr>
          <a:xfrm>
            <a:off x="4419720" y="5029200"/>
            <a:ext cx="396216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5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cos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1:06:06Z</dcterms:created>
  <dc:creator>teacher</dc:creator>
  <dc:description/>
  <dc:language>en-US</dc:language>
  <cp:lastModifiedBy>Laura Helbing</cp:lastModifiedBy>
  <dcterms:modified xsi:type="dcterms:W3CDTF">2011-10-12T12:14:22Z</dcterms:modified>
  <cp:revision>5</cp:revision>
  <dc:subject/>
  <dc:title>Trigonometric Functions</dc:title>
</cp:coreProperties>
</file>