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93B-13CB-4D6D-8223-9113AE52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F78-E205-40FA-AD8C-6A35163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938-5396-41EA-9D65-0A104331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DEF5-B872-45FC-B6B6-2E7CC738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8E7E-478F-4F9F-B333-D33FAFAF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A610-3130-41AB-AC41-1ECF30AD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E0FA-4605-4922-904C-25D42F79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C004-EE44-43DD-A03B-F6764317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6D39-718B-4D43-A766-4629EB98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AD4A-EC10-46D4-8264-D131C545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DF92-3E44-4290-886E-741B0A47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ECE-FE71-452B-B675-1EAD892B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D839-E553-47F8-B2B6-448D7446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908D-0179-486E-88C1-10DABD85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B75B-69A9-4E5E-8300-4FB0FAEE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B62D-DF35-45EC-B5EC-DBA3EAFE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979-FB34-4664-90AC-E974EDD8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FAA9B-DA05-4A35-A32D-F1ED7D20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ACF5-5A49-40FB-BB77-BDE44871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26B4-CFB0-40D7-8B5C-53CFFC29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82E8-902B-4DC7-8D15-C9B5B640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F210A-B6D6-4D45-8CE6-E45ACB7D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257-67B3-4A46-88FD-08D297A9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B554-3219-48E8-8004-2F68C698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A424-8476-4E45-9065-EC15CB3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7A39-2560-4B79-B5E1-5FF59E4C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AB94-CADB-4A33-93C0-E34877A8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CD22-8F8C-41D4-B79F-91BF8A5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D29B-637E-4927-901F-FEFA4544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6BAA-E534-4128-B06C-5FB7C376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DD889-D3C0-4A4F-B46B-B73127A1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32D78-E833-47B4-8083-26F3EE8F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D9AF-5B94-42B9-AE07-F65B9117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60B-5A1C-426D-B5DB-3B933175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BD77-1F49-40FE-8C88-C12245DF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A40F-C447-42FA-8ECA-5846D474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3A07F-22F4-4EA6-9B1E-D35A03C7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6810-60B7-4948-BFC3-B84805BD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2C916-AB29-4DCB-8510-EE9743AB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B260-9A34-4BBB-99B9-83CCA7DC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66F3-32D6-4323-9777-E58224F0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5525-FEB3-475C-BBA6-E2F1ABDA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E428-5F46-4B52-ABB6-A35BD13C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8260F-B682-41A2-88BD-4A18CBE1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30D-EA13-4A71-B729-14F9E96A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C288-7CC7-4660-90EB-5154C538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207F6-62C5-4679-A31E-FAC25D20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9CA40-3932-49E3-9582-C952A150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FBC8-D8DB-403C-B8AF-8824C45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8A9AB-C1E5-414F-AFB1-FEF7D18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5F60B-10AB-48EE-A18B-B1D941D8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D8DB0-EEAF-4727-B9CB-52C88BAD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6238F-39F3-444C-BCAB-ECBEF95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BCC5E-24B9-4B92-8DEC-524ED046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DAAA9-1193-45BF-984F-C426D8A5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7F1-AE1B-4228-9C06-20DC27A4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6C49A-2C05-42F2-8678-C65F982B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6CE-9B49-481C-B343-2F5D2126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587A-A6C9-44E4-A49D-91CF36A7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31B-FC96-4958-AAB5-EF7C263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AB9F-7FF1-4174-AF91-1E55CAA799D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D2D2-F23A-432F-B959-A1B7B0C3D42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CD23-0B94-4B70-B701-B20BF5D4907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F3FC-36BC-41B8-AE07-8987C1DD80B8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41C6-F6AB-4176-A153-309CCCE92B8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9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4B81-9B50-4590-8AAC-D44B50373ED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tangent function has a discontinuous graph, repeating in a period of 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 The graph is discontinuous a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ke the tangent, cotangent is discontinuous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ontinuities of the cotangent are      units left of those for tangen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Object 5"/>
          <p:cNvGraphicFramePr/>
          <p:nvPr/>
        </p:nvGraphicFramePr>
        <p:xfrm>
          <a:off x="1143000" y="5715000"/>
          <a:ext cx="3780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5715000"/>
                    <a:ext cx="378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6" descr="Resources\Tan.bmp"/>
          <p:cNvPicPr/>
          <p:nvPr/>
        </p:nvPicPr>
        <p:blipFill>
          <a:blip r:embed="rId4"/>
          <a:stretch/>
        </p:blipFill>
        <p:spPr>
          <a:xfrm>
            <a:off x="6024600" y="1905120"/>
            <a:ext cx="2043000" cy="2057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Resources\Cot.bmp"/>
          <p:cNvPicPr/>
          <p:nvPr/>
        </p:nvPicPr>
        <p:blipFill>
          <a:blip r:embed="rId5"/>
          <a:stretch/>
        </p:blipFill>
        <p:spPr>
          <a:xfrm>
            <a:off x="6024600" y="4191120"/>
            <a:ext cx="2017800" cy="2057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6"/>
          <a:stretch/>
        </p:blipFill>
        <p:spPr>
          <a:xfrm>
            <a:off x="3581280" y="327672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EC78-DBFA-4ABE-875B-C698DC569FB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Resources\csc.bmp"/>
          <p:cNvPicPr/>
          <p:nvPr/>
        </p:nvPicPr>
        <p:blipFill>
          <a:blip r:embed="rId2">
            <a:biLevel thresh="50000"/>
            <a:lum contrast="36000"/>
          </a:blip>
          <a:stretch/>
        </p:blipFill>
        <p:spPr>
          <a:xfrm>
            <a:off x="4724280" y="4343400"/>
            <a:ext cx="2568600" cy="21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8"/>
          <p:cNvGraphicFramePr/>
          <p:nvPr/>
        </p:nvGraphicFramePr>
        <p:xfrm>
          <a:off x="1371600" y="4572000"/>
          <a:ext cx="258444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572000"/>
                    <a:ext cx="2584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ecant and Coseca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ecant and cosecant functions are the reciprocals of the cosine and sine functions respectively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magine each graph is balancing on the peaks and troughs of its reciprocal functio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-360" y="1609200"/>
            <a:ext cx="8915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Pages 134 – 135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1, 3, 6, 7, 9 – 12, 15, 17, 20, 21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2F1-F198-486E-8482-5E8E4D10169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most fundamental sine wave,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as the graph show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fluctuates from 0 to a max of 1, min of –1, 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Resources\Sin.bmp"/>
          <p:cNvPicPr/>
          <p:nvPr/>
        </p:nvPicPr>
        <p:blipFill>
          <a:blip r:embed="rId2"/>
          <a:srcRect l="0" t="0" r="0" b="19882"/>
          <a:stretch/>
        </p:blipFill>
        <p:spPr>
          <a:xfrm>
            <a:off x="1295280" y="4038480"/>
            <a:ext cx="5867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8372-0474-4FA1-823A-5EBEB4A8B1F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graph of                                 is determined by four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, b, 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amplitude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height of each peak and the depth of each trough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frequency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b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number of full wave patterns that are completed in a space of 2</a:t>
            </a:r>
            <a:r>
              <a:rPr b="0" lang="en-US" sz="2300" spc="-1" strike="noStrike">
                <a:solidFill>
                  <a:srgbClr val="7f7f7f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period of the function 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two remaining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 the translation of the wave from the origin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6"/>
          <p:cNvGraphicFramePr/>
          <p:nvPr/>
        </p:nvGraphicFramePr>
        <p:xfrm>
          <a:off x="2514600" y="1752480"/>
          <a:ext cx="274320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752480"/>
                    <a:ext cx="2743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7"/>
          <p:cNvGraphicFramePr/>
          <p:nvPr/>
        </p:nvGraphicFramePr>
        <p:xfrm>
          <a:off x="5105520" y="3962520"/>
          <a:ext cx="399960" cy="65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39996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5277-679F-461C-9BF6-3A468A1AAB9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0381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aph show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2x) - 1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4x)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4x)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39" name="Group 43"/>
          <p:cNvGrpSpPr/>
          <p:nvPr/>
        </p:nvGrpSpPr>
        <p:grpSpPr>
          <a:xfrm>
            <a:off x="398160" y="1676520"/>
            <a:ext cx="3461040" cy="3489840"/>
            <a:chOff x="398160" y="1676520"/>
            <a:chExt cx="3461040" cy="3489840"/>
          </a:xfrm>
        </p:grpSpPr>
        <p:sp>
          <p:nvSpPr>
            <p:cNvPr id="240" name="Rectangle 7"/>
            <p:cNvSpPr/>
            <p:nvPr/>
          </p:nvSpPr>
          <p:spPr>
            <a:xfrm>
              <a:off x="446040" y="1733400"/>
              <a:ext cx="3267000" cy="3263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441360" y="3365280"/>
              <a:ext cx="327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4136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39816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126036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21752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207972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289872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285156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371808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367092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2079720" y="1726920"/>
              <a:ext cx="1440" cy="327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2049480" y="17269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1991520" y="1676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>
              <a:off x="2049480" y="20541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1991520" y="200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3"/>
            <p:cNvSpPr/>
            <p:nvPr/>
          </p:nvSpPr>
          <p:spPr>
            <a:xfrm>
              <a:off x="2049480" y="23796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1991520" y="2328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2049480" y="27129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1991520" y="266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7"/>
            <p:cNvSpPr/>
            <p:nvPr/>
          </p:nvSpPr>
          <p:spPr>
            <a:xfrm>
              <a:off x="2049480" y="30384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1991520" y="2989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9"/>
            <p:cNvSpPr/>
            <p:nvPr/>
          </p:nvSpPr>
          <p:spPr>
            <a:xfrm>
              <a:off x="2049480" y="336528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0"/>
            <p:cNvSpPr/>
            <p:nvPr/>
          </p:nvSpPr>
          <p:spPr>
            <a:xfrm>
              <a:off x="2049480" y="36921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979640" y="36414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>
              <a:off x="2049480" y="40176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979640" y="39668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2049480" y="43509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1979640" y="43002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2049480" y="46764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1979640" y="4627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8"/>
            <p:cNvSpPr/>
            <p:nvPr/>
          </p:nvSpPr>
          <p:spPr>
            <a:xfrm>
              <a:off x="2049480" y="500364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1979640" y="4952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441360" y="2712960"/>
              <a:ext cx="3276720" cy="196308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CCB0-2496-4E3D-BCCE-4B3AEFE3A6C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667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 between the high and low poi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raph is translated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 -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vertically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height of each pea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is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unt 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is 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2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78" name="Group 41"/>
          <p:cNvGrpSpPr/>
          <p:nvPr/>
        </p:nvGrpSpPr>
        <p:grpSpPr>
          <a:xfrm>
            <a:off x="855360" y="1600200"/>
            <a:ext cx="3461040" cy="3490200"/>
            <a:chOff x="855360" y="1600200"/>
            <a:chExt cx="3461040" cy="3490200"/>
          </a:xfrm>
        </p:grpSpPr>
        <p:sp>
          <p:nvSpPr>
            <p:cNvPr id="279" name="Rectangle 4"/>
            <p:cNvSpPr/>
            <p:nvPr/>
          </p:nvSpPr>
          <p:spPr>
            <a:xfrm>
              <a:off x="903240" y="1657440"/>
              <a:ext cx="3267000" cy="3263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898560" y="3289320"/>
              <a:ext cx="327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89856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85536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71756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167472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253692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1"/>
            <p:cNvSpPr/>
            <p:nvPr/>
          </p:nvSpPr>
          <p:spPr>
            <a:xfrm>
              <a:off x="335592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330876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417528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412812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5"/>
            <p:cNvSpPr/>
            <p:nvPr/>
          </p:nvSpPr>
          <p:spPr>
            <a:xfrm>
              <a:off x="2536920" y="1650960"/>
              <a:ext cx="1440" cy="327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"/>
            <p:cNvSpPr/>
            <p:nvPr/>
          </p:nvSpPr>
          <p:spPr>
            <a:xfrm>
              <a:off x="2506680" y="165096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"/>
            <p:cNvSpPr/>
            <p:nvPr/>
          </p:nvSpPr>
          <p:spPr>
            <a:xfrm>
              <a:off x="2448720" y="16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2506680" y="19782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2448720" y="192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2506680" y="23036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"/>
            <p:cNvSpPr/>
            <p:nvPr/>
          </p:nvSpPr>
          <p:spPr>
            <a:xfrm>
              <a:off x="2448720" y="225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2"/>
            <p:cNvSpPr/>
            <p:nvPr/>
          </p:nvSpPr>
          <p:spPr>
            <a:xfrm>
              <a:off x="2506680" y="26370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3"/>
            <p:cNvSpPr/>
            <p:nvPr/>
          </p:nvSpPr>
          <p:spPr>
            <a:xfrm>
              <a:off x="2448720" y="2585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4"/>
            <p:cNvSpPr/>
            <p:nvPr/>
          </p:nvSpPr>
          <p:spPr>
            <a:xfrm>
              <a:off x="2506680" y="29624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5"/>
            <p:cNvSpPr/>
            <p:nvPr/>
          </p:nvSpPr>
          <p:spPr>
            <a:xfrm>
              <a:off x="24487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6"/>
            <p:cNvSpPr/>
            <p:nvPr/>
          </p:nvSpPr>
          <p:spPr>
            <a:xfrm>
              <a:off x="2506680" y="32893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2506680" y="36162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2436840" y="3565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>
              <a:off x="2506680" y="39416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0"/>
            <p:cNvSpPr/>
            <p:nvPr/>
          </p:nvSpPr>
          <p:spPr>
            <a:xfrm>
              <a:off x="2436840" y="3890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2506680" y="42750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2436840" y="42242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2506680" y="46004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2436840" y="455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506680" y="492768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6"/>
            <p:cNvSpPr/>
            <p:nvPr/>
          </p:nvSpPr>
          <p:spPr>
            <a:xfrm>
              <a:off x="2436840" y="48769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98560" y="2637000"/>
              <a:ext cx="3276720" cy="19634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38"/>
          <p:cNvSpPr/>
          <p:nvPr/>
        </p:nvSpPr>
        <p:spPr>
          <a:xfrm>
            <a:off x="914400" y="3657600"/>
            <a:ext cx="320040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838080" y="5334120"/>
            <a:ext cx="419112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sin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FEA3-4658-43C1-B4E0-4F0822EF584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graph of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 y=cos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resembles the graph of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but is shifted, or translated,      units to the left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also fluctuates fro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max of 1 to a min of –1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en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Object 8"/>
          <p:cNvGraphicFramePr/>
          <p:nvPr/>
        </p:nvGraphicFramePr>
        <p:xfrm>
          <a:off x="6019920" y="2819520"/>
          <a:ext cx="4572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2819520"/>
                    <a:ext cx="457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Picture 9" descr="Resources\Cos.bmp"/>
          <p:cNvPicPr/>
          <p:nvPr/>
        </p:nvPicPr>
        <p:blipFill>
          <a:blip r:embed="rId4"/>
          <a:stretch/>
        </p:blipFill>
        <p:spPr>
          <a:xfrm>
            <a:off x="4572000" y="4038480"/>
            <a:ext cx="4191120" cy="19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731F-47F1-408F-AF4C-1927AAC0001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7"/>
          <p:cNvGraphicFramePr/>
          <p:nvPr/>
        </p:nvGraphicFramePr>
        <p:xfrm>
          <a:off x="2666880" y="3124080"/>
          <a:ext cx="34401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124080"/>
                    <a:ext cx="344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8"/>
          <p:cNvSpPr/>
          <p:nvPr/>
        </p:nvSpPr>
        <p:spPr>
          <a:xfrm>
            <a:off x="1225800" y="4191120"/>
            <a:ext cx="7038720" cy="119124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eight of each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umber of full wave pattern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erio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ce required to complet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rizontal and vertical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values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h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hange the shape and location of the wave as for the sin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25E4-8CE0-4F27-A745-3B39E4C61C4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the graph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5x) 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4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cos(3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cos(3x) +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sin(4x) +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63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34" name="Rectangle 40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4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6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7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9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0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1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2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3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4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5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6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7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8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9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1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D647-1B86-4E71-B248-2B6B9A4AFA3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ertical translation 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height of pe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=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=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28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61" name="Rectangle 4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8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0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3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26"/>
          <p:cNvSpPr/>
          <p:nvPr/>
        </p:nvSpPr>
        <p:spPr>
          <a:xfrm>
            <a:off x="5105520" y="3486240"/>
            <a:ext cx="403848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7"/>
          <p:cNvSpPr/>
          <p:nvPr/>
        </p:nvSpPr>
        <p:spPr>
          <a:xfrm>
            <a:off x="4419720" y="5029200"/>
            <a:ext cx="396216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cos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1:06:06Z</dcterms:created>
  <dc:creator>teacher</dc:creator>
  <dc:description/>
  <dc:language>en-US</dc:language>
  <cp:lastModifiedBy>Laura Helbing</cp:lastModifiedBy>
  <dcterms:modified xsi:type="dcterms:W3CDTF">2011-10-12T12:14:22Z</dcterms:modified>
  <cp:revision>5</cp:revision>
  <dc:subject/>
  <dc:title>Trigonometric Functions</dc:title>
</cp:coreProperties>
</file>