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029-6C31-41F0-A661-A79F2B9C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463-4BC3-4DDB-BDC4-585C28B3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AC8-249C-48E2-A9D1-88E57E0B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433-7A6F-4623-9158-6A698FC0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EB72-FDF7-4106-880A-39F6DB0A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0676-D53E-48E1-9DCC-C45044A4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6341-3288-46BE-BD9A-8E6FFCD9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592C-108F-4343-B7D3-62AB0352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3F42-9DA7-4DDB-B545-C394FEF6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6AC4-0DF2-4135-986D-91D28F14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FD86-6D55-439D-BC3B-C81B7480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56F-28E7-4862-8081-1ADBA7E0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49DA-EEE5-4ABC-BB57-61F2831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C6AF-2672-4C82-B086-8EDEB129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2B01-8610-4CF4-B3C3-16383AC5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C274-1B28-4DAA-81D1-D98EE20B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3E2D-20AE-4324-9BC1-EF33A045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C874C-59D0-4C7A-AA82-9044910A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C6BA7-99C0-4706-9D7A-7DBF071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F11B2-34B6-4231-95E0-2E295D61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C3DF8-B26A-4DF3-8654-BA285E55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966BE-8DB1-4B16-9E15-E6F8FAA0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23D-A754-4B39-99AB-FCCADD70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A7BD4-E663-45DC-AFD0-0A83AD13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E7DF4-BE4A-48E4-9B8E-8CAB70C9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B5C96-9215-4A26-8D3E-AFCA6924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852BE-958D-4B7F-983B-9EEF5240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E6F7B-39ED-48C6-8150-D67A601B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FDC72-D689-42AC-A356-D53A13C4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6C9BD-0748-495F-A161-1163EA38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086D5-8D7B-4586-824F-BD952149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57CEF-4F5F-425E-A877-54917666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C2F9E-152D-457B-8783-7C0FD573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9A7-41EA-407B-A871-F3F7E2B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37EDA-BA6F-4891-BE32-CA7EDA38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69048-CB6F-49CF-8476-B2A7AC68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4D37B-4774-4527-8A1A-37D6929D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95D9A-5B8A-4CBF-A25A-C9DA888F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F7F59-3793-4BAE-8FFF-CDB8D93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5D5F3-764F-4E35-89BA-A28F0FF9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48C82-033A-49D9-AA0C-3E9F4D96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98658-FCEB-4C6D-A196-9145AB58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959F5-BC3D-4B3A-9000-48EA9AB1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259A5-D2EB-45B2-8186-BA0A9F42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17D-21F8-4C13-AF80-55AB769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3EF78-212C-4249-8876-F22D0BB8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3327F-E45F-4AA2-A541-3BFA92C0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9DD5D-76F4-4366-9EB0-42EAFDAA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64719-AC46-42DA-B765-969AD0CE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8E1A2-28B1-466E-BC05-4BDB6980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67382-ACB3-478F-BE3C-1780CFC2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7EC50-DF6B-4B09-B99B-4679074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41141-7FE6-4C30-A7AA-796F4721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7B7D7-9DC5-4CC4-BE9B-FDC3B5E3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794C2-B381-440A-A36E-178089D1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718-958A-4BE3-8824-12BED48F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77029-948C-4E98-8FA4-A207EB01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B1F92-1D10-4A16-966C-49279793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6C4BE-A2F6-4503-8953-27EA245C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582D-6910-4966-9D5B-64C4D226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663C2-9AE6-4FE5-AAAF-4E1C7706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3A13-8F1D-4FA4-84B1-3A5EA17E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B4B30-784A-4DCF-BBA0-523FBFFB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26EE-12A1-4F88-9F20-8EDD642E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7FA05-325E-40C8-B45B-788C9978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757F6-57ED-4C24-B994-D5D0EE9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8F2-3722-48CB-A79D-06BF19A6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F8ABC-377C-458A-9136-944ED399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BD991-4806-4F4B-9E59-F05D3C0A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24EC7-4107-43DF-ADFB-1F2C69B8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539DE-A182-49B5-8B7D-74ACFA2C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B998D-68B4-4CBB-A67C-682518D5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16C2C-0B06-438E-8BB4-6D789349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02DEC-DCBA-4BDE-AC90-E468292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3CC24-DE6B-45AA-91BA-76C57459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907D3-C11F-44E1-AB4A-2A2F6882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ECDC5-5632-4CE8-97E4-E402A6B1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0D3-DB41-430F-A94B-C16A129D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28485-C169-4056-8859-737B77C4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08B72-7D3E-49F8-9808-1F5F7944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BC07A-6EC9-4565-9C2B-E679D737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10075-5A17-499B-8E53-3F7348AD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25AF0-219C-4A88-9020-BA1B1A69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63721-84E1-4563-8A38-7F0245C8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40BED-82D9-4FD1-8211-880A6D69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6B724-5FE2-4ADA-9608-FCA8924B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979CD-9DDB-4E15-96D8-A089F9BB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5AF9B-3049-4522-903D-BE7B880B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190-7A5A-46A8-86A0-88065B22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08976-6BDE-4D5E-ABA9-A3EC4A35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71F7C-24E6-4D35-AC8D-1E65EE5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721E0-2691-4BA4-99C4-2C94111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B3B8F-771B-4B58-ADA8-5CB2C70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1044E-B534-42F4-B081-12B5C4C8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483C-E5E8-4141-8B85-A7AEFB1D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440D9-E705-4A37-A3D7-BCF1AEA3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36EC-FCF2-4E2D-A049-998EB192F46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ef5fa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8419-35A2-4220-A996-6963BB46B1E9}" type="slidenum">
              <a:rPr b="1" lang="en-US" sz="1400" spc="-1" strike="noStrike">
                <a:solidFill>
                  <a:srgbClr val="def5fa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DE95-0927-4F51-BEA3-EF153E18AEB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828D-CC82-4628-A10A-A17CBC4C75A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6AAA-A320-46EA-B853-EAA49A06A69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C5E2-BF25-44A2-ACBC-4BADFB126293}" type="slidenum">
              <a:rPr b="1" lang="en-US" sz="1400" spc="-1" strike="noStrike">
                <a:solidFill>
                  <a:srgbClr val="46464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2C06-C38E-4091-83EA-50B25EF9CFAC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8ECB-E4CA-48B6-8C17-B2BF8841CC3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THE AREA UNDER A PARABOLA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14.5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ar accelerates from 0 to 60 ft/sec. (≈ 41 mi/hr) in 8 seconds with a veloc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5181480" y="1981080"/>
                <a:ext cx="3738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76520" y="2362320"/>
                <a:ext cx="4663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914400" y="3733920"/>
                <a:ext cx="6157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1521000" y="5029200"/>
                <a:ext cx="5749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… (14.1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905120" y="1523880"/>
                <a:ext cx="5234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60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1" name="Right Triangle 7"/>
          <p:cNvSpPr/>
          <p:nvPr/>
        </p:nvSpPr>
        <p:spPr>
          <a:xfrm flipH="1">
            <a:off x="456480" y="3581280"/>
            <a:ext cx="4267080" cy="2438640"/>
          </a:xfrm>
          <a:prstGeom prst="rtTriangl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6180120" y="3809880"/>
            <a:ext cx="17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= ½ (8) * (6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24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 (14.2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410080" y="2666520"/>
            <a:ext cx="335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1) = 14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3) = 36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5) = 51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7) = 59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22.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457200" y="5410080"/>
            <a:ext cx="1066680" cy="5796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523880" y="4495680"/>
            <a:ext cx="1067040" cy="14940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2590920" y="3886200"/>
            <a:ext cx="1066680" cy="210348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57600" y="3581280"/>
            <a:ext cx="1066680" cy="24084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457200" y="1600200"/>
                <a:ext cx="5234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2666880" y="1219320"/>
                <a:ext cx="36673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t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590920" y="3124080"/>
                <a:ext cx="366696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3581280" y="5181480"/>
                <a:ext cx="1946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fee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d the area bounded by the parabola y = 3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the line with equation y = 1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sections: x = -2, 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4871880" y="3200400"/>
                <a:ext cx="24465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5091120" y="5432400"/>
                <a:ext cx="267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7736040" y="5284800"/>
                <a:ext cx="10602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0" name="Picture 9" descr=""/>
          <p:cNvPicPr/>
          <p:nvPr/>
        </p:nvPicPr>
        <p:blipFill>
          <a:blip r:embed="rId1"/>
          <a:srcRect l="53125" t="12000" r="29377" b="67005"/>
          <a:stretch/>
        </p:blipFill>
        <p:spPr>
          <a:xfrm>
            <a:off x="0" y="3124080"/>
            <a:ext cx="4368960" cy="3276720"/>
          </a:xfrm>
          <a:prstGeom prst="rect">
            <a:avLst/>
          </a:prstGeom>
          <a:ln w="0">
            <a:noFill/>
          </a:ln>
        </p:spPr>
      </p:pic>
      <p:sp>
        <p:nvSpPr>
          <p:cNvPr id="381" name="Freeform 11"/>
          <p:cNvSpPr/>
          <p:nvPr/>
        </p:nvSpPr>
        <p:spPr>
          <a:xfrm>
            <a:off x="1219320" y="3809880"/>
            <a:ext cx="1904760" cy="2278080"/>
          </a:xfrm>
          <a:prstGeom prst="pie">
            <a:avLst/>
          </a:prstGeom>
          <a:solidFill>
            <a:srgbClr val="ffff00">
              <a:alpha val="43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Page 843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2 – 12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0:58:00Z</dcterms:created>
  <dc:creator>Laura Helbing</dc:creator>
  <dc:description/>
  <dc:language>en-US</dc:language>
  <cp:lastModifiedBy>Laura Helbing</cp:lastModifiedBy>
  <dcterms:modified xsi:type="dcterms:W3CDTF">2011-05-08T02:02:02Z</dcterms:modified>
  <cp:revision>10</cp:revision>
  <dc:subject/>
  <dc:title>The area under a Parabola</dc:title>
</cp:coreProperties>
</file>