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F53-3ECA-4609-B115-3A6073FA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C41-B75E-4791-9837-34D140A9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4A6-459E-48B5-BDAC-B8854584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A9A-0807-4AE3-8F7B-C5CA326F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2DD6-823F-4D14-B3F0-A6AA4F9FB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A675-F32C-404F-8AE4-2A936BD7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2C25-81C0-4108-986F-BD19EB55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CC94-B5E7-440D-ACC7-AB350930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453B-D5B3-4D64-8D9C-798B15B0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AC35-3FC5-4022-B918-9E94EEE7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1723-783A-441B-8407-A819907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E34-5BD7-4AE4-83BE-1163702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6E6-FB08-4C23-AA48-5A6E7870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8900-DAE8-4B8F-9633-1A1C6A4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D606-34FC-4E44-9B8E-05C7147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930E-CEFE-451B-9C8D-5B316DB5F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08AF-A209-48C5-B234-54D58CC7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0E478-619A-49DD-8B50-49D10CD7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FD680-AF83-45C8-BB03-3A6292D4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A60E2-9E86-4771-9572-E75E5A0C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07896-6812-48DB-A41A-9CCFC119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411F7-96A9-493B-A6AC-49C331DC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7D9-9B1E-402D-9F4D-30729759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3E623-9D54-42E3-917F-96A73A08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9B735-CD2C-4A39-9E3C-C05B1BD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37358-F3DB-4E7F-AE5D-60039A8D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6C51F-EC89-4FDE-8573-86D2C03C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0043F-76E0-4349-BF6E-8C5B3EC4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69AC0-947D-4EA4-A6B6-F92389D5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0CDF7-0024-4CA4-B2B1-290F8912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56D0DE-D294-4406-906C-1212A9F9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ECF910-ABCD-4CD1-9D6B-27CDA818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05254-4B64-4591-86A1-419169B7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B05-C25C-4F0E-A5DC-3EFEF989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28C04-E6DF-4DD5-A140-CDB995E8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8E535-36DE-4BA0-B3B5-4D8B9B55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8DAB4E-56A6-45E2-8F8A-5CD8AB03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B68930-4625-4F4D-A968-620B44D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FDE33-5D6E-4A76-89F3-64FE6F9A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D0C87-0B03-4D84-A049-A0A08381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45E54-824D-44F3-9714-235FDA46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82A9A-9CFB-4C6E-A6A6-E79746F2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0F326-84B7-40B2-B887-B77B3866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F6C27-7C43-4A35-BDDA-53487CDD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6A9-06C5-4A2E-AD71-0C2565B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E3544-0732-4A73-8352-18F0689B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3724A-AED1-4EC9-95D3-83848992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46E6E-DC40-4976-B0BB-375E9FA4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C1EE8-E6E1-4293-B5FA-4B59B916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1BCDC-373F-45EA-9761-1B559C52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37B4C-9CBE-429B-BB7B-210F4DB7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56187-0DE7-4A03-8C2F-D1D82F38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9AE62-0EF0-41BD-92AC-80E9E32D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B6C83-463D-4B17-B68A-48A58C0C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62FCA-5200-4251-A185-9DFF1BD3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359-61E2-42EB-98E3-825F6E32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22D906-6CFA-46D8-A05A-024EB42B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C372-2027-41F2-B1D8-F5E00AC0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D3F39-899E-4FE8-B559-965B1B7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87CFE-677C-4A76-94C2-D59B67A7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9CBD-7CA3-4BD3-AE03-78D15B36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ACC18-08FC-4B27-B04D-C0736865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6B9C3-607E-4E4D-8DD6-502AFD18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09A7F-62C5-4BB2-B88C-5CF61C5C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C6BA8-F81A-40EC-BA6F-8D8C56FD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2C35-44AE-46E3-8F53-48B0132B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F50-1AC9-4391-8785-71963DB7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930BA-18F4-4F07-985C-032A959A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D1BDB-A909-4C8A-9596-C8D917F1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AE540-3420-4341-B46A-CA9AFAB8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9D526-E761-4FC6-A492-1424C82A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CAE81-61F9-47B7-9EAB-75E2AA66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7F34D8-2CE2-4AF9-B5D1-C6A00625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BE708-532B-442D-AFEF-B8FACDFD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6445D-F3D7-42E8-AB43-BAB2EEF0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D3611D-F21B-483E-81CB-62790BDF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C6642D-FED6-45BE-B78F-6FC0849E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D0D2-13AD-4F80-9981-B66DE39B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986F1-C01C-4215-879F-D3AC36E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C8899-EBC7-43EB-BBC5-C61653F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2CAE4-1AB6-49C4-8621-F7510C50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D07F70-22DB-4867-BB55-93E6F749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F2E4A2-C20C-428D-97A5-40535887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5A713-700A-4CED-82C1-5234918A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36BF6-7D0A-4330-B046-00F04BBD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BE783-AF03-48AA-823C-91F9CC3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25CCC-8362-4B3E-A407-9F1FA280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3E9A1-DDFA-453E-881A-53009E09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22B-5E60-4BFE-9AD5-ADA82C03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B7B62-A98B-4A70-A92D-BB3B16AB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5219E-9BF6-40F6-8384-DAF1C17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3BC6E-5D8D-415D-AB83-2AEC97A4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4BB56-9188-4566-BE6E-231F169B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1D3BE-9024-4C39-85A4-0F457974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9B1D8-C878-4976-A9A1-4770DFB5F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83F04-4EC2-4268-B880-C3E86263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631A-0C0C-45B5-96B2-E4CABAF9C0C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DDE8-D3BC-40AB-BFA9-70030E3F431E}" type="slidenum">
              <a:rPr b="1" lang="en-US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A8A-AF00-4C75-8DD4-C6509727DB40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1C24-9690-4F9A-B601-8022F3173C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52DB-80BB-456F-9880-34869CA54B1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55DF-BAF3-40F4-B9D6-AD7778767D75}" type="slidenum">
              <a:rPr b="1" lang="en-US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8BA4-468C-481D-8780-C97F064F08C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522F-84B2-4EC7-9757-16E5A212C0B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THE AREA UNDER A PARABOLA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14.5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ar accelerates from 0 to 60 ft/sec. (≈ 41 mi/hr) in 8 seconds with a veloc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"/>
              <p:cNvSpPr txBox="1"/>
              <p:nvPr/>
            </p:nvSpPr>
            <p:spPr>
              <a:xfrm>
                <a:off x="5181480" y="1981080"/>
                <a:ext cx="3738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76520" y="2362320"/>
                <a:ext cx="4663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914400" y="3733920"/>
                <a:ext cx="61578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5"/>
              <p:cNvSpPr txBox="1"/>
              <p:nvPr/>
            </p:nvSpPr>
            <p:spPr>
              <a:xfrm>
                <a:off x="1521000" y="5029200"/>
                <a:ext cx="5749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… (14.1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905120" y="1523880"/>
                <a:ext cx="52340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60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1" name="Right Triangle 7"/>
          <p:cNvSpPr/>
          <p:nvPr/>
        </p:nvSpPr>
        <p:spPr>
          <a:xfrm flipH="1">
            <a:off x="456480" y="3581280"/>
            <a:ext cx="4267080" cy="2438640"/>
          </a:xfrm>
          <a:prstGeom prst="rtTriangle">
            <a:avLst/>
          </a:prstGeom>
          <a:solidFill>
            <a:srgbClr val="2da2bf"/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6180120" y="3809880"/>
            <a:ext cx="17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 = ½ (8) * (6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24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Old way (14.2)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410080" y="2666520"/>
            <a:ext cx="335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1) = 14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3) = 36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5) = 51.5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(7) = 59.062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22.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rcRect l="13751" t="14301" r="70000" b="67005"/>
          <a:stretch/>
        </p:blipFill>
        <p:spPr>
          <a:xfrm>
            <a:off x="228600" y="2971800"/>
            <a:ext cx="4800600" cy="3452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457200" y="5410080"/>
            <a:ext cx="1066680" cy="5796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523880" y="4495680"/>
            <a:ext cx="1067040" cy="14940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2590920" y="3886200"/>
            <a:ext cx="1066680" cy="210348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657600" y="3581280"/>
            <a:ext cx="1066680" cy="2408400"/>
          </a:xfrm>
          <a:prstGeom prst="rect">
            <a:avLst/>
          </a:prstGeom>
          <a:solidFill>
            <a:srgbClr val="ff0000">
              <a:alpha val="49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457200" y="1600200"/>
                <a:ext cx="52340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2"/>
              <p:cNvSpPr txBox="1"/>
              <p:nvPr/>
            </p:nvSpPr>
            <p:spPr>
              <a:xfrm>
                <a:off x="2666880" y="1219320"/>
                <a:ext cx="36673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t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590920" y="3124080"/>
                <a:ext cx="366696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4"/>
              <p:cNvSpPr txBox="1"/>
              <p:nvPr/>
            </p:nvSpPr>
            <p:spPr>
              <a:xfrm>
                <a:off x="3581280" y="5181480"/>
                <a:ext cx="1946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fee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d the area bounded by the parabola y = 3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the line with equation y = 1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sections: x = -2,  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4871880" y="3200400"/>
                <a:ext cx="24465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4"/>
              <p:cNvSpPr txBox="1"/>
              <p:nvPr/>
            </p:nvSpPr>
            <p:spPr>
              <a:xfrm>
                <a:off x="5091120" y="5432400"/>
                <a:ext cx="267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5"/>
              <p:cNvSpPr txBox="1"/>
              <p:nvPr/>
            </p:nvSpPr>
            <p:spPr>
              <a:xfrm>
                <a:off x="7736040" y="5284800"/>
                <a:ext cx="10602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0" name="Picture 9" descr=""/>
          <p:cNvPicPr/>
          <p:nvPr/>
        </p:nvPicPr>
        <p:blipFill>
          <a:blip r:embed="rId1"/>
          <a:srcRect l="53125" t="12000" r="29377" b="67005"/>
          <a:stretch/>
        </p:blipFill>
        <p:spPr>
          <a:xfrm>
            <a:off x="0" y="3124080"/>
            <a:ext cx="4368960" cy="3276720"/>
          </a:xfrm>
          <a:prstGeom prst="rect">
            <a:avLst/>
          </a:prstGeom>
          <a:ln w="0">
            <a:noFill/>
          </a:ln>
        </p:spPr>
      </p:pic>
      <p:sp>
        <p:nvSpPr>
          <p:cNvPr id="381" name="Freeform 11"/>
          <p:cNvSpPr/>
          <p:nvPr/>
        </p:nvSpPr>
        <p:spPr>
          <a:xfrm>
            <a:off x="1219320" y="3809880"/>
            <a:ext cx="1904760" cy="2278080"/>
          </a:xfrm>
          <a:prstGeom prst="pie">
            <a:avLst/>
          </a:prstGeom>
          <a:solidFill>
            <a:srgbClr val="ffff00">
              <a:alpha val="43000"/>
            </a:srgbClr>
          </a:solidFill>
          <a:ln w="19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Page 843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w Cen MT"/>
              </a:rPr>
              <a:t>2 – 12</a:t>
            </a: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00:58:00Z</dcterms:created>
  <dc:creator>Laura Helbing</dc:creator>
  <dc:description/>
  <dc:language>en-US</dc:language>
  <cp:lastModifiedBy>Laura Helbing</cp:lastModifiedBy>
  <dcterms:modified xsi:type="dcterms:W3CDTF">2011-05-08T02:02:02Z</dcterms:modified>
  <cp:revision>10</cp:revision>
  <dc:subject/>
  <dc:title>The area under a Parabola</dc:title>
</cp:coreProperties>
</file>