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86A-2349-4923-9698-3C01ACA7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CEA-177B-4619-9C3F-0CD107E2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B15-916E-4116-AAAD-CC2A961D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509-7AB1-4BFC-B97C-7CFC5F13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2E8B-2628-42D6-9B05-C33C5897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1651-0016-4A51-9238-EA3868EC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7EEF-6075-4A8C-BD00-6AEE1C16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1569-B3C8-4D6E-BBCB-CA24E3F1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F46-999C-4EA3-894B-8BC6C307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DBD8-2F6C-448B-8E22-5B3A573C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4442-0A97-4ED8-9467-4D467E6F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F69-2225-440C-9742-2D4C284D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FEAC-4136-47B7-B8C1-0EFFDDF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35C-3418-4814-A41F-358B9FF1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5ED5-09F0-47BE-9922-4B5BF9A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374-7906-47C3-A692-DBDDBF3B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2E39-309B-4DED-9401-AF827644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E4564-0C74-486A-B019-A15B0EE0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27785-F165-41B2-BF4F-CA5651F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762F4-39F3-453C-AE25-56E4AD52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87C34-007F-4302-BE36-E24AA2DA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32C13-F500-4937-A740-01FFD6D2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90F-8532-4E65-BD4F-260EE1AF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2689C-E076-422A-8C5B-88E4AE8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18295-4F7F-4693-84AC-50DFFFA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D857C-53CC-45DB-835C-854D60D2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FFF1D-9B9A-42D7-9AC4-7175368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A8794-62BA-4875-A7A5-0BCDD11F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D0902-F842-4135-965F-BC372C73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3AB15-3A49-450C-BB97-73CA471E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4D2C5-2E2D-437A-A580-4DA47B0F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67C82-E7F2-40AB-A13C-E9158395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031AE-8530-4073-A4FD-3960E5D4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9F0-60CF-4D13-8680-2618642F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1E9D4-F0A8-443F-98FB-89ADB1F8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50010-AFA1-4463-B0B6-5F920320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7877E-40EF-42BB-A954-26660BE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FC8AB-89EA-4365-BA98-5CF0416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89D18-0491-43C9-9B8C-8296491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6EE43-C6DE-4CFA-BA8E-839B269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18842-DE70-45F2-A6A6-6B6183E6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9B0E7-3DB0-4430-B4A5-A1FD20D2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C12EE-41A7-40A4-89E2-02E051EF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FE7E5-7675-42ED-A9FE-409C2478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6B5-B224-4CF4-99ED-ADE7763D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4B82F-62B1-477E-AE75-F77569C1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F369C-95E2-4C38-B2E1-01ACEC74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463D0-34C8-4E63-9770-3ADE00E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E32A5-1281-4A30-AD09-CD2A3A7A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D8FE2-0AD8-45C6-888B-AE56C642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700F1-21EA-4B90-B201-F65AF25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18C06-0A1A-4D30-B03A-7AC5856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19145-1A4F-459A-8E97-DF367C80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3B204-AE35-4A61-BAE9-FD79DAC3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49287-5EA8-49C9-8299-84FD88D2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530-D221-4F2C-92A4-70BD5029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FACBA-4704-4903-8080-587379D1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40B5-6988-4C77-913B-4A102485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4CFE-5940-4245-9D2C-29E2D6B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4E49-D857-4172-9405-19E9BA07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7F962-1728-4A9F-9CC0-AE26A26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D881-EA85-431E-B07E-D24959E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7EC58-BF78-4CCC-AAC0-B627B8A6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E441-D1E5-41E3-B3B5-C1A0010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335A-0177-44CA-B86B-AB5A3C1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FB23-C3CC-4072-9B20-B33B6A0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84B-4AF9-4D0F-BFDC-B7AEBD6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76D14-15DC-418B-B519-70301204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29BF7-6F0D-4E2F-BB39-14E8725C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7BA91-7762-495C-8E21-150A373F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7A7A5-7D61-47DF-9403-AE369632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7987D-B964-49EA-8904-32889B71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EA34F-81B7-4A95-B178-7C8E85AE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074B7-456D-4BBD-842E-17DDD912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29B86-679D-4065-9A92-828EB7E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40D37-A929-4302-BD2C-B83CCF65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99867-C184-4A3D-9F7D-BE1054B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778-6E6E-4BCF-AF31-400E0EF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65198-48D5-406E-909C-BD56945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1CB22-7084-4435-B93D-AB4F6678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0D450-57D1-4ECB-8BD0-A1A46E99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C73E5-91C6-4151-8E04-2F24AD4E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1338A-AE36-4150-86B2-5FFE3847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5BD8-62BD-48FA-A8A8-F588A9BA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B58D2-EF16-41EC-B940-0AB7F70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6FD1E-32F1-4F8B-B480-D0A827D1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7FEE7-BF79-42C9-A35F-7B581CDE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A2E7-DE0D-4A7A-8477-91E7C14D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241-7356-40D9-9BE6-0983CC9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126F5-6B09-4CE5-BA77-3843D44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DB90-3168-40BA-ABAF-E4129B2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D389-672F-44E0-B226-5BFC98F5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229A9-233C-4268-B166-C911EFF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84FDC-E6ED-4B4A-8324-1398EE57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C54B3-D4E8-4428-ACB0-E545476C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8DAD-D31B-4182-A99C-4BDAC476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7515-42CA-468D-A0DD-F7E2126D036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1D6-7298-42E5-B4B9-437822BB297B}" type="slidenum">
              <a:rPr b="1" lang="en-US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AFFA-BA88-4DD7-A8C3-92737632E42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D761-4EE3-4EDE-8FCD-954103790E9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D55F-145E-4137-9507-16F3F3CEE80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3B34-F5F2-42EC-B59D-532174934349}" type="slidenum">
              <a:rPr b="1" lang="en-US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A11E-2625-4206-8C9C-648BDD23AE8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377C-45B8-4138-AECA-6A213A1D8C9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THE AREA UNDER A PARABOLA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14.5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ar accelerates from 0 to 60 ft/sec. (≈ 41 mi/hr) in 8 seconds with a veloc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181480" y="1981080"/>
                <a:ext cx="3738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76520" y="2362320"/>
                <a:ext cx="4663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914400" y="3733920"/>
                <a:ext cx="615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1521000" y="5029200"/>
                <a:ext cx="5749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… (14.1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905120" y="1523880"/>
                <a:ext cx="5234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0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1" name="Right Triangle 7"/>
          <p:cNvSpPr/>
          <p:nvPr/>
        </p:nvSpPr>
        <p:spPr>
          <a:xfrm flipH="1">
            <a:off x="456480" y="3581280"/>
            <a:ext cx="4267080" cy="2438640"/>
          </a:xfrm>
          <a:prstGeom prst="rtTriangl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6180120" y="380988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= ½ (8) * (6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4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 (14.2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10080" y="2666520"/>
            <a:ext cx="335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1) = 14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3) = 36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5) = 51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7) = 59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22.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457200" y="5410080"/>
            <a:ext cx="1066680" cy="5796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523880" y="4495680"/>
            <a:ext cx="1067040" cy="14940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590920" y="3886200"/>
            <a:ext cx="1066680" cy="210348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57600" y="3581280"/>
            <a:ext cx="1066680" cy="24084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457200" y="1600200"/>
                <a:ext cx="5234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2666880" y="1219320"/>
                <a:ext cx="3667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590920" y="3124080"/>
                <a:ext cx="366696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3581280" y="5181480"/>
                <a:ext cx="1946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fee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area bounded by the parabola y = 3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the line with equation y = 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sections: x = -2, 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871880" y="3200400"/>
                <a:ext cx="24465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091120" y="5432400"/>
                <a:ext cx="267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7736040" y="5284800"/>
                <a:ext cx="10602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0" name="Picture 9" descr=""/>
          <p:cNvPicPr/>
          <p:nvPr/>
        </p:nvPicPr>
        <p:blipFill>
          <a:blip r:embed="rId1"/>
          <a:srcRect l="53125" t="12000" r="29377" b="67005"/>
          <a:stretch/>
        </p:blipFill>
        <p:spPr>
          <a:xfrm>
            <a:off x="0" y="3124080"/>
            <a:ext cx="436896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11"/>
          <p:cNvSpPr/>
          <p:nvPr/>
        </p:nvSpPr>
        <p:spPr>
          <a:xfrm>
            <a:off x="1219320" y="3809880"/>
            <a:ext cx="1904760" cy="2278080"/>
          </a:xfrm>
          <a:prstGeom prst="pie">
            <a:avLst/>
          </a:prstGeom>
          <a:solidFill>
            <a:srgbClr val="ffff00">
              <a:alpha val="43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Page 843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2 – 12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58:00Z</dcterms:created>
  <dc:creator>Laura Helbing</dc:creator>
  <dc:description/>
  <dc:language>en-US</dc:language>
  <cp:lastModifiedBy>Laura Helbing</cp:lastModifiedBy>
  <dcterms:modified xsi:type="dcterms:W3CDTF">2011-05-08T02:02:02Z</dcterms:modified>
  <cp:revision>10</cp:revision>
  <dc:subject/>
  <dc:title>The area under a Parabola</dc:title>
</cp:coreProperties>
</file>