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6208-F47F-4D98-AD5D-DA0E24EA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AACA-B2DF-4339-8E43-7F7BE5E3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AADE-E379-4094-83BB-FDBCB65F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9D4F-FA1A-4A0B-82B5-72E3952E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D3C2-8920-46C3-A0DF-A36D6774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8425-D65D-4857-BFBF-0781DC07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8053-0EE1-46D9-9183-9DB418EB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A240-E4CB-4560-9E02-D0C0E0A0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DEEC-45CB-4E9F-B837-3D036E0E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1DD6-7E21-4F88-968E-519BDA4C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0AAE-5634-4061-B439-68727DC2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500-662A-4692-A199-6042C774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8B8A-816D-4A00-A2A3-61B0AFE4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9BFB-4D41-4EB1-A8EC-A244A13B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7728-83D5-4D77-9D5A-0BD4F8FC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788B-48E3-4354-B720-0D48109D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061D-60AC-4FA9-AD21-06113664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04FB4-446A-48B6-B5DE-3C3154AF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D23D3B-AF31-43F9-9BC0-2795687E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47A08-67B4-4433-997C-7C47CC1A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0AC010-E474-434B-98DB-B366D816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A763D-A06F-4A49-B072-F18DAC0C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358A-EBA6-4722-AFFE-F4D275FE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99969-C013-44E9-80C0-04370419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C9972-EC3E-4811-9049-1A02A638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A01AD3-F22D-4B30-83B3-3BBE1B56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92381-A052-485A-95A6-3ED49C3D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D6E636-E491-46D3-9188-27553EFD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5E3D7-C300-478A-8C0B-8C75278D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2FE3C-3497-44A8-BE5D-D2C61296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187A17-C135-4714-B1AA-89F84635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4CE651-0C4D-4730-B710-541DA2C3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CF0311-69F8-41CB-A290-50CCEA9D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92C6-C9B8-4BF5-A8A4-71738B5B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4665B0-5AB6-4018-825E-CC5E8CA8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072BB8-0F5B-4E78-ACC7-FEBF2C08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7CA03D-826A-4976-8F5A-DE3BFA47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214B6E-FC4C-476C-93A9-DF7BAF89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F9D914-D095-4059-B288-D2108D8A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DF67D1-820F-4002-B359-CF57C784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5A482F-D0B1-4BB0-A306-36AB49A7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DD5ACB-041F-4BE4-9490-6EE7B4E4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51AAB3-3F3F-4F36-B875-B04BE6C1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BB2061-038A-4AC8-B1CF-9D7E39A0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EE6-A108-4982-9223-E19F9DB1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D29E0D-0B57-4432-A30B-1F6DDF1C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F6E5A1-FB85-479F-AEBF-9173FB6A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5C5F16-10CD-4DCF-A91D-2F029592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20851-D8EC-453D-B716-9CBFAE73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11B61E-F070-46FF-858D-0F8918C7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0A401-A24C-469F-870E-5D07BFF6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5FD525-2D63-43EA-8BF7-320FC7F9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69CA0-53DA-4795-9513-F52F0417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B21709-EA2A-4663-A9BE-73F64EAB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42EE1E-7D59-4FED-8BFE-25664E07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DE7-8ABD-419F-A4ED-19C670F5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CE6AA1-ACF3-4BC6-91D8-BD588E7F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D66BE-7FB9-45BC-AC72-43CF5568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0D953-724B-471F-BF20-F12F01B9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2F053-FCBF-47D2-82E7-60EB6001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D3FF1-CB8F-4DB5-A1DD-9BD04380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4101B-93B4-4442-8F81-710E3AB2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26C75-A7D5-484B-AB44-CE2D83AF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C900B-CC6A-4E9B-B891-85EA937D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7FB8A-5A2C-42E2-8B7F-5B480C9B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95DB1-C1CB-4B17-A28B-6C484C85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A676-A342-4F9E-9AD0-6687D6AD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71D4C-CDE5-4498-B0E3-E4D32C30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913DB-F8D9-4F05-B25C-89C9CA49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496A7-4D9C-4799-82C5-4220E4F2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FF62F3-803E-43CF-8416-9631AFD9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8E71AA-CBDE-49E9-8CFF-70E1C03A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8B7A6B-C297-4B43-9879-7A953D51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65F419-572A-431F-B275-8B38B3C9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5051FB-1592-40F2-8E6A-F6222314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44D7F9-319F-4B45-B549-52DD38FD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B8D64E-F21D-4626-B0C5-BE1C4D45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B9C-15A2-4632-85C2-514A60EB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5F46C0-8FF8-41C1-8D96-69884498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374AAE-2E77-4203-8208-3E6FE81F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62576C-C422-408D-AE14-06DFD8E2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45C2E1-84B7-4FE4-983A-F71629C4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04078F-651B-47C8-A289-9836E866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74CCC-5DC2-42C2-859C-BAA58D44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E68C9-57AD-421F-9806-8DDD458F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3E9A4-9A84-4C81-9BFE-7CA4E864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02FFF-34C9-41C2-88B6-CCEA7E7C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2CB42-B3F1-4371-9FEE-0FF8EADF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E0BC-BCB3-423A-AF50-EDCF93C4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79A7C-23C0-477B-B59E-819406B3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6EF52-71E5-48C0-B9FC-51B17007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7EDE0-F8C8-4C53-9F2F-B6956441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170BC-1029-47A8-8BAC-17520592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0BCC4-D7FC-4E36-9FDF-9AD4CD4F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297F9-FB30-49A1-911E-04CFB26B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B9CEE-2706-4D04-A9F3-3FDE019C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3428-4A57-4975-869F-CF137DE95FA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5fa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ef5fa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9492-96B6-45E4-8396-E2071B0D4C5B}" type="slidenum">
              <a:rPr b="1" lang="en-US" sz="1400" spc="-1" strike="noStrike">
                <a:solidFill>
                  <a:srgbClr val="def5fa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36CC-D1C1-44F1-B34A-13E8FA617856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5BAC-47B1-49EC-B89E-6D9816152FD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85EA-EF75-4DCF-B0E8-EE703B6938C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9B55-4A1B-411B-A942-8831AD45F754}" type="slidenum">
              <a:rPr b="1" lang="en-US" sz="1400" spc="-1" strike="noStrike">
                <a:solidFill>
                  <a:srgbClr val="464646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1B77-358D-4954-B2B4-A7E0CDD7AD88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6660-9EFA-468D-A56F-10DAE884210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5fa"/>
                </a:solidFill>
                <a:latin typeface="Tw Cen MT"/>
              </a:rPr>
              <a:t>THE AREA UNDER A PARABOLA</a:t>
            </a:r>
            <a:endParaRPr b="0" lang="en-US" sz="44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ction 14.5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Example 1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car accelerates from 0 to 60 ft/sec. (≈ 41 mi/hr) in 8 seconds with a velocit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2"/>
              <p:cNvSpPr txBox="1"/>
              <p:nvPr/>
            </p:nvSpPr>
            <p:spPr>
              <a:xfrm>
                <a:off x="5181480" y="1981080"/>
                <a:ext cx="3738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1676520" y="2362320"/>
                <a:ext cx="4663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914400" y="3733920"/>
                <a:ext cx="6157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5"/>
              <p:cNvSpPr txBox="1"/>
              <p:nvPr/>
            </p:nvSpPr>
            <p:spPr>
              <a:xfrm>
                <a:off x="1521000" y="5029200"/>
                <a:ext cx="5749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Old way… (14.1)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5"/>
              <p:cNvSpPr txBox="1"/>
              <p:nvPr/>
            </p:nvSpPr>
            <p:spPr>
              <a:xfrm>
                <a:off x="1905120" y="1523880"/>
                <a:ext cx="52340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60" name="Picture 6" descr=""/>
          <p:cNvPicPr/>
          <p:nvPr/>
        </p:nvPicPr>
        <p:blipFill>
          <a:blip r:embed="rId1"/>
          <a:srcRect l="13751" t="14301" r="70000" b="67005"/>
          <a:stretch/>
        </p:blipFill>
        <p:spPr>
          <a:xfrm>
            <a:off x="228600" y="2971800"/>
            <a:ext cx="4800600" cy="3452760"/>
          </a:xfrm>
          <a:prstGeom prst="rect">
            <a:avLst/>
          </a:prstGeom>
          <a:ln w="0">
            <a:noFill/>
          </a:ln>
        </p:spPr>
      </p:pic>
      <p:sp>
        <p:nvSpPr>
          <p:cNvPr id="361" name="Right Triangle 7"/>
          <p:cNvSpPr/>
          <p:nvPr/>
        </p:nvSpPr>
        <p:spPr>
          <a:xfrm flipH="1">
            <a:off x="456480" y="3581280"/>
            <a:ext cx="4267080" cy="2438640"/>
          </a:xfrm>
          <a:prstGeom prst="rtTriangle">
            <a:avLst/>
          </a:prstGeom>
          <a:solidFill>
            <a:srgbClr val="2da2bf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8"/>
          <p:cNvSpPr/>
          <p:nvPr/>
        </p:nvSpPr>
        <p:spPr>
          <a:xfrm>
            <a:off x="6180120" y="3809880"/>
            <a:ext cx="178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 = ½ (8) * (6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24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Old way (14.2)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410080" y="2666520"/>
            <a:ext cx="3355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(1) = 14.06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(3) = 36.56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(5) = 51.56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(7) = 59.06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22.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6" descr=""/>
          <p:cNvPicPr/>
          <p:nvPr/>
        </p:nvPicPr>
        <p:blipFill>
          <a:blip r:embed="rId1"/>
          <a:srcRect l="13751" t="14301" r="70000" b="67005"/>
          <a:stretch/>
        </p:blipFill>
        <p:spPr>
          <a:xfrm>
            <a:off x="228600" y="2971800"/>
            <a:ext cx="4800600" cy="345276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4"/>
          <p:cNvSpPr/>
          <p:nvPr/>
        </p:nvSpPr>
        <p:spPr>
          <a:xfrm>
            <a:off x="457200" y="5410080"/>
            <a:ext cx="1066680" cy="579600"/>
          </a:xfrm>
          <a:prstGeom prst="rect">
            <a:avLst/>
          </a:prstGeom>
          <a:solidFill>
            <a:srgbClr val="ff0000">
              <a:alpha val="49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1523880" y="4495680"/>
            <a:ext cx="1067040" cy="1494000"/>
          </a:xfrm>
          <a:prstGeom prst="rect">
            <a:avLst/>
          </a:prstGeom>
          <a:solidFill>
            <a:srgbClr val="ff0000">
              <a:alpha val="49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2590920" y="3886200"/>
            <a:ext cx="1066680" cy="2103480"/>
          </a:xfrm>
          <a:prstGeom prst="rect">
            <a:avLst/>
          </a:prstGeom>
          <a:solidFill>
            <a:srgbClr val="ff0000">
              <a:alpha val="49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3657600" y="3581280"/>
            <a:ext cx="1066680" cy="2408400"/>
          </a:xfrm>
          <a:prstGeom prst="rect">
            <a:avLst/>
          </a:prstGeom>
          <a:solidFill>
            <a:srgbClr val="ff0000">
              <a:alpha val="49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2"/>
              <p:cNvSpPr txBox="1"/>
              <p:nvPr/>
            </p:nvSpPr>
            <p:spPr>
              <a:xfrm>
                <a:off x="457200" y="1600200"/>
                <a:ext cx="52340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2"/>
              <p:cNvSpPr txBox="1"/>
              <p:nvPr/>
            </p:nvSpPr>
            <p:spPr>
              <a:xfrm>
                <a:off x="2666880" y="1219320"/>
                <a:ext cx="366732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t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3"/>
              <p:cNvSpPr txBox="1"/>
              <p:nvPr/>
            </p:nvSpPr>
            <p:spPr>
              <a:xfrm>
                <a:off x="2590920" y="3124080"/>
                <a:ext cx="366696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4"/>
              <p:cNvSpPr txBox="1"/>
              <p:nvPr/>
            </p:nvSpPr>
            <p:spPr>
              <a:xfrm>
                <a:off x="3581280" y="5181480"/>
                <a:ext cx="1946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rPr>
                        <m:lit/>
                        <m:nor/>
                      </m:rPr>
                      <m:t xml:space="preserve">fee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Example 2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nd the area bounded by the parabola y = 3x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nd the line with equation y = 1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ersections: x = -2,  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4871880" y="3200400"/>
                <a:ext cx="24465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4"/>
              <p:cNvSpPr txBox="1"/>
              <p:nvPr/>
            </p:nvSpPr>
            <p:spPr>
              <a:xfrm>
                <a:off x="5091120" y="5432400"/>
                <a:ext cx="26701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5"/>
              <p:cNvSpPr txBox="1"/>
              <p:nvPr/>
            </p:nvSpPr>
            <p:spPr>
              <a:xfrm>
                <a:off x="7736040" y="5284800"/>
                <a:ext cx="10602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0" name="Picture 9" descr=""/>
          <p:cNvPicPr/>
          <p:nvPr/>
        </p:nvPicPr>
        <p:blipFill>
          <a:blip r:embed="rId1"/>
          <a:srcRect l="53125" t="12000" r="29377" b="67005"/>
          <a:stretch/>
        </p:blipFill>
        <p:spPr>
          <a:xfrm>
            <a:off x="0" y="3124080"/>
            <a:ext cx="4368960" cy="3276720"/>
          </a:xfrm>
          <a:prstGeom prst="rect">
            <a:avLst/>
          </a:prstGeom>
          <a:ln w="0">
            <a:noFill/>
          </a:ln>
        </p:spPr>
      </p:pic>
      <p:sp>
        <p:nvSpPr>
          <p:cNvPr id="381" name="Freeform 11"/>
          <p:cNvSpPr/>
          <p:nvPr/>
        </p:nvSpPr>
        <p:spPr>
          <a:xfrm>
            <a:off x="1219320" y="3809880"/>
            <a:ext cx="1904760" cy="2278080"/>
          </a:xfrm>
          <a:prstGeom prst="pie">
            <a:avLst/>
          </a:prstGeom>
          <a:solidFill>
            <a:srgbClr val="ffff00">
              <a:alpha val="43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homework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Tw Cen MT"/>
              </a:rPr>
              <a:t>Page 843</a:t>
            </a:r>
            <a:endParaRPr b="0" lang="en-US" sz="13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Tw Cen MT"/>
              </a:rPr>
              <a:t>2 – 12</a:t>
            </a:r>
            <a:endParaRPr b="0" lang="en-US" sz="13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0:58:00Z</dcterms:created>
  <dc:creator>Laura Helbing</dc:creator>
  <dc:description/>
  <dc:language>en-US</dc:language>
  <cp:lastModifiedBy>Laura Helbing</cp:lastModifiedBy>
  <dcterms:modified xsi:type="dcterms:W3CDTF">2011-05-08T02:02:02Z</dcterms:modified>
  <cp:revision>10</cp:revision>
  <dc:subject/>
  <dc:title>The area under a Parabola</dc:title>
</cp:coreProperties>
</file>