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5.wmf" ContentType="image/x-wmf"/>
  <Override PartName="/ppt/media/image7.png" ContentType="image/png"/>
  <Override PartName="/ppt/media/image12.png" ContentType="image/png"/>
  <Override PartName="/ppt/media/image9.png" ContentType="image/png"/>
  <Override PartName="/ppt/media/image1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5F3DF-8A9F-458E-9B72-0CDFEC02C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11207-87F8-475B-8986-B4D956738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49F69-6332-4277-BC56-C68E3CD0F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41C4C-BA14-4146-A456-D62F3B715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EA912-3B4E-41CD-AFDD-B137FF3C0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A4F7B-9CE4-4A27-8542-29026678C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2630B-69E8-499E-A89F-903B1A74B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53450-BEDF-45F0-BEBA-EAC3F275A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1A322-4B78-4631-825F-FA6A48FD5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910BD-D1F7-4384-BAF6-C6CC1FC33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F94F9-5A68-4BCB-963A-38715858A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3A441-26A9-46AD-B182-83263C4C5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3F4F5-968F-4DE3-A68A-D8D28B90E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80C90-F197-4D70-B3A2-0A82CDE15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0C7FA-B4CC-4F90-BFF1-9EE01DD196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BD790-894C-4640-98F3-5E04D8827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91691-9CB8-497B-B5F7-8AA14020A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7C7268-A482-4FE4-A24F-A43A639FA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4C33CA-07A2-45EA-9737-5CD4B7933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BB2137-22B2-468D-ADB1-A1D69B642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4607D8-C225-4F38-8460-86CBE4706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6066C8-559D-4260-BC4A-BC2ADC240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EC56F-17C6-4E5D-BDF8-AA7E53CE8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F228B-C277-481F-A816-1BAD67A0BE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8E4FF-0A00-40E1-96A4-8B24E74FF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64FFA-E16C-4CBF-9A41-D704FBA27D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30794-8832-4A22-9D9E-1E8060D0C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433F31-C489-4FE8-B63B-1C1297CBA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5F74FF-0B36-4FE6-A3E5-332F1797B7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2D7EAE-AAC4-44D4-9DB5-80E568C079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9CEDE-BEEF-434E-95ED-4241054AF3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54BDC7-4B8D-4369-9D10-193684E928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46653B-B2CE-4D31-BCEF-581A67D82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826C5-F190-4551-8C15-17FB75713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E9A9D7-D7AD-4B2E-9FEC-9770603B4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BF063-F411-44F3-BF76-F6A32DC044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18C5F8-EF34-4DF0-9009-A51E79D2C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DCA7F-73AA-4CF1-B267-D238F66953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666D8-FC43-47D3-B9CC-4D451828E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FCE98-34E5-4EEE-A9DF-A72BCEFA0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05A1D-98D8-4D15-9326-66D596786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5DAB9-DA7C-4E65-9073-EF41C8B7B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A402BC-3EB5-4B90-BF68-EE81C31034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BDF7CA-C3E8-492C-A1EE-CBB361F7F8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77A7-518C-483D-B427-D0267F3A0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8C15F-D05C-4B2F-893F-3BCAD2A8D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96668B-E78D-49B9-A196-1C840799B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31400-A8B7-42E6-9DCC-B531FBE3E0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836872-001A-432F-8E37-6076EA9F8A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DE1EF8-CA3A-4FC5-9172-86A38FDB3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AE779-CD40-49FB-80A8-20454DF32A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F9274C-4898-441F-A511-D8728C348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11C17-598F-4232-B96A-8FF52B070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54C4B6-FF79-4287-93DD-738FD2EA58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4D6FE7-A395-4516-A9E4-F940AEAC89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A6A63-65C3-4CE3-AC19-E219B3317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E9754-A78F-48FC-8EA8-A4A8DE6E28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246992-5780-4062-97B2-0F59CD6365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A4C59-1616-4C0D-92F6-D8A854F3B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A8E84B-1B6A-4F03-8DB1-8D6D6288D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73678-B1C0-4A93-A68C-9108D4293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57F9A-7463-4DB8-9549-D8667EB333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FB7B06-370F-4B37-BE12-32411DD5D9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8D5F1C-B4C0-4A42-A619-9122A330DD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62994F-4A0F-4FFC-9165-8BF9BD66A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88D004-5140-4370-8BD3-15FAB848B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464EE-9481-4DE5-858B-8EE657C51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93A0C-84FB-49CE-95E1-6E54F02E94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554F73-F108-4B72-8089-B5FF7643D1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D11409-DCC0-4DF6-9EE7-349AC78BA0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A2F5F6-BCCB-440C-B2AA-3230CC1512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96EA7D-E9E9-45D0-AD6C-9C98E8C576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B2AD5A-0831-4011-BE89-B253DE4C61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F1E210-B79C-4D40-AE8D-F624BD677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40EB2-A7DC-4564-AED9-DB5865A3D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C34213-D1AA-4D42-9E21-1306063145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024A5-F0D9-49B7-9D2A-5C04AEAAFC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7100-7694-4E03-A167-4FD97FFD9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9F366-1D36-4B3F-9D5E-15418958F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B17D9-881F-454E-9FE7-3AB567B15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53B74-CBFF-4013-9924-290BF35C09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2D8BE6-A176-467D-A37D-1245B74D45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71CC2D-5A3A-426B-A288-C077DC832B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1FDCD-0314-4168-8712-91A94C6ABE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B061F-5098-43EE-811B-C84A311005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E94EC4-5865-4125-B0DF-1F6830908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D9B8FF-6846-4F37-A02A-B2FF5EC663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DBBF45-5118-40D1-96A4-0830B326FC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C69AC-BF29-40EF-8368-2FDDA4ABB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79145-4FDD-4492-B248-89E34C67D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B1005-0567-4CB4-9B8C-D853E1F30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30978-10AF-4FCC-93F2-62E0810A36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1B1C3-6AA6-4C8B-86B8-6AE418C64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D56F0E-D94C-4854-84BC-82FF53E24B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AB5DBB-6B05-4185-A81F-213F121556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AE6C29-3CFD-463A-BC45-D33CFA02D60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A0A5E-FE36-45F4-B9D1-DABB7583196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19B9-07DF-4FE1-A331-13A301841E5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5328-1270-46FB-BE36-5F915B4C0EE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E13E-94CF-4627-8BAB-CC320582E343}"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A14B-E9FA-4CD8-A493-076BDA700ED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4C88-3F02-4245-ADCC-3C3092038D1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367F-866A-4450-B5B5-FC1A5439970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EA8D-580C-49F0-9918-61324F9AE9C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542880" y="1749600"/>
            <a:ext cx="83995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Lesson 4.2</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 Number Division: a single rational number (number with decim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0.857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ger division: the quotient is a number and the remainder is a numb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quotient: 10 , remainder: 6</a:t>
            </a: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 dur="20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2" dur="2000"/>
                                        <p:tgtEl>
                                          <p:spTgt spid="3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72">
                                            <p:txEl>
                                              <p:pRg st="4" end="4"/>
                                            </p:txEl>
                                          </p:spTgt>
                                        </p:tgtEl>
                                        <p:attrNameLst>
                                          <p:attrName>style.visibility</p:attrName>
                                        </p:attrNameLst>
                                      </p:cBhvr>
                                      <p:to>
                                        <p:strVal val="visible"/>
                                      </p:to>
                                    </p:set>
                                    <p:animEffect filter="fade" transition="in">
                                      <p:cBhvr additive="repl">
                                        <p:cTn id="17" dur="2000"/>
                                        <p:tgtEl>
                                          <p:spTgt spid="37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72">
                                            <p:txEl>
                                              <p:pRg st="6" end="6"/>
                                            </p:txEl>
                                          </p:spTgt>
                                        </p:tgtEl>
                                        <p:attrNameLst>
                                          <p:attrName>style.visibility</p:attrName>
                                        </p:attrNameLst>
                                      </p:cBhvr>
                                      <p:to>
                                        <p:strVal val="visible"/>
                                      </p:to>
                                    </p:set>
                                    <p:animEffect filter="fade" transition="in">
                                      <p:cBhvr additive="repl">
                                        <p:cTn id="22" dur="2000"/>
                                        <p:tgtEl>
                                          <p:spTgt spid="3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5376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Integers: If n is an integer and d is a positive integer, then there exist unique integers q and r such th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n = q * d + r   and 0≤ r &lt; 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polynomials: If n(x) is a polynomial and d(x) is a nonzero polynomial, then there exist unique polynomials q(x) and r(x) such th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 n(x) = q(x) * d(x) + r(x) 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2. Either degree of r(x) &lt; degree of d(x) or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r(x) is the zero polynomial.</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29" dur="2000"/>
                                        <p:tgtEl>
                                          <p:spTgt spid="37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34" dur="2000"/>
                                        <p:tgtEl>
                                          <p:spTgt spid="37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74">
                                            <p:txEl>
                                              <p:pRg st="3" end="3"/>
                                            </p:txEl>
                                          </p:spTgt>
                                        </p:tgtEl>
                                        <p:attrNameLst>
                                          <p:attrName>style.visibility</p:attrName>
                                        </p:attrNameLst>
                                      </p:cBhvr>
                                      <p:to>
                                        <p:strVal val="visible"/>
                                      </p:to>
                                    </p:set>
                                    <p:animEffect filter="fade" transition="in">
                                      <p:cBhvr additive="repl">
                                        <p:cTn id="39" dur="2000"/>
                                        <p:tgtEl>
                                          <p:spTgt spid="37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74">
                                            <p:txEl>
                                              <p:pRg st="4" end="4"/>
                                            </p:txEl>
                                          </p:spTgt>
                                        </p:tgtEl>
                                        <p:attrNameLst>
                                          <p:attrName>style.visibility</p:attrName>
                                        </p:attrNameLst>
                                      </p:cBhvr>
                                      <p:to>
                                        <p:strVal val="visible"/>
                                      </p:to>
                                    </p:set>
                                    <p:animEffect filter="fade" transition="in">
                                      <p:cBhvr additive="repl">
                                        <p:cTn id="44" dur="2000"/>
                                        <p:tgtEl>
                                          <p:spTgt spid="37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4">
                                            <p:txEl>
                                              <p:pRg st="5" end="5"/>
                                            </p:txEl>
                                          </p:spTgt>
                                        </p:tgtEl>
                                        <p:attrNameLst>
                                          <p:attrName>style.visibility</p:attrName>
                                        </p:attrNameLst>
                                      </p:cBhvr>
                                      <p:to>
                                        <p:strVal val="visible"/>
                                      </p:to>
                                    </p:set>
                                    <p:animEffect filter="fade" transition="in">
                                      <p:cBhvr additive="repl">
                                        <p:cTn id="49" dur="20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685440"/>
            <a:ext cx="8229600" cy="5638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ise made 2 gallons of chili and is packaging it in 6 ounce servings.  Any leftover chili that does not get packaged will be given to her dog Dougal.  How many full servings will she package, and how much chili will Dougal g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nt: 1 gallon = 128 ounc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128 = 256</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56 / 6 = 42.667</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 42 * 6 = 25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ugal gets 4 ounces and she will package 42!</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262080" y="-122400"/>
            <a:ext cx="8498160" cy="8607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 dur="2000"/>
                                        <p:tgtEl>
                                          <p:spTgt spid="37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1" dur="2000"/>
                                        <p:tgtEl>
                                          <p:spTgt spid="376">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76">
                                            <p:txEl>
                                              <p:pRg st="4" end="4"/>
                                            </p:txEl>
                                          </p:spTgt>
                                        </p:tgtEl>
                                        <p:attrNameLst>
                                          <p:attrName>style.visibility</p:attrName>
                                        </p:attrNameLst>
                                      </p:cBhvr>
                                      <p:to>
                                        <p:strVal val="visible"/>
                                      </p:to>
                                    </p:set>
                                    <p:animEffect filter="fade" transition="in">
                                      <p:cBhvr additive="repl">
                                        <p:cTn id="66" dur="2000"/>
                                        <p:tgtEl>
                                          <p:spTgt spid="376">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6">
                                            <p:txEl>
                                              <p:pRg st="5" end="5"/>
                                            </p:txEl>
                                          </p:spTgt>
                                        </p:tgtEl>
                                        <p:attrNameLst>
                                          <p:attrName>style.visibility</p:attrName>
                                        </p:attrNameLst>
                                      </p:cBhvr>
                                      <p:to>
                                        <p:strVal val="visible"/>
                                      </p:to>
                                    </p:set>
                                    <p:animEffect filter="fade" transition="in">
                                      <p:cBhvr additive="repl">
                                        <p:cTn id="71" dur="2000"/>
                                        <p:tgtEl>
                                          <p:spTgt spid="376">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76">
                                            <p:txEl>
                                              <p:pRg st="6" end="6"/>
                                            </p:txEl>
                                          </p:spTgt>
                                        </p:tgtEl>
                                        <p:attrNameLst>
                                          <p:attrName>style.visibility</p:attrName>
                                        </p:attrNameLst>
                                      </p:cBhvr>
                                      <p:to>
                                        <p:strVal val="visible"/>
                                      </p:to>
                                    </p:set>
                                    <p:animEffect filter="fade" transition="in">
                                      <p:cBhvr additive="repl">
                                        <p:cTn id="76" dur="2000"/>
                                        <p:tgtEl>
                                          <p:spTgt spid="376">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6">
                                            <p:txEl>
                                              <p:pRg st="7" end="7"/>
                                            </p:txEl>
                                          </p:spTgt>
                                        </p:tgtEl>
                                        <p:attrNameLst>
                                          <p:attrName>style.visibility</p:attrName>
                                        </p:attrNameLst>
                                      </p:cBhvr>
                                      <p:to>
                                        <p:strVal val="visible"/>
                                      </p:to>
                                    </p:set>
                                    <p:animEffect filter="fade" transition="in">
                                      <p:cBhvr additive="repl">
                                        <p:cTn id="81" dur="2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85800"/>
            <a:ext cx="8229600" cy="5943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is divided by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 the quotient is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What is the remaind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 + 10</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31840" y="-122400"/>
            <a:ext cx="8467920" cy="78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378">
                                            <p:txEl>
                                              <p:pRg st="2" end="2"/>
                                            </p:txEl>
                                          </p:spTgt>
                                        </p:tgtEl>
                                        <p:attrNameLst>
                                          <p:attrName>style.visibility</p:attrName>
                                        </p:attrNameLst>
                                      </p:cBhvr>
                                      <p:to>
                                        <p:strVal val="visible"/>
                                      </p:to>
                                    </p:set>
                                    <p:animEffect filter="checkerboard(across)" transition="in">
                                      <p:cBhvr additive="repl">
                                        <p:cTn id="88" dur="500"/>
                                        <p:tgtEl>
                                          <p:spTgt spid="378">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378">
                                            <p:txEl>
                                              <p:pRg st="3" end="3"/>
                                            </p:txEl>
                                          </p:spTgt>
                                        </p:tgtEl>
                                        <p:attrNameLst>
                                          <p:attrName>style.visibility</p:attrName>
                                        </p:attrNameLst>
                                      </p:cBhvr>
                                      <p:to>
                                        <p:strVal val="visible"/>
                                      </p:to>
                                    </p:set>
                                    <p:animEffect filter="checkerboard(across)" transition="in">
                                      <p:cBhvr additive="repl">
                                        <p:cTn id="93" dur="500"/>
                                        <p:tgtEl>
                                          <p:spTgt spid="378">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378">
                                            <p:txEl>
                                              <p:pRg st="4" end="4"/>
                                            </p:txEl>
                                          </p:spTgt>
                                        </p:tgtEl>
                                        <p:attrNameLst>
                                          <p:attrName>style.visibility</p:attrName>
                                        </p:attrNameLst>
                                      </p:cBhvr>
                                      <p:to>
                                        <p:strVal val="visible"/>
                                      </p:to>
                                    </p:set>
                                    <p:animEffect filter="checkerboard(across)" transition="in">
                                      <p:cBhvr additive="repl">
                                        <p:cTn id="98" dur="500"/>
                                        <p:tgtEl>
                                          <p:spTgt spid="378">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78">
                                            <p:txEl>
                                              <p:pRg st="6" end="6"/>
                                            </p:txEl>
                                          </p:spTgt>
                                        </p:tgtEl>
                                        <p:attrNameLst>
                                          <p:attrName>style.visibility</p:attrName>
                                        </p:attrNameLst>
                                      </p:cBhvr>
                                      <p:to>
                                        <p:strVal val="visible"/>
                                      </p:to>
                                    </p:set>
                                    <p:animEffect filter="checkerboard(across)" transition="in">
                                      <p:cBhvr additive="repl">
                                        <p:cTn id="103" dur="500"/>
                                        <p:tgtEl>
                                          <p:spTgt spid="37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378">
                                            <p:txEl>
                                              <p:pRg st="7" end="7"/>
                                            </p:txEl>
                                          </p:spTgt>
                                        </p:tgtEl>
                                        <p:attrNameLst>
                                          <p:attrName>style.visibility</p:attrName>
                                        </p:attrNameLst>
                                      </p:cBhvr>
                                      <p:to>
                                        <p:strVal val="visible"/>
                                      </p:to>
                                    </p:set>
                                    <p:animEffect filter="checkerboard(across)" transition="in">
                                      <p:cBhvr additive="repl">
                                        <p:cTn id="108" dur="500"/>
                                        <p:tgtEl>
                                          <p:spTgt spid="378">
                                            <p:txEl>
                                              <p:pRg st="7" end="7"/>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78">
                                            <p:txEl>
                                              <p:pRg st="8" end="8"/>
                                            </p:txEl>
                                          </p:spTgt>
                                        </p:tgtEl>
                                        <p:attrNameLst>
                                          <p:attrName>style.visibility</p:attrName>
                                        </p:attrNameLst>
                                      </p:cBhvr>
                                      <p:to>
                                        <p:strVal val="visible"/>
                                      </p:to>
                                    </p:set>
                                    <p:animEffect filter="checkerboard(across)" transition="in">
                                      <p:cBhvr additive="repl">
                                        <p:cTn id="113" dur="5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termine the end behavior of the function g defined b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where w ≠ -5</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x = -3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graphicFrame>
        <p:nvGraphicFramePr>
          <p:cNvPr id="382" name="Object 8"/>
          <p:cNvGraphicFramePr/>
          <p:nvPr/>
        </p:nvGraphicFramePr>
        <p:xfrm>
          <a:off x="1600200" y="2438280"/>
          <a:ext cx="3352680" cy="1068480"/>
        </p:xfrm>
        <a:graphic>
          <a:graphicData uri="http://schemas.openxmlformats.org/presentationml/2006/ole">
            <p:oleObj r:id="rId2" spid="">
              <p:embed/>
              <p:pic>
                <p:nvPicPr>
                  <p:cNvPr id="383" name="Object 8" descr=""/>
                  <p:cNvPicPr/>
                  <p:nvPr/>
                </p:nvPicPr>
                <p:blipFill>
                  <a:blip r:embed="rId3"/>
                  <a:stretch/>
                </p:blipFill>
                <p:spPr>
                  <a:xfrm>
                    <a:off x="1600200" y="2438280"/>
                    <a:ext cx="3352680" cy="1068480"/>
                  </a:xfrm>
                  <a:prstGeom prst="rect">
                    <a:avLst/>
                  </a:prstGeom>
                  <a:ln w="0">
                    <a:noFill/>
                  </a:ln>
                </p:spPr>
              </p:pic>
            </p:oleObj>
          </a:graphicData>
        </a:graphic>
      </p:graphicFrame>
      <p:sp>
        <p:nvSpPr>
          <p:cNvPr id="384" name="Oval 4"/>
          <p:cNvSpPr/>
          <p:nvPr/>
        </p:nvSpPr>
        <p:spPr>
          <a:xfrm rot="20074800">
            <a:off x="2871720" y="2241360"/>
            <a:ext cx="930240" cy="151596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 name="Object 8"/>
          <p:cNvGraphicFramePr/>
          <p:nvPr/>
        </p:nvGraphicFramePr>
        <p:xfrm>
          <a:off x="914400" y="5105520"/>
          <a:ext cx="2344680" cy="704880"/>
        </p:xfrm>
        <a:graphic>
          <a:graphicData uri="http://schemas.openxmlformats.org/presentationml/2006/ole">
            <p:oleObj r:id="rId4" spid="">
              <p:embed/>
              <p:pic>
                <p:nvPicPr>
                  <p:cNvPr id="386" name="Object 8" descr=""/>
                  <p:cNvPicPr/>
                  <p:nvPr/>
                </p:nvPicPr>
                <p:blipFill>
                  <a:blip r:embed="rId5"/>
                  <a:stretch/>
                </p:blipFill>
                <p:spPr>
                  <a:xfrm>
                    <a:off x="914400" y="5105520"/>
                    <a:ext cx="2344680" cy="704880"/>
                  </a:xfrm>
                  <a:prstGeom prst="rect">
                    <a:avLst/>
                  </a:prstGeom>
                  <a:ln w="0">
                    <a:noFill/>
                  </a:ln>
                </p:spPr>
              </p:pic>
            </p:oleObj>
          </a:graphicData>
        </a:graphic>
      </p:graphicFrame>
      <p:graphicFrame>
        <p:nvGraphicFramePr>
          <p:cNvPr id="387" name="Object 8"/>
          <p:cNvGraphicFramePr/>
          <p:nvPr/>
        </p:nvGraphicFramePr>
        <p:xfrm>
          <a:off x="4952880" y="5029200"/>
          <a:ext cx="2084400" cy="704880"/>
        </p:xfrm>
        <a:graphic>
          <a:graphicData uri="http://schemas.openxmlformats.org/presentationml/2006/ole">
            <p:oleObj r:id="rId6" spid="">
              <p:embed/>
              <p:pic>
                <p:nvPicPr>
                  <p:cNvPr id="388" name="Object 8" descr=""/>
                  <p:cNvPicPr/>
                  <p:nvPr/>
                </p:nvPicPr>
                <p:blipFill>
                  <a:blip r:embed="rId7"/>
                  <a:stretch/>
                </p:blipFill>
                <p:spPr>
                  <a:xfrm>
                    <a:off x="4952880" y="5029200"/>
                    <a:ext cx="208440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384"/>
                                        </p:tgtEl>
                                        <p:attrNameLst>
                                          <p:attrName>style.visibility</p:attrName>
                                        </p:attrNameLst>
                                      </p:cBhvr>
                                      <p:to>
                                        <p:strVal val="visible"/>
                                      </p:to>
                                    </p:set>
                                    <p:animEffect filter="checkerboard(across)" transition="in">
                                      <p:cBhvr additive="repl">
                                        <p:cTn id="120" dur="500"/>
                                        <p:tgtEl>
                                          <p:spTgt spid="38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25" dur="500"/>
                                        <p:tgtEl>
                                          <p:spTgt spid="380">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86"/>
                                        </p:tgtEl>
                                        <p:attrNameLst>
                                          <p:attrName>style.visibility</p:attrName>
                                        </p:attrNameLst>
                                      </p:cBhvr>
                                      <p:to>
                                        <p:strVal val="visible"/>
                                      </p:to>
                                    </p:set>
                                    <p:animEffect filter="wipe(left)" transition="in">
                                      <p:cBhvr additive="repl">
                                        <p:cTn id="130" dur="500"/>
                                        <p:tgtEl>
                                          <p:spTgt spid="38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88"/>
                                        </p:tgtEl>
                                        <p:attrNameLst>
                                          <p:attrName>style.visibility</p:attrName>
                                        </p:attrNameLst>
                                      </p:cBhvr>
                                      <p:to>
                                        <p:strVal val="visible"/>
                                      </p:to>
                                    </p:set>
                                    <p:animEffect filter="wipe(left)" transition="in">
                                      <p:cBhvr additive="repl">
                                        <p:cTn id="13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Pages 232 – 233</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 </a:t>
            </a:r>
            <a:r>
              <a:rPr b="1" lang="en-US" sz="7400" spc="-1" strike="noStrike">
                <a:solidFill>
                  <a:srgbClr val="000000"/>
                </a:solidFill>
                <a:latin typeface="Lucida Sans Unicode"/>
              </a:rPr>
              <a:t>3 – 6, </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10 - 19</a:t>
            </a:r>
            <a:endParaRPr b="0" lang="en-US" sz="7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5:22:31Z</dcterms:created>
  <dc:creator>teacher</dc:creator>
  <dc:description/>
  <dc:language>en-US</dc:language>
  <cp:lastModifiedBy>teacher</cp:lastModifiedBy>
  <dcterms:modified xsi:type="dcterms:W3CDTF">2010-11-15T13:20:35Z</dcterms:modified>
  <cp:revision>4</cp:revision>
  <dc:subject/>
  <dc:title>The Quotient-Remainder Theorem</dc:title>
</cp:coreProperties>
</file>