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5.wmf" ContentType="image/x-wmf"/>
  <Override PartName="/ppt/media/image7.png" ContentType="image/png"/>
  <Override PartName="/ppt/media/image12.png" ContentType="image/png"/>
  <Override PartName="/ppt/media/image9.png" ContentType="image/png"/>
  <Override PartName="/ppt/media/image1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87972-E8D7-4A90-BFC5-F05AD5D2F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D8A6-586E-47A6-8DEE-0BB52862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00838-3581-4FC0-8287-B68BF2513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2A759-AD39-46D9-838D-46B96642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EF8B4-6656-47A8-B648-19A8F1772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51007-2CCC-4C66-B9FE-EAE0B03E6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752B6-E0E7-4C28-9EBE-6D3CABCE3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6DCFB-0FF8-4B11-B25D-872BBB640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226DB-395F-476B-907F-7101089BA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A5443-AA3C-4AB9-87AB-19672CFB3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C430C-64F1-47C0-89ED-6AD8CE5AB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3C04-8E68-4CB9-820E-C731A5C10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9DCAB-7EA8-467B-AB20-B1DBBC5AF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BBB53-794F-4350-927A-B222BCB3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A1920-8E65-4511-8D97-79A5C4886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70492-075F-4C2F-966C-623E22A19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770F3-44C0-4A0D-A842-DE9FA0031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01948-0D93-4A95-830D-37BD943AFD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66F4C-FE8D-4052-81B0-9172F8908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A7936-F408-4883-8DB9-E0767C8E1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855AF-54D4-4C22-A7CC-F7A0111D3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976CA-553E-4637-B37E-99BF777F1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5CB5-791D-4EC3-A486-E87D31B0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8B7F0-6656-4DCD-B99D-B9EF122910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94B6F-EE0A-492E-B6F5-E294DA457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D587B-C589-4B6C-AF66-22E3DAFC7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3D0F3-0407-498C-93FE-73C5B8373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C4DB5-66E6-461B-99A8-700431E7B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6874AC-046A-4316-ACA9-6E461C7C6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54365-7B47-461B-B21B-7EA561BD71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1AF415-7732-4D8E-9D32-3E69FBF5F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82FF3-EA05-4E86-AB2A-23D8830C1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F44C5-AC20-4761-BC36-5F8F35237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7B22-065F-475E-B3A0-FECA2CE48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8C31A-FC3C-4E21-BDA3-2A518EA17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D3E8E-69DE-463A-AFD5-583AC0CC2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08E047-1E29-4329-8150-DEC2F6049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A5ABE-BF21-4C58-A0F1-65C04F3D8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E3BA6-B4C0-4C63-AC35-D7B20DE8F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4EE43-D61A-41B4-9F94-D83467B2A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F20A5-0A09-4F58-A95B-8F1D63BDB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6256CD-CF2C-4701-8C01-AFA5E13EC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23EB02-22BC-4567-B503-B77B54818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98FB69-F0FC-43FD-AB15-FCEC7D149D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9A855-9CFC-47E9-8751-2CD7DF28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80991-8584-4FEC-AE48-120697B4E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CB629-56D2-44DE-9460-AF0382F34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0AC60-E7D7-454C-AA4D-CF457FE6A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19B2D-930A-4B38-9814-E8BE0C8BB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702CD-940B-4278-BCF7-47B59D0B0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867E5-3B9B-49D8-9D2F-6FE9C8635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D63CA-FE64-4A24-9A94-74156EBEE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D6042-D3E2-479A-88B3-0A1515FA3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1486E-F704-4ECF-8DE2-6D0D6EE91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53F7D6-BCD7-47F6-803C-6D25051ED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4597-F494-45B3-95B7-0E685A68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2C6018-EC51-47D3-B26C-E1DF3A826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C5DE27-577E-4A9F-A544-AC46F0E456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03AE00-0431-4F4E-8136-43E44FF97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BC8D7-BE8A-40BF-A9A8-6B6325B696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41BBA8-7283-4042-A5B6-3C93F7F946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B4F13-4D41-4E39-B3C8-646EB8119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74A77-503E-4CBA-AE31-8C8C4B591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8543B-3665-4613-B66E-E4063E17E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08336-BB3B-4463-A090-1CB906CFA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1E344-5278-4D6C-BA24-B5A37B31B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212E-0581-48C3-88FB-DC39E096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7348E3-F39B-4B1B-BBD5-2EF7C5192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A8323E-C31C-488E-AB2A-78DB49BE58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8E3A4-E468-4676-AF29-E32DC70A26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68D75C-EE7F-4A29-8BB2-F2E5B28243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F7851F-370F-4A14-8C06-75FB50E0C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7D4D7-67A4-4DF3-85C7-65D17618A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AC728-8ADB-41D5-A40C-102916141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51F0B-4A31-4AEF-8481-8C8AFB8C0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5BF66-E6D3-45A5-916E-45794A013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5FADC-05E8-4E46-AF47-CAD17F99D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7579-D261-4C4C-9C3D-B7C26C73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A7817-8173-4E66-BB01-A37C7F0ED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0C609-6B05-4F62-8F5C-A3FFE5DD5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538128-E6FF-43AA-B474-4118CE09A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8382C-00E4-4973-8E8F-8D24420D8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DBC8BF-5421-4256-8975-1F9574B44B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E7F218-83BE-4EC9-8D6F-703629FA07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FA570-43CE-43B3-9115-B731208E3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11715-3002-463C-A312-3D1423927B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E0134-7CD0-4DA2-BE6F-0B086D9E27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FEAFBA-2839-495E-A0E5-870D174B66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F78D-1DD8-4361-BA9A-2048FF10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B53FF-DF58-4E74-B73D-78A4437B2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BD820-06B9-42CE-9378-5E7DC04E9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923B2-3D61-4472-A5BD-CC7E32E38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51BAD-772B-4561-B37F-FEE55DFB1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0EFE1-892F-47B3-9059-85CF16C01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A1CFE9-64DE-49A8-947D-B582BB831B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E8DCA3-71AB-4AE1-83EA-17AED8AC46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C712-4E3B-473B-A1F3-EECB1BEEC16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FB64-DFED-4DCC-AC13-E047A59A0AB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2E2C-91EB-45D7-9D98-E3AFA4F48F0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152C-DA3C-456C-8583-4ABECB234E9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47DD-ABD1-4CF4-9579-F0046DB246E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447A-360B-4CCE-8AC0-61423EABCF1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7D97-F4A7-4708-BA0E-9678D75081D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C251-BF41-4F58-AE6B-483585442BE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542880" y="1749600"/>
            <a:ext cx="83995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son 4.2</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 Number Division: a single rational number (number with decim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0.857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er division: the quotient is a number and the remainder is a numb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quotient: 10 , remainder: 6</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2" dur="20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7" dur="2000"/>
                                        <p:tgtEl>
                                          <p:spTgt spid="37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6" end="6"/>
                                            </p:txEl>
                                          </p:spTgt>
                                        </p:tgtEl>
                                        <p:attrNameLst>
                                          <p:attrName>style.visibility</p:attrName>
                                        </p:attrNameLst>
                                      </p:cBhvr>
                                      <p:to>
                                        <p:strVal val="visible"/>
                                      </p:to>
                                    </p:set>
                                    <p:animEffect filter="fade" transition="in">
                                      <p:cBhvr additive="repl">
                                        <p:cTn id="22" dur="2000"/>
                                        <p:tgtEl>
                                          <p:spTgt spid="3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5376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Integers: If n is an integer and d is a positive integer, then there exist unique integers q and r such th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n = q * d + r   and 0≤ r &lt; 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polynomials: If n(x) is a polynomial and d(x) is a nonzero polynomial, then there exist unique polynomials q(x) and r(x) such th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 n(x) = q(x) * d(x) + r(x) 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 Either degree of r(x) &lt; degree of d(x) or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r(x) is the zero polynomial.</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39" dur="2000"/>
                                        <p:tgtEl>
                                          <p:spTgt spid="37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74">
                                            <p:txEl>
                                              <p:pRg st="4" end="4"/>
                                            </p:txEl>
                                          </p:spTgt>
                                        </p:tgtEl>
                                        <p:attrNameLst>
                                          <p:attrName>style.visibility</p:attrName>
                                        </p:attrNameLst>
                                      </p:cBhvr>
                                      <p:to>
                                        <p:strVal val="visible"/>
                                      </p:to>
                                    </p:set>
                                    <p:animEffect filter="fade" transition="in">
                                      <p:cBhvr additive="repl">
                                        <p:cTn id="44" dur="2000"/>
                                        <p:tgtEl>
                                          <p:spTgt spid="37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4">
                                            <p:txEl>
                                              <p:pRg st="5" end="5"/>
                                            </p:txEl>
                                          </p:spTgt>
                                        </p:tgtEl>
                                        <p:attrNameLst>
                                          <p:attrName>style.visibility</p:attrName>
                                        </p:attrNameLst>
                                      </p:cBhvr>
                                      <p:to>
                                        <p:strVal val="visible"/>
                                      </p:to>
                                    </p:set>
                                    <p:animEffect filter="fade" transition="in">
                                      <p:cBhvr additive="repl">
                                        <p:cTn id="49"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685440"/>
            <a:ext cx="8229600" cy="5638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ise made 2 gallons of chili and is packaging it in 6 ounce servings.  Any leftover chili that does not get packaged will be given to her dog Dougal.  How many full servings will she package, and how much chili will Dougal g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nt: 1 gallon = 128 ounc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128 = 256</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56 / 6 = 42.667</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 42 * 6 = 25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al gets 4 ounces and she will package 42!</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62080" y="-122400"/>
            <a:ext cx="8498160" cy="8607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 dur="2000"/>
                                        <p:tgtEl>
                                          <p:spTgt spid="3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1" dur="2000"/>
                                        <p:tgtEl>
                                          <p:spTgt spid="376">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6" dur="2000"/>
                                        <p:tgtEl>
                                          <p:spTgt spid="376">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1" dur="2000"/>
                                        <p:tgtEl>
                                          <p:spTgt spid="376">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6" dur="2000"/>
                                        <p:tgtEl>
                                          <p:spTgt spid="376">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6">
                                            <p:txEl>
                                              <p:pRg st="7" end="7"/>
                                            </p:txEl>
                                          </p:spTgt>
                                        </p:tgtEl>
                                        <p:attrNameLst>
                                          <p:attrName>style.visibility</p:attrName>
                                        </p:attrNameLst>
                                      </p:cBhvr>
                                      <p:to>
                                        <p:strVal val="visible"/>
                                      </p:to>
                                    </p:set>
                                    <p:animEffect filter="fade" transition="in">
                                      <p:cBhvr additive="repl">
                                        <p:cTn id="81"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85800"/>
            <a:ext cx="8229600" cy="594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is divided by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 the quotient is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What is the remaind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 + 10</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31840" y="-122400"/>
            <a:ext cx="8467920" cy="78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88" dur="500"/>
                                        <p:tgtEl>
                                          <p:spTgt spid="378">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378">
                                            <p:txEl>
                                              <p:pRg st="3" end="3"/>
                                            </p:txEl>
                                          </p:spTgt>
                                        </p:tgtEl>
                                        <p:attrNameLst>
                                          <p:attrName>style.visibility</p:attrName>
                                        </p:attrNameLst>
                                      </p:cBhvr>
                                      <p:to>
                                        <p:strVal val="visible"/>
                                      </p:to>
                                    </p:set>
                                    <p:animEffect filter="checkerboard(across)" transition="in">
                                      <p:cBhvr additive="repl">
                                        <p:cTn id="93" dur="500"/>
                                        <p:tgtEl>
                                          <p:spTgt spid="378">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78">
                                            <p:txEl>
                                              <p:pRg st="4" end="4"/>
                                            </p:txEl>
                                          </p:spTgt>
                                        </p:tgtEl>
                                        <p:attrNameLst>
                                          <p:attrName>style.visibility</p:attrName>
                                        </p:attrNameLst>
                                      </p:cBhvr>
                                      <p:to>
                                        <p:strVal val="visible"/>
                                      </p:to>
                                    </p:set>
                                    <p:animEffect filter="checkerboard(across)" transition="in">
                                      <p:cBhvr additive="repl">
                                        <p:cTn id="98" dur="500"/>
                                        <p:tgtEl>
                                          <p:spTgt spid="37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8">
                                            <p:txEl>
                                              <p:pRg st="6" end="6"/>
                                            </p:txEl>
                                          </p:spTgt>
                                        </p:tgtEl>
                                        <p:attrNameLst>
                                          <p:attrName>style.visibility</p:attrName>
                                        </p:attrNameLst>
                                      </p:cBhvr>
                                      <p:to>
                                        <p:strVal val="visible"/>
                                      </p:to>
                                    </p:set>
                                    <p:animEffect filter="checkerboard(across)" transition="in">
                                      <p:cBhvr additive="repl">
                                        <p:cTn id="103" dur="500"/>
                                        <p:tgtEl>
                                          <p:spTgt spid="37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78">
                                            <p:txEl>
                                              <p:pRg st="7" end="7"/>
                                            </p:txEl>
                                          </p:spTgt>
                                        </p:tgtEl>
                                        <p:attrNameLst>
                                          <p:attrName>style.visibility</p:attrName>
                                        </p:attrNameLst>
                                      </p:cBhvr>
                                      <p:to>
                                        <p:strVal val="visible"/>
                                      </p:to>
                                    </p:set>
                                    <p:animEffect filter="checkerboard(across)" transition="in">
                                      <p:cBhvr additive="repl">
                                        <p:cTn id="108" dur="500"/>
                                        <p:tgtEl>
                                          <p:spTgt spid="378">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78">
                                            <p:txEl>
                                              <p:pRg st="8" end="8"/>
                                            </p:txEl>
                                          </p:spTgt>
                                        </p:tgtEl>
                                        <p:attrNameLst>
                                          <p:attrName>style.visibility</p:attrName>
                                        </p:attrNameLst>
                                      </p:cBhvr>
                                      <p:to>
                                        <p:strVal val="visible"/>
                                      </p:to>
                                    </p:set>
                                    <p:animEffect filter="checkerboard(across)" transition="in">
                                      <p:cBhvr additive="repl">
                                        <p:cTn id="113"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termine the end behavior of the function g defined b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where w ≠ -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x = -3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graphicFrame>
        <p:nvGraphicFramePr>
          <p:cNvPr id="382" name="Object 8"/>
          <p:cNvGraphicFramePr/>
          <p:nvPr/>
        </p:nvGraphicFramePr>
        <p:xfrm>
          <a:off x="1600200" y="2438280"/>
          <a:ext cx="3352680" cy="1068480"/>
        </p:xfrm>
        <a:graphic>
          <a:graphicData uri="http://schemas.openxmlformats.org/presentationml/2006/ole">
            <p:oleObj r:id="rId2" spid="">
              <p:embed/>
              <p:pic>
                <p:nvPicPr>
                  <p:cNvPr id="383" name="Object 8" descr=""/>
                  <p:cNvPicPr/>
                  <p:nvPr/>
                </p:nvPicPr>
                <p:blipFill>
                  <a:blip r:embed="rId3"/>
                  <a:stretch/>
                </p:blipFill>
                <p:spPr>
                  <a:xfrm>
                    <a:off x="1600200" y="2438280"/>
                    <a:ext cx="3352680" cy="1068480"/>
                  </a:xfrm>
                  <a:prstGeom prst="rect">
                    <a:avLst/>
                  </a:prstGeom>
                  <a:ln w="0">
                    <a:noFill/>
                  </a:ln>
                </p:spPr>
              </p:pic>
            </p:oleObj>
          </a:graphicData>
        </a:graphic>
      </p:graphicFrame>
      <p:sp>
        <p:nvSpPr>
          <p:cNvPr id="384" name="Oval 4"/>
          <p:cNvSpPr/>
          <p:nvPr/>
        </p:nvSpPr>
        <p:spPr>
          <a:xfrm rot="20074800">
            <a:off x="2871720" y="2241360"/>
            <a:ext cx="930240" cy="151596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 name="Object 8"/>
          <p:cNvGraphicFramePr/>
          <p:nvPr/>
        </p:nvGraphicFramePr>
        <p:xfrm>
          <a:off x="914400" y="5105520"/>
          <a:ext cx="2344680" cy="704880"/>
        </p:xfrm>
        <a:graphic>
          <a:graphicData uri="http://schemas.openxmlformats.org/presentationml/2006/ole">
            <p:oleObj r:id="rId4" spid="">
              <p:embed/>
              <p:pic>
                <p:nvPicPr>
                  <p:cNvPr id="386" name="Object 8" descr=""/>
                  <p:cNvPicPr/>
                  <p:nvPr/>
                </p:nvPicPr>
                <p:blipFill>
                  <a:blip r:embed="rId5"/>
                  <a:stretch/>
                </p:blipFill>
                <p:spPr>
                  <a:xfrm>
                    <a:off x="914400" y="5105520"/>
                    <a:ext cx="2344680" cy="704880"/>
                  </a:xfrm>
                  <a:prstGeom prst="rect">
                    <a:avLst/>
                  </a:prstGeom>
                  <a:ln w="0">
                    <a:noFill/>
                  </a:ln>
                </p:spPr>
              </p:pic>
            </p:oleObj>
          </a:graphicData>
        </a:graphic>
      </p:graphicFrame>
      <p:graphicFrame>
        <p:nvGraphicFramePr>
          <p:cNvPr id="387" name="Object 8"/>
          <p:cNvGraphicFramePr/>
          <p:nvPr/>
        </p:nvGraphicFramePr>
        <p:xfrm>
          <a:off x="4952880" y="5029200"/>
          <a:ext cx="2084400" cy="704880"/>
        </p:xfrm>
        <a:graphic>
          <a:graphicData uri="http://schemas.openxmlformats.org/presentationml/2006/ole">
            <p:oleObj r:id="rId6" spid="">
              <p:embed/>
              <p:pic>
                <p:nvPicPr>
                  <p:cNvPr id="388" name="Object 8" descr=""/>
                  <p:cNvPicPr/>
                  <p:nvPr/>
                </p:nvPicPr>
                <p:blipFill>
                  <a:blip r:embed="rId7"/>
                  <a:stretch/>
                </p:blipFill>
                <p:spPr>
                  <a:xfrm>
                    <a:off x="4952880" y="5029200"/>
                    <a:ext cx="20844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384"/>
                                        </p:tgtEl>
                                        <p:attrNameLst>
                                          <p:attrName>style.visibility</p:attrName>
                                        </p:attrNameLst>
                                      </p:cBhvr>
                                      <p:to>
                                        <p:strVal val="visible"/>
                                      </p:to>
                                    </p:set>
                                    <p:animEffect filter="checkerboard(across)" transition="in">
                                      <p:cBhvr additive="repl">
                                        <p:cTn id="120" dur="500"/>
                                        <p:tgtEl>
                                          <p:spTgt spid="38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25" dur="500"/>
                                        <p:tgtEl>
                                          <p:spTgt spid="380">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6"/>
                                        </p:tgtEl>
                                        <p:attrNameLst>
                                          <p:attrName>style.visibility</p:attrName>
                                        </p:attrNameLst>
                                      </p:cBhvr>
                                      <p:to>
                                        <p:strVal val="visible"/>
                                      </p:to>
                                    </p:set>
                                    <p:animEffect filter="wipe(left)" transition="in">
                                      <p:cBhvr additive="repl">
                                        <p:cTn id="130" dur="500"/>
                                        <p:tgtEl>
                                          <p:spTgt spid="38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88"/>
                                        </p:tgtEl>
                                        <p:attrNameLst>
                                          <p:attrName>style.visibility</p:attrName>
                                        </p:attrNameLst>
                                      </p:cBhvr>
                                      <p:to>
                                        <p:strVal val="visible"/>
                                      </p:to>
                                    </p:set>
                                    <p:animEffect filter="wipe(left)" transition="in">
                                      <p:cBhvr additive="repl">
                                        <p:cTn id="13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Pages 232 – 233</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 </a:t>
            </a:r>
            <a:r>
              <a:rPr b="1" lang="en-US" sz="7400" spc="-1" strike="noStrike">
                <a:solidFill>
                  <a:srgbClr val="000000"/>
                </a:solidFill>
                <a:latin typeface="Lucida Sans Unicode"/>
              </a:rPr>
              <a:t>3 – 6, </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10 - 19</a:t>
            </a:r>
            <a:endParaRPr b="0" lang="en-US" sz="7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5:22:31Z</dcterms:created>
  <dc:creator>teacher</dc:creator>
  <dc:description/>
  <dc:language>en-US</dc:language>
  <cp:lastModifiedBy>teacher</cp:lastModifiedBy>
  <dcterms:modified xsi:type="dcterms:W3CDTF">2010-11-15T13:20:35Z</dcterms:modified>
  <cp:revision>4</cp:revision>
  <dc:subject/>
  <dc:title>The Quotient-Remainder Theorem</dc:title>
</cp:coreProperties>
</file>