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98C-B11E-4A31-A432-36F17752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CFD-FB1A-48DC-B85C-333DC6E7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6FD-5826-4062-9840-48C91BDF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2FD-955B-42C6-B9B2-BF442748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04E7-5A7C-44F2-A676-A6D04064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2C55-F1FD-444F-A42A-22EBA525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DA35-4EE1-4B03-855D-14C0CBD9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E496-0C30-4D5A-9E90-4A20DF54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BC2B-562A-484C-9B69-69E9A4EE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B916-0C1D-4F08-9990-05673E6D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698C-13E4-41D7-99D6-9E355DCD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F39-F987-41D6-993D-6DABDF73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5897-C9F8-421C-9665-38C7DA64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1E5B-156A-4794-81A7-15D941B1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7110-01A8-43DB-B01E-8B054C31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A64C-96BB-4B4A-AF63-5576DEF0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7E9D-E058-4B11-9D9B-9C262D80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1057-2D74-4D76-9EE7-4ED822B6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63D6-9115-43B9-AEB8-E0E88E3C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3B6B-2405-4669-BAAD-D8527FD2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2CCD-2666-47C8-A4B0-5F636D3D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EA79-381B-43B3-AA6D-ED59D89A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EE5-83EF-4D11-A7CD-6EE87A3C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03A03-B1EB-44D1-A9CF-01066425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9BED-E453-4775-B82E-D533669F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43FFD-2F7C-41EB-8CCF-15F4260B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B594-856D-47BA-A46B-27C6E785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36924-E81E-4564-B9AC-4565DF6A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8621-6E28-475C-91F9-72A9BFCE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CBB8-F007-44C9-8C59-F29873EB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4AB4B-4F01-43AB-B099-3B2F0197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767B-E7BD-44E9-88EF-5E0609E4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5914B-3487-45C1-BD8F-DB25AFF9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01A-8529-49FD-951E-1154E9AD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6DB85-BC35-4E42-B710-A24E57A1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E3E6-4969-44A4-920C-2EF4B879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4B02-15A4-46E2-876C-28916193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A1D1-4319-440B-92E9-7722CD47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E7EF-F810-49B0-A6E0-B4F3E024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D113-707E-40F7-9EDD-DAFF7BF9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4B6D2-C134-4FB7-BD13-9A45B21C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3746E-830A-4EF0-B9B1-00310596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99B35-C2E8-4DB0-B346-B7DC762A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877-9CB1-4A74-A212-6FB445CD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6E7-FEC0-4453-B1B8-5A1F3F30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7E7-EEB6-4AE3-9E10-21A25442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002-CF3C-4D62-BD65-EE119B1E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AAE-F555-438C-8784-05565DCF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2C99-2777-4939-B3D0-D9353783913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A947-18E2-4339-A516-14181C98C37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6CCF-6BDF-4810-BC41-0EACCDF5E4B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2BD8-0DC1-4192-B98D-8A95680D4D6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14.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>
                <a:solidFill>
                  <a:srgbClr val="0f6fc6"/>
                </a:solidFill>
                <a:latin typeface="Calibri"/>
              </a:rPr>
              <a:t>5 new derivatives (from 7.6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damental Theorem of Calcul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t f be a continuous function on the interval from a to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If g is a function whose derivative is f, th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If g(x) =                 for all x from a to b, then g’(x) =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(x) for all such x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2133720" y="3352680"/>
                <a:ext cx="37335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0" y="4876920"/>
                <a:ext cx="14158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his section mean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876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take the derivativ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04920" y="1905120"/>
                <a:ext cx="152388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743200" y="2057400"/>
                <a:ext cx="144468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4495680" y="2057400"/>
                <a:ext cx="25718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5"/>
              <p:cNvSpPr txBox="1"/>
              <p:nvPr/>
            </p:nvSpPr>
            <p:spPr>
              <a:xfrm>
                <a:off x="2362320" y="3505320"/>
                <a:ext cx="2030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3657600" y="5638680"/>
                <a:ext cx="67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f(x) = cos x + sin x , what is                    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4876920" y="1447920"/>
                <a:ext cx="17701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π</m:t>
                        </m:r>
                        <m:r>
                          <m:t xml:space="preserve">4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9480" y="3200400"/>
                <a:ext cx="67597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2209680" y="4267080"/>
                <a:ext cx="35989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"/>
              <p:cNvSpPr txBox="1"/>
              <p:nvPr/>
            </p:nvSpPr>
            <p:spPr>
              <a:xfrm>
                <a:off x="3352680" y="5715000"/>
                <a:ext cx="18925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                                  Find h’(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2209680" y="1905120"/>
                <a:ext cx="24465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124080" y="3809880"/>
                <a:ext cx="1677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Pages 854 – 855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3 – 1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# 12 is extra credit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2:19:23Z</dcterms:created>
  <dc:creator>Laura Helbing</dc:creator>
  <dc:description/>
  <dc:language>en-US</dc:language>
  <cp:lastModifiedBy>Laura Helbing</cp:lastModifiedBy>
  <dcterms:modified xsi:type="dcterms:W3CDTF">2011-05-17T01:29:04Z</dcterms:modified>
  <cp:revision>2</cp:revision>
  <dc:subject/>
  <dc:title>The Fundamental Theorem of Calculus</dc:title>
</cp:coreProperties>
</file>