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79B-E2F5-4780-A3FD-68A42D9C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7BFF-5E3D-4CA4-BFF7-BD849D58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F6C-4207-4041-ACFD-809A8939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EFF-AB11-4116-B94E-7FFA925C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19DF-10F5-4D92-B4A3-784C72445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9A1F-53E2-4A78-A631-7810B3FB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8CA0-76D1-489E-A08F-E91E7485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677C-0106-444D-9CB1-EB68AB06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4EE2-26E8-43CB-BC21-571B6266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06F2-E3E5-4727-959C-3E3C6CAE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AD13-D831-4652-BB13-8E3515FD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525-D1AE-475D-80D9-7BE5BCCC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8FF2-5769-4AB2-AED4-3B2E3534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353D-4623-4918-84AE-616CAA3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4B5E-EFF2-4301-9633-A12D4E5F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FD85-9E1C-4B22-9E91-E112B754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46E6-B799-4326-BFA4-50F142AF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47E8-0DF2-44E6-A638-B0949662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9DA6-37DC-4012-BE48-E019C768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D038-4BB5-4538-B567-65EC4E03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7742-2B56-4A57-8EDC-22CB510F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4E82-6758-4403-99ED-DDF61A86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A5F-2FEB-4D8D-A3E3-6587FF0B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62ABF-DC05-4125-A1C2-D341187D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FE55B-683D-48F2-818D-0465CD4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2EDC0-9378-4187-8E26-8646A8AE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4100A-1501-44BD-AD09-F3FF83E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AAF13-DA65-424B-B6AD-BD825C31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679CA-9E5D-494E-8504-5B68A5B2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9E19-D994-476A-9D82-B20E09A3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42AC-3F22-4644-BB89-3830E183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642AA-9F09-4B57-A642-3957297D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90903-DF6B-422A-A24E-770D4E6E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CC0-3555-4AFB-BCDF-6FB230DB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4CC9-FDEB-411B-9C0A-6422E81D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8F69F-EEE1-4878-A017-04990614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BAB5-458A-4178-B8F2-71BE3EA6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FB59-3C4A-48B4-8F91-4E1EE99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2AB2C-6B0A-420D-BE2D-C8E7D1B3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B4FB7-B54B-486B-A9D8-09F8D34E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6D746-9BDF-45A6-AF15-CF9DFC39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16BBB-3835-494C-ABE5-21D3232E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E6D4-DBB3-4EA0-BF0D-231C7E2B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3A0-4035-4FAA-AA41-B5DB7310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ADE-33CF-49CC-A888-5F86A86C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1B4-02C8-4F17-835D-571971AE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E99-E8D0-41FB-AF89-50D67912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5C6-5BFA-471F-ABB7-9D23BE34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4C7D-1DA5-4DA4-AEDB-B2F838AA169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A480-4DE4-49C9-AF55-2D54E2DAAC1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C5AB-73FE-4752-A722-A48DA309C74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7583-7987-4EC7-B266-48BD0E999B6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23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14.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>
                <a:solidFill>
                  <a:srgbClr val="0f6fc6"/>
                </a:solidFill>
                <a:latin typeface="Calibri"/>
              </a:rPr>
              <a:t>5 new derivatives (from 7.6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nstanti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undamental Theorem of Calcul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t f be a continuous function on the interval from a to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If g is a function whose derivative is f, th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If g(x) =                 for all x from a to b, then g’(x) =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(x) for all such x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133720" y="3352680"/>
                <a:ext cx="373356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5"/>
              <p:cNvSpPr txBox="1"/>
              <p:nvPr/>
            </p:nvSpPr>
            <p:spPr>
              <a:xfrm>
                <a:off x="2286000" y="4876920"/>
                <a:ext cx="14158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this section means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4876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take the derivative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04920" y="1905120"/>
                <a:ext cx="152388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743200" y="2057400"/>
                <a:ext cx="14446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4"/>
              <p:cNvSpPr txBox="1"/>
              <p:nvPr/>
            </p:nvSpPr>
            <p:spPr>
              <a:xfrm>
                <a:off x="4495680" y="2057400"/>
                <a:ext cx="25718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2362320" y="3505320"/>
                <a:ext cx="203040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3657600" y="5638680"/>
                <a:ext cx="67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f(x) = cos x + sin x , what is                     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4876920" y="1447920"/>
                <a:ext cx="17701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π</m:t>
                        </m:r>
                        <m:r>
                          <m:t xml:space="preserve">4</m:t>
                        </m:r>
                      </m:sub>
                      <m:sup>
                        <m:r>
                          <m:t xml:space="preserve">π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9480" y="3200400"/>
                <a:ext cx="67597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π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2209680" y="4267080"/>
                <a:ext cx="35989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"/>
              <p:cNvSpPr txBox="1"/>
              <p:nvPr/>
            </p:nvSpPr>
            <p:spPr>
              <a:xfrm>
                <a:off x="3352680" y="5715000"/>
                <a:ext cx="18925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se                                   Find h’(x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209680" y="1905120"/>
                <a:ext cx="24465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3124080" y="3809880"/>
                <a:ext cx="16779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Pages 854 – 855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3 – 14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# 12 is extra credit!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2:19:23Z</dcterms:created>
  <dc:creator>Laura Helbing</dc:creator>
  <dc:description/>
  <dc:language>en-US</dc:language>
  <cp:lastModifiedBy>Laura Helbing</cp:lastModifiedBy>
  <dcterms:modified xsi:type="dcterms:W3CDTF">2011-05-17T01:29:04Z</dcterms:modified>
  <cp:revision>2</cp:revision>
  <dc:subject/>
  <dc:title>The Fundamental Theorem of Calculus</dc:title>
</cp:coreProperties>
</file>