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DD62-B8CB-43BC-B22E-C64B42D8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22F2-7F5B-46A6-8FC5-2BD78D9B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A60D-69B5-49F7-9E4B-92C996C3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CA85-AA03-44E1-BE70-A788AE0F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AA57-21FC-4EAB-8256-E60C8126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6769-CD9D-426B-9A86-87AA6731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A797-D755-4F7C-A162-44EFC92B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7E99-0D54-4B6C-BF9F-01955FF3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57C8-1549-4920-897C-36F90DA7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C8E8-8CC7-41C4-BAA7-7F8E4414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E318-B2CE-421D-A508-6B982B4E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4AE7-8DEF-4DC8-BD74-BB8FB350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7527-4BF3-4D45-AD33-AC786654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F10D-AB8D-4E53-BF97-AF7051C2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115C-A4B1-4EE3-932E-22FE06CF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D087-5AB1-40B9-8878-8D407562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4F84-8817-42FD-BA0B-3387ADB70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CA1A3-2C26-4BC2-BF21-C7C042A4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6EFF1-B811-453D-836C-989C2100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6FF10-3026-49BA-8567-874533D0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615ED-9574-4F39-AC8B-EE2048DD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BF335-90BB-485A-95EF-29D62DE6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064E-3F59-4A98-81BE-33FF1609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DDD2A-E0BD-499C-9D0C-C06D0DC8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2683F-D315-432B-8745-9D07F7B8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7A2B5-249F-46C4-BBE1-5E95A03B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604B0-9D36-47F6-A362-25DD24C3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221A7-BA17-4E31-BAE7-8143795A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8FC12-054B-4996-82F9-D06DF0FA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23F22-AE41-4862-AAC0-36615B85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B0B06-F813-4CF3-8AF0-998A2129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C5F9F-DB57-405A-A95D-F60FADF0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A33F7-A50D-44DA-9B9A-10233946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8B32-7771-476B-A70F-1F2AC2F8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2D583-AF9B-47C1-9E3D-E1A0E083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5E5E3-D8B1-4E37-AB56-B123BDD3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00EC3-1B8E-4EA3-997B-EE71D3DF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C7CF5-BC34-44E0-819E-1BF0278C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B48E6-6A8A-4C86-9FF7-033E8BFC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D2CAE-4E16-4CF4-BD8F-3F9F3937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112DB-7142-40DA-B59E-D4E1A353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E7DE8-92E8-48BE-A18F-9639979ED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6205C-5ED1-4296-B210-FF223C0B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1B7C-6105-48FC-A226-B2187996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AB34-9664-42DE-8B44-38CD4CB4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8524-0538-4534-B357-1DFBA6AB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BD4B-C334-4308-AF41-0DCE895C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CE82-1F5A-45F8-8300-99673A81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E31B-C8F5-4B61-AB33-C6C33EB0E34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3556-CFE7-4A4F-9FFA-90F3451BBCF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A4F2-3DDB-4F26-8E3B-54D9CA6824C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051E-1A2F-487C-B0E7-AF0D54C6219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423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tion 14.7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214200" y="1428840"/>
            <a:ext cx="8715600" cy="542916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000" spc="-1" strike="noStrike">
                <a:solidFill>
                  <a:srgbClr val="0f6fc6"/>
                </a:solidFill>
                <a:latin typeface="Calibri"/>
              </a:rPr>
              <a:t>5 new derivatives (from 7.6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4200" y="1599840"/>
            <a:ext cx="8715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f(x) = sin x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h(x) = ln 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f’(x)  = cos x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h’(x) = 1/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(x) = cos x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j(x) = a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’(x) = -sin x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j’(x) = (ln b)∙a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k(x) = e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k’(x) = e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damental Theorem of Calculu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t f be a continuous function on the interval from a to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If g is a function whose derivative is f, th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If g(x) =                 for all x from a to b, then g’(x) =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(x) for all such x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2133720" y="3352680"/>
                <a:ext cx="373356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5"/>
              <p:cNvSpPr txBox="1"/>
              <p:nvPr/>
            </p:nvSpPr>
            <p:spPr>
              <a:xfrm>
                <a:off x="2286000" y="4876920"/>
                <a:ext cx="141588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this section mean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4876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w, take the derivative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2"/>
              <p:cNvSpPr txBox="1"/>
              <p:nvPr/>
            </p:nvSpPr>
            <p:spPr>
              <a:xfrm>
                <a:off x="304920" y="1905120"/>
                <a:ext cx="1523880" cy="18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3"/>
              <p:cNvSpPr txBox="1"/>
              <p:nvPr/>
            </p:nvSpPr>
            <p:spPr>
              <a:xfrm>
                <a:off x="2743200" y="2057400"/>
                <a:ext cx="144468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x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4495680" y="2057400"/>
                <a:ext cx="25718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5"/>
              <p:cNvSpPr txBox="1"/>
              <p:nvPr/>
            </p:nvSpPr>
            <p:spPr>
              <a:xfrm>
                <a:off x="2362320" y="3505320"/>
                <a:ext cx="20304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6"/>
              <p:cNvSpPr txBox="1"/>
              <p:nvPr/>
            </p:nvSpPr>
            <p:spPr>
              <a:xfrm>
                <a:off x="3657600" y="5638680"/>
                <a:ext cx="6764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f(x) = cos x + sin x , what is                     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2"/>
              <p:cNvSpPr txBox="1"/>
              <p:nvPr/>
            </p:nvSpPr>
            <p:spPr>
              <a:xfrm>
                <a:off x="4876920" y="1447920"/>
                <a:ext cx="17701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π</m:t>
                        </m:r>
                        <m:r>
                          <m:t xml:space="preserve">4</m:t>
                        </m:r>
                      </m:sub>
                      <m:sup>
                        <m:r>
                          <m:t xml:space="preserve">π</m:t>
                        </m:r>
                        <m:r>
                          <m:t xml:space="preserve">2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3"/>
              <p:cNvSpPr txBox="1"/>
              <p:nvPr/>
            </p:nvSpPr>
            <p:spPr>
              <a:xfrm>
                <a:off x="609480" y="3200400"/>
                <a:ext cx="675972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π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π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π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π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2209680" y="4267080"/>
                <a:ext cx="359892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5"/>
              <p:cNvSpPr txBox="1"/>
              <p:nvPr/>
            </p:nvSpPr>
            <p:spPr>
              <a:xfrm>
                <a:off x="3352680" y="5715000"/>
                <a:ext cx="18925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pose                                   Find h’(x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3"/>
              <p:cNvSpPr txBox="1"/>
              <p:nvPr/>
            </p:nvSpPr>
            <p:spPr>
              <a:xfrm>
                <a:off x="2209680" y="1905120"/>
                <a:ext cx="244656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3124080" y="3809880"/>
                <a:ext cx="16779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me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Pages 854 – 855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3 – 14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# 12 is extra credit!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2:19:23Z</dcterms:created>
  <dc:creator>Laura Helbing</dc:creator>
  <dc:description/>
  <dc:language>en-US</dc:language>
  <cp:lastModifiedBy>Laura Helbing</cp:lastModifiedBy>
  <dcterms:modified xsi:type="dcterms:W3CDTF">2011-05-17T01:29:04Z</dcterms:modified>
  <cp:revision>2</cp:revision>
  <dc:subject/>
  <dc:title>The Fundamental Theorem of Calculus</dc:title>
</cp:coreProperties>
</file>