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BFB3-9524-493D-809F-0AB88E0FC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EC90-DC7D-4B20-9759-5859C86E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B73B-CA2D-49A6-B5E1-832E2DDBA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EFA2-BD42-43A9-BF1D-E98120D7F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5CB8-8C0A-4633-9E99-AAED0DC46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2D6A-1141-4C7C-BD75-76E588E7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FF76-1192-45FA-939F-AA93C884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A4F6-AADC-4F18-AB17-888C7D8D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6376-8F95-4747-B703-14C830AA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1FAA-A1E1-40E2-B0B8-F98DF31E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2524-10CF-426F-B4C9-F1900710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4220-4040-4EE6-B7F3-866A37B5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1548-9B3C-498D-8952-EA6ABB11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C30D-1365-4DD4-8FF0-1A77E7FE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1AAC-468A-42C6-8211-A17F106E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B98F-B612-46DB-8A9F-7C653909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E0B6-6B85-431F-943B-F36AA135A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10722-343E-4907-993E-162A1C9C9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B12C2-568A-460D-9E09-15B46402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7D3F7-863F-4183-BB7B-C3A8CEB9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98017-6C8C-419E-AB31-51736D85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9C4DD-33AD-45B6-8FF9-533F23D3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147F-3ECA-490A-87FE-CD53F181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4C998-A873-4676-A3A3-A1B1610C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AD958-0271-43DC-B1C4-DF5EA12D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E9196-B97F-4602-8F90-838329BB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84744-6474-404C-953E-38287696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29B0D-C3EC-488E-B08B-FAD483FC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D158D-C979-4358-9A03-51AA4F9BB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E6DCB-A707-467D-8320-B8627800B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9B613-F44A-47D3-8626-0A49C4739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D4905-9E97-4551-9697-E0449239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13A58-888D-407C-9023-ABB2AF97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BCAF-8BE8-4605-B704-30540E3C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3270D-513A-4974-97E2-17E00011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E0B3D-4F18-4BF8-A4BD-0E7260C0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EFEF1-08EA-46A8-BEE2-4D4258AF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29DC8-66FB-4D7A-8D1F-01ADB917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C3B4A-9CB3-4FFA-B87B-F9B14A10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57D1B-7040-4338-AF52-790ADBE1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C1658-599F-4B49-9168-42574525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3E525-A44C-46FA-B3BF-D8FCAD92D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98163-C6E7-4836-8B68-AFEAC076D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8EBD-A883-4C02-9F8F-B6DA55E2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FD09-8CF1-4BAA-AEC4-060698E9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5E32-1857-4EBE-95CC-6218B895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2633-A38D-4957-B198-42971E2D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9118-5F96-41F0-BDC4-ABEED2C5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7776-D84D-4619-93F9-C19DD707AFB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15BF-3804-4340-9738-8BED1A13E68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F7F2-EA06-44B0-BCEA-FE1B910F902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3FA1-8FC0-4F2F-B808-EEB722C9174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423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tion 14.7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8"/>
          <p:cNvSpPr/>
          <p:nvPr/>
        </p:nvSpPr>
        <p:spPr>
          <a:xfrm>
            <a:off x="214200" y="1428840"/>
            <a:ext cx="8715600" cy="5429160"/>
          </a:xfrm>
          <a:prstGeom prst="rect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000" spc="-1" strike="noStrike">
                <a:solidFill>
                  <a:srgbClr val="0f6fc6"/>
                </a:solidFill>
                <a:latin typeface="Calibri"/>
              </a:rPr>
              <a:t>5 new derivatives (from 7.6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14200" y="1599840"/>
            <a:ext cx="8715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f(x) = sin x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h(x) = ln x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f’(x)  = cos x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h’(x) = 1/x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g(x) = cos x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j(x) = a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g’(x) = -sin x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j’(x) = (ln b)∙a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k(x) = e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k’(x) = e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ndamental Theorem of Calculu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t f be a continuous function on the interval from a to b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If g is a function whose derivative is f, th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 If g(x) =                 for all x from a to b, then g’(x) =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(x) for all such x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2133720" y="3352680"/>
                <a:ext cx="3733560" cy="119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5"/>
              <p:cNvSpPr txBox="1"/>
              <p:nvPr/>
            </p:nvSpPr>
            <p:spPr>
              <a:xfrm>
                <a:off x="2286000" y="4876920"/>
                <a:ext cx="141588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this section means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4876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w, take the derivative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2"/>
              <p:cNvSpPr txBox="1"/>
              <p:nvPr/>
            </p:nvSpPr>
            <p:spPr>
              <a:xfrm>
                <a:off x="304920" y="1905120"/>
                <a:ext cx="1523880" cy="18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3"/>
              <p:cNvSpPr txBox="1"/>
              <p:nvPr/>
            </p:nvSpPr>
            <p:spPr>
              <a:xfrm>
                <a:off x="2743200" y="2057400"/>
                <a:ext cx="144468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x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4"/>
              <p:cNvSpPr txBox="1"/>
              <p:nvPr/>
            </p:nvSpPr>
            <p:spPr>
              <a:xfrm>
                <a:off x="4495680" y="2057400"/>
                <a:ext cx="257184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5"/>
              <p:cNvSpPr txBox="1"/>
              <p:nvPr/>
            </p:nvSpPr>
            <p:spPr>
              <a:xfrm>
                <a:off x="2362320" y="3505320"/>
                <a:ext cx="203040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6"/>
              <p:cNvSpPr txBox="1"/>
              <p:nvPr/>
            </p:nvSpPr>
            <p:spPr>
              <a:xfrm>
                <a:off x="3657600" y="5638680"/>
                <a:ext cx="6764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1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f(x) = cos x + sin x , what is                     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2"/>
              <p:cNvSpPr txBox="1"/>
              <p:nvPr/>
            </p:nvSpPr>
            <p:spPr>
              <a:xfrm>
                <a:off x="4876920" y="1447920"/>
                <a:ext cx="177012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π</m:t>
                        </m:r>
                        <m:r>
                          <m:t xml:space="preserve">4</m:t>
                        </m:r>
                      </m:sub>
                      <m:sup>
                        <m:r>
                          <m:t xml:space="preserve">π</m:t>
                        </m:r>
                        <m:r>
                          <m:t xml:space="preserve">2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3"/>
              <p:cNvSpPr txBox="1"/>
              <p:nvPr/>
            </p:nvSpPr>
            <p:spPr>
              <a:xfrm>
                <a:off x="609480" y="3200400"/>
                <a:ext cx="675972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π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π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π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π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2209680" y="4267080"/>
                <a:ext cx="359892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5"/>
              <p:cNvSpPr txBox="1"/>
              <p:nvPr/>
            </p:nvSpPr>
            <p:spPr>
              <a:xfrm>
                <a:off x="3352680" y="5715000"/>
                <a:ext cx="189252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ppose                                   Find h’(x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3"/>
              <p:cNvSpPr txBox="1"/>
              <p:nvPr/>
            </p:nvSpPr>
            <p:spPr>
              <a:xfrm>
                <a:off x="2209680" y="1905120"/>
                <a:ext cx="244656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3124080" y="3809880"/>
                <a:ext cx="167796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omewor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Pages 854 – 855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3 – 14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# 12 is extra credit!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12:19:23Z</dcterms:created>
  <dc:creator>Laura Helbing</dc:creator>
  <dc:description/>
  <dc:language>en-US</dc:language>
  <cp:lastModifiedBy>Laura Helbing</cp:lastModifiedBy>
  <dcterms:modified xsi:type="dcterms:W3CDTF">2011-05-17T01:29:04Z</dcterms:modified>
  <cp:revision>2</cp:revision>
  <dc:subject/>
  <dc:title>The Fundamental Theorem of Calculus</dc:title>
</cp:coreProperties>
</file>