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F85-920C-4CFE-9680-E0F1ABD9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494-188A-4B9F-B194-EB0999EE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D81-12E4-4E0D-A93D-966C576B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EF0-AAEE-4513-9742-663B4337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156-3872-4408-87FF-6F1E2349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922-8A50-4899-9F98-5B166A77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9CA-1F33-4ABF-8296-D1CCFBF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C3E-95D1-4C47-A071-A816A652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208-2552-4CDC-89F2-1499BE4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F6A-C699-4D11-9510-5D810C6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8A1-F190-47CE-A11D-9E72CA0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493-2B4F-4A20-98ED-CC93CC5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B2F-BDF8-4E03-A662-BD327032C59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The Definite Integ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Section 14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25520" y="2971800"/>
                <a:ext cx="18748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  <m:e>
                        <m:r>
                          <m:t xml:space="preserve">7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046840" y="3340080"/>
                <a:ext cx="1506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998640" y="5429160"/>
                <a:ext cx="20923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733920" y="5486400"/>
                <a:ext cx="1633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334120" y="5562720"/>
                <a:ext cx="186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7848720" y="5562720"/>
                <a:ext cx="1060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232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lcul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one is a little harder to integrate, so draw a pictu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11120" y="2971800"/>
                <a:ext cx="3073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5* ¼ (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/4* (100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= 125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12502" t="10998" r="68751" b="67005"/>
          <a:stretch/>
        </p:blipFill>
        <p:spPr>
          <a:xfrm>
            <a:off x="1676520" y="99072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1"/>
          <p:cNvSpPr/>
          <p:nvPr/>
        </p:nvSpPr>
        <p:spPr>
          <a:xfrm>
            <a:off x="4645080" y="1873080"/>
            <a:ext cx="2463840" cy="3240360"/>
          </a:xfrm>
          <a:prstGeom prst="pi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Pages 831 – 83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#10 is extra credi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Definite integ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s the number of integrals increase while doing the Riemann sum, the answer becomes more accurate.  The limit of the Riemann Sum is called the definite integral of f from a to b, writ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4267080" y="4952880"/>
                <a:ext cx="19051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e integral notation to express the area of the region bounded by the x-axis, the graph of g(x) = 5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and the lines x = 10 and x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2895480" y="4572000"/>
                <a:ext cx="2799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0328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raw a pic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3124080"/>
                <a:ext cx="3348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pezoid with A = ½ (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6386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½ (f(3) + f(12))∙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12) = 97, f(3) =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13125" t="13001" r="70000" b="68002"/>
          <a:stretch/>
        </p:blipFill>
        <p:spPr>
          <a:xfrm>
            <a:off x="1143000" y="990720"/>
            <a:ext cx="671364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713560" y="5867280"/>
                <a:ext cx="1218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Freeform 7"/>
          <p:cNvSpPr/>
          <p:nvPr/>
        </p:nvSpPr>
        <p:spPr>
          <a:xfrm>
            <a:off x="3962520" y="1744560"/>
            <a:ext cx="2592360" cy="3665520"/>
          </a:xfrm>
          <a:prstGeom prst="pie">
            <a:avLst/>
          </a:pr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he Anti-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is exactly the opposite of the derivative.  We have to ask ourselves, what number will give us this deriv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4572000"/>
                <a:ext cx="15238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638680" y="4419720"/>
                <a:ext cx="18288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ry some oth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914400" y="2362320"/>
                <a:ext cx="13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819520" y="2133720"/>
                <a:ext cx="19843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38080" y="3962520"/>
                <a:ext cx="221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778200" y="3962520"/>
                <a:ext cx="3268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Once we find the anti-derivativ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36600" y="1600200"/>
                <a:ext cx="29462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572000" y="1676520"/>
                <a:ext cx="280044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28600" y="4952880"/>
                <a:ext cx="31924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Titre 1"/>
          <p:cNvSpPr/>
          <p:nvPr/>
        </p:nvSpPr>
        <p:spPr>
          <a:xfrm>
            <a:off x="53352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valuate it at the upper and lower bound.  Then, sub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733920" y="4952880"/>
                <a:ext cx="1952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6326280" y="5029200"/>
                <a:ext cx="95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Back to example 2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781200" y="2971800"/>
                <a:ext cx="3028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105520" y="3276720"/>
                <a:ext cx="303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76200" y="5429160"/>
                <a:ext cx="3859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361040" y="5716440"/>
                <a:ext cx="135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5562720" y="5791320"/>
                <a:ext cx="180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7718400" y="5791320"/>
                <a:ext cx="1425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17:46Z</dcterms:created>
  <dc:creator>Laura Helbing</dc:creator>
  <dc:description/>
  <dc:language>en-US</dc:language>
  <cp:lastModifiedBy>Laura Helbing</cp:lastModifiedBy>
  <dcterms:modified xsi:type="dcterms:W3CDTF">2012-01-15T21:51:53Z</dcterms:modified>
  <cp:revision>72</cp:revision>
  <dc:subject/>
  <dc:title>The Definite Integral</dc:title>
</cp:coreProperties>
</file>