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576-C546-47F9-B5A4-273A46E4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921-11FD-4C67-BECC-A753056B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ED7-4242-46E2-A1E4-CEF471CE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60A-18A0-43C7-AA24-ED31DFCA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0EC-AAFF-4827-B477-BBF219C6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915-7943-4BC6-8298-96F249E0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2C3-5B54-4118-961D-80DC0BCF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329B-F9FD-491A-A344-106926AE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FD8-69B3-4AAC-8BD2-61BFD5B2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22E-DA86-4E50-B75E-F74CC624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931-2958-4A57-B35B-23A491F2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782-9F2A-4EC2-A4EF-AAD10A57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781D-7625-478D-A0EE-42338B7C26A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71480" y="2742840"/>
            <a:ext cx="545796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The Definite Integ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06720" y="3528720"/>
            <a:ext cx="4494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Section 14.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1325520" y="2971800"/>
                <a:ext cx="1874880" cy="21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  <m:e>
                        <m:r>
                          <m:t xml:space="preserve">7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5046840" y="3340080"/>
                <a:ext cx="15062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998640" y="5429160"/>
                <a:ext cx="209232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3733920" y="5486400"/>
                <a:ext cx="16333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334120" y="5562720"/>
                <a:ext cx="1860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7848720" y="5562720"/>
                <a:ext cx="106020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36232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alcul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his one is a little harder to integrate, so draw a pictur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411120" y="2971800"/>
                <a:ext cx="307332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Calibri"/>
              </a:rPr>
              <a:t>5* ¼ (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*r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/4* (100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) = 125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9" descr=""/>
          <p:cNvPicPr/>
          <p:nvPr/>
        </p:nvPicPr>
        <p:blipFill>
          <a:blip r:embed="rId2"/>
          <a:srcRect l="12502" t="10998" r="68751" b="67005"/>
          <a:stretch/>
        </p:blipFill>
        <p:spPr>
          <a:xfrm>
            <a:off x="1676520" y="990720"/>
            <a:ext cx="617220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Freeform 11"/>
          <p:cNvSpPr/>
          <p:nvPr/>
        </p:nvSpPr>
        <p:spPr>
          <a:xfrm>
            <a:off x="4645080" y="1873080"/>
            <a:ext cx="2463840" cy="3240360"/>
          </a:xfrm>
          <a:prstGeom prst="pie">
            <a:avLst/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Pages 831 – 83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3 – 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Calibri"/>
              </a:rPr>
              <a:t>#10 is extra credi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Definite integ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s the number of integrals increase while doing the Riemann sum, the answer becomes more accurate.  The limit of the Riemann Sum is called the definite integral of f from a to b, writt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4267080" y="4952880"/>
                <a:ext cx="190512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Use integral notation to express the area of the region bounded by the x-axis, the graph of g(x) = 5x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– 3x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and the lines x = 10 and x =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2895480" y="4572000"/>
                <a:ext cx="2799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30328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Draw a pictu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2743200" y="3124080"/>
                <a:ext cx="334800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pezoid with A = ½ (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+ b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56386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½ (f(3) + f(12))∙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(12) = 97, f(3) = 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13125" t="13001" r="70000" b="68002"/>
          <a:stretch/>
        </p:blipFill>
        <p:spPr>
          <a:xfrm>
            <a:off x="1143000" y="990720"/>
            <a:ext cx="6713640" cy="472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5713560" y="5867280"/>
                <a:ext cx="12189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Freeform 7"/>
          <p:cNvSpPr/>
          <p:nvPr/>
        </p:nvSpPr>
        <p:spPr>
          <a:xfrm>
            <a:off x="3962520" y="1744560"/>
            <a:ext cx="2592360" cy="3665520"/>
          </a:xfrm>
          <a:prstGeom prst="pie">
            <a:avLst/>
          </a:prstGeom>
          <a:solidFill>
            <a:srgbClr val="4f81bd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he Anti-deriv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his is exactly the opposite of the derivative.  We have to ask ourselves, what number will give us this deriv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1905120" y="4572000"/>
                <a:ext cx="152388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5638680" y="4419720"/>
                <a:ext cx="1828800" cy="23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ry some other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914400" y="2362320"/>
                <a:ext cx="1324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2819520" y="2133720"/>
                <a:ext cx="198432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38080" y="3962520"/>
                <a:ext cx="2219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778200" y="3962520"/>
                <a:ext cx="326880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Once we find the anti-derivative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36600" y="1600200"/>
                <a:ext cx="29462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4572000" y="1676520"/>
                <a:ext cx="2800440" cy="17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228600" y="4952880"/>
                <a:ext cx="319248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1" name="Titre 1"/>
          <p:cNvSpPr/>
          <p:nvPr/>
        </p:nvSpPr>
        <p:spPr>
          <a:xfrm>
            <a:off x="533520" y="35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valuate it at the upper and lower bound.  Then, subtra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3733920" y="4952880"/>
                <a:ext cx="195264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6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6326280" y="5029200"/>
                <a:ext cx="95868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Back to example 2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30364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Find the exact valu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781200" y="2971800"/>
                <a:ext cx="3028680" cy="18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5105520" y="3276720"/>
                <a:ext cx="303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376200" y="5429160"/>
                <a:ext cx="38592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361040" y="5716440"/>
                <a:ext cx="135396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5562720" y="5791320"/>
                <a:ext cx="1801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7718400" y="5791320"/>
                <a:ext cx="14256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20:17:46Z</dcterms:created>
  <dc:creator>Laura Helbing</dc:creator>
  <dc:description/>
  <dc:language>en-US</dc:language>
  <cp:lastModifiedBy>Laura Helbing</cp:lastModifiedBy>
  <dcterms:modified xsi:type="dcterms:W3CDTF">2012-01-15T21:51:53Z</dcterms:modified>
  <cp:revision>72</cp:revision>
  <dc:subject/>
  <dc:title>The Definite Integral</dc:title>
</cp:coreProperties>
</file>