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31A-1B3C-47A4-AA80-3253B715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785-FC5B-4FA3-9246-D0E3CE4E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FF5-8915-40EB-838F-827E21FA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D68-FE55-41B5-9451-46C6ACCD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969-F707-405F-BF84-11C4A67F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66E-E595-4D94-802C-49CEDCE7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606-FFB6-4486-8DEB-1442BF32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8FCA-1366-41C4-82E7-540C493F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0A77-53D6-400D-8E0B-887C151C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176-CBE2-4C96-BF5F-9449BE0D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B8F-42B2-4484-B6DD-8153A37D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D38-06EA-4A8B-B60E-87B4CE2C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D2CA-3881-4C42-9C13-089A2F05C84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71480" y="2742840"/>
            <a:ext cx="54579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The Definite Integ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06720" y="3528720"/>
            <a:ext cx="4494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Section 14.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nd the exact valu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1325520" y="2971800"/>
                <a:ext cx="1874880" cy="21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  <m:e>
                        <m:r>
                          <m:t xml:space="preserve">7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5046840" y="3340080"/>
                <a:ext cx="15062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5"/>
              <p:cNvSpPr txBox="1"/>
              <p:nvPr/>
            </p:nvSpPr>
            <p:spPr>
              <a:xfrm>
                <a:off x="998640" y="5429160"/>
                <a:ext cx="209232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3733920" y="5486400"/>
                <a:ext cx="16333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334120" y="5562720"/>
                <a:ext cx="186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7848720" y="5562720"/>
                <a:ext cx="10602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36232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lcul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his one is a little harder to integrate, so draw a pictur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411120" y="2971800"/>
                <a:ext cx="307332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5* ¼ (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*r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/4* (100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 = 125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2"/>
          <a:srcRect l="12502" t="10998" r="68751" b="67005"/>
          <a:stretch/>
        </p:blipFill>
        <p:spPr>
          <a:xfrm>
            <a:off x="1676520" y="990720"/>
            <a:ext cx="617220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Freeform 11"/>
          <p:cNvSpPr/>
          <p:nvPr/>
        </p:nvSpPr>
        <p:spPr>
          <a:xfrm>
            <a:off x="4645080" y="1873080"/>
            <a:ext cx="2463840" cy="3240360"/>
          </a:xfrm>
          <a:prstGeom prst="pi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Calibri"/>
              </a:rPr>
              <a:t>Pages 831 – 83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Calibri"/>
              </a:rPr>
              <a:t>3 –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Calibri"/>
              </a:rPr>
              <a:t>#10 is extra credi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Definite integ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s the number of integrals increase while doing the Riemann sum, the answer becomes more accurate.  The limit of the Riemann Sum is called the definite integral of f from a to b, writt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4267080" y="4952880"/>
                <a:ext cx="190512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e integral notation to express the area of the region bounded by the x-axis, the graph of g(x) = 5x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– 3x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and the lines x = 10 and x =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2895480" y="4572000"/>
                <a:ext cx="2799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30328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nd the exact valu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Draw a pictu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3"/>
              <p:cNvSpPr txBox="1"/>
              <p:nvPr/>
            </p:nvSpPr>
            <p:spPr>
              <a:xfrm>
                <a:off x="2743200" y="3124080"/>
                <a:ext cx="334800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pezoid with A = ½ (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56386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½ (f(3) + f(12))∙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12) = 97, f(3) = 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13125" t="13001" r="70000" b="68002"/>
          <a:stretch/>
        </p:blipFill>
        <p:spPr>
          <a:xfrm>
            <a:off x="1143000" y="990720"/>
            <a:ext cx="6713640" cy="472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5713560" y="5867280"/>
                <a:ext cx="12189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Freeform 7"/>
          <p:cNvSpPr/>
          <p:nvPr/>
        </p:nvSpPr>
        <p:spPr>
          <a:xfrm>
            <a:off x="3962520" y="1744560"/>
            <a:ext cx="2592360" cy="3665520"/>
          </a:xfrm>
          <a:prstGeom prst="pie">
            <a:avLst/>
          </a:prstGeom>
          <a:solidFill>
            <a:srgbClr val="4f81bd">
              <a:alpha val="4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he Anti-deriv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his is exactly the opposite of the derivative.  We have to ask ourselves, what number will give us this deriv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1905120" y="4572000"/>
                <a:ext cx="15238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5638680" y="4419720"/>
                <a:ext cx="1828800" cy="23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ry some other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914400" y="2362320"/>
                <a:ext cx="1324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2819520" y="2133720"/>
                <a:ext cx="198432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38080" y="3962520"/>
                <a:ext cx="2219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3778200" y="3962520"/>
                <a:ext cx="326880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Once we find the anti-derivative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336600" y="1600200"/>
                <a:ext cx="294624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4572000" y="1676520"/>
                <a:ext cx="2800440" cy="17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228600" y="4952880"/>
                <a:ext cx="319248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1" name="Titre 1"/>
          <p:cNvSpPr/>
          <p:nvPr/>
        </p:nvSpPr>
        <p:spPr>
          <a:xfrm>
            <a:off x="533520" y="358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valuate it at the upper and lower bound.  Then, subtra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3733920" y="4952880"/>
                <a:ext cx="195264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6326280" y="5029200"/>
                <a:ext cx="95868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Back to example 2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nd the exact valu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781200" y="2971800"/>
                <a:ext cx="302868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5105520" y="3276720"/>
                <a:ext cx="3038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376200" y="5429160"/>
                <a:ext cx="38592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4361040" y="5716440"/>
                <a:ext cx="13539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5562720" y="5791320"/>
                <a:ext cx="1801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7718400" y="5791320"/>
                <a:ext cx="14256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20:17:46Z</dcterms:created>
  <dc:creator>Laura Helbing</dc:creator>
  <dc:description/>
  <dc:language>en-US</dc:language>
  <cp:lastModifiedBy>Laura Helbing</cp:lastModifiedBy>
  <dcterms:modified xsi:type="dcterms:W3CDTF">2012-01-15T21:51:53Z</dcterms:modified>
  <cp:revision>72</cp:revision>
  <dc:subject/>
  <dc:title>The Definite Integral</dc:title>
</cp:coreProperties>
</file>