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BFE1-9B16-49BB-BB4D-B57E4AE8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065B-6C94-40D0-9C9D-506B3982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43DA-358D-4CB1-8DCD-E97540AD4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367B-5AA1-437D-BBD6-0B6376BD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8170-F42A-4934-BEBE-76A56F1A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A214-1FFA-4C81-9D45-D0E60490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5C84-A448-474B-8268-0A308DFB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F4E1-C8CC-4F91-BF85-8E585949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B1CC-FBC7-4135-AFD3-C48D1CF2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E86F-8A85-4357-94FB-633EBB84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494A-D6B7-4B84-BE83-DBA28605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24B0-D331-48BB-B3B3-6560E6D3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FEB5-3D70-49F3-BF3D-0D3EDB684608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71480" y="2742840"/>
            <a:ext cx="545796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Calibri"/>
              </a:rPr>
              <a:t>The Definite Integr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06720" y="3528720"/>
            <a:ext cx="4494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Calibri"/>
              </a:rPr>
              <a:t>Section 14.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30364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Find the exact value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3"/>
              <p:cNvSpPr txBox="1"/>
              <p:nvPr/>
            </p:nvSpPr>
            <p:spPr>
              <a:xfrm>
                <a:off x="1325520" y="2971800"/>
                <a:ext cx="1874880" cy="21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8</m:t>
                        </m:r>
                      </m:sup>
                      <m:e>
                        <m:r>
                          <m:t xml:space="preserve">7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4"/>
              <p:cNvSpPr txBox="1"/>
              <p:nvPr/>
            </p:nvSpPr>
            <p:spPr>
              <a:xfrm>
                <a:off x="5046840" y="3340080"/>
                <a:ext cx="150624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5"/>
              <p:cNvSpPr txBox="1"/>
              <p:nvPr/>
            </p:nvSpPr>
            <p:spPr>
              <a:xfrm>
                <a:off x="998640" y="5429160"/>
                <a:ext cx="209232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x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8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6"/>
              <p:cNvSpPr txBox="1"/>
              <p:nvPr/>
            </p:nvSpPr>
            <p:spPr>
              <a:xfrm>
                <a:off x="3733920" y="5486400"/>
                <a:ext cx="163332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5334120" y="5562720"/>
                <a:ext cx="1860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9"/>
              <p:cNvSpPr txBox="1"/>
              <p:nvPr/>
            </p:nvSpPr>
            <p:spPr>
              <a:xfrm>
                <a:off x="7848720" y="5562720"/>
                <a:ext cx="106020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36232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alcul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This one is a little harder to integrate, so draw a picture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3"/>
              <p:cNvSpPr txBox="1"/>
              <p:nvPr/>
            </p:nvSpPr>
            <p:spPr>
              <a:xfrm>
                <a:off x="411120" y="2971800"/>
                <a:ext cx="307332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4000" spc="-1" strike="noStrike">
                <a:solidFill>
                  <a:srgbClr val="000000"/>
                </a:solidFill>
                <a:latin typeface="Calibri"/>
              </a:rPr>
              <a:t>5* ¼ (</a:t>
            </a: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*r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5/4* (100</a:t>
            </a: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) = 125</a:t>
            </a: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9" descr=""/>
          <p:cNvPicPr/>
          <p:nvPr/>
        </p:nvPicPr>
        <p:blipFill>
          <a:blip r:embed="rId2"/>
          <a:srcRect l="12502" t="10998" r="68751" b="67005"/>
          <a:stretch/>
        </p:blipFill>
        <p:spPr>
          <a:xfrm>
            <a:off x="1676520" y="990720"/>
            <a:ext cx="6172200" cy="4525920"/>
          </a:xfrm>
          <a:prstGeom prst="rect">
            <a:avLst/>
          </a:prstGeom>
          <a:ln w="0">
            <a:noFill/>
          </a:ln>
        </p:spPr>
      </p:pic>
      <p:sp>
        <p:nvSpPr>
          <p:cNvPr id="96" name="Freeform 11"/>
          <p:cNvSpPr/>
          <p:nvPr/>
        </p:nvSpPr>
        <p:spPr>
          <a:xfrm>
            <a:off x="4645080" y="1873080"/>
            <a:ext cx="2463840" cy="3240360"/>
          </a:xfrm>
          <a:prstGeom prst="pie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30364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7200" spc="-1" strike="noStrike">
                <a:solidFill>
                  <a:srgbClr val="000000"/>
                </a:solidFill>
                <a:latin typeface="Calibri"/>
              </a:rPr>
              <a:t>Pages 831 – 83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7200" spc="-1" strike="noStrike">
                <a:solidFill>
                  <a:srgbClr val="000000"/>
                </a:solidFill>
                <a:latin typeface="Calibri"/>
              </a:rPr>
              <a:t>3 – 1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7200" spc="-1" strike="noStrike">
                <a:solidFill>
                  <a:srgbClr val="000000"/>
                </a:solidFill>
                <a:latin typeface="Calibri"/>
              </a:rPr>
              <a:t>#10 is extra credi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Definite integ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As the number of integrals increase while doing the Riemann sum, the answer becomes more accurate.  The limit of the Riemann Sum is called the definite integral of f from a to b, writt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4267080" y="4952880"/>
                <a:ext cx="1905120" cy="14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30364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e integral notation to express the area of the region bounded by the x-axis, the graph of g(x) = 5x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– 3x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and the lines x = 10 and x = 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4"/>
              <p:cNvSpPr txBox="1"/>
              <p:nvPr/>
            </p:nvSpPr>
            <p:spPr>
              <a:xfrm>
                <a:off x="2895480" y="4572000"/>
                <a:ext cx="279900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p>
                      <m:e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30328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Find the exact value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Draw a pictur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3"/>
              <p:cNvSpPr txBox="1"/>
              <p:nvPr/>
            </p:nvSpPr>
            <p:spPr>
              <a:xfrm>
                <a:off x="2743200" y="3124080"/>
                <a:ext cx="334800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pezoid with A = ½ (b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+ b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0880" y="56386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= ½ (f(3) + f(12))∙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(12) = 97, f(3) = 4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rcRect l="13125" t="13001" r="70000" b="68002"/>
          <a:stretch/>
        </p:blipFill>
        <p:spPr>
          <a:xfrm>
            <a:off x="1143000" y="990720"/>
            <a:ext cx="6713640" cy="4724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5713560" y="5867280"/>
                <a:ext cx="121896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Freeform 7"/>
          <p:cNvSpPr/>
          <p:nvPr/>
        </p:nvSpPr>
        <p:spPr>
          <a:xfrm>
            <a:off x="3962520" y="1744560"/>
            <a:ext cx="2592360" cy="3665520"/>
          </a:xfrm>
          <a:prstGeom prst="pie">
            <a:avLst/>
          </a:prstGeom>
          <a:solidFill>
            <a:srgbClr val="4f81bd">
              <a:alpha val="4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The Anti-deriva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30364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This is exactly the opposite of the derivative.  We have to ask ourselves, what number will give us this deriva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1905120" y="4572000"/>
                <a:ext cx="152388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3"/>
              <p:cNvSpPr txBox="1"/>
              <p:nvPr/>
            </p:nvSpPr>
            <p:spPr>
              <a:xfrm>
                <a:off x="5638680" y="4419720"/>
                <a:ext cx="1828800" cy="23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Try some other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30364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b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914400" y="2362320"/>
                <a:ext cx="1324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3"/>
              <p:cNvSpPr txBox="1"/>
              <p:nvPr/>
            </p:nvSpPr>
            <p:spPr>
              <a:xfrm>
                <a:off x="2819520" y="2133720"/>
                <a:ext cx="198432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838080" y="3962520"/>
                <a:ext cx="2219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5"/>
              <p:cNvSpPr txBox="1"/>
              <p:nvPr/>
            </p:nvSpPr>
            <p:spPr>
              <a:xfrm>
                <a:off x="3778200" y="3962520"/>
                <a:ext cx="326880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Once we find the anti-derivative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336600" y="1600200"/>
                <a:ext cx="2946240" cy="20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6"/>
              <p:cNvSpPr txBox="1"/>
              <p:nvPr/>
            </p:nvSpPr>
            <p:spPr>
              <a:xfrm>
                <a:off x="4572000" y="1676520"/>
                <a:ext cx="2800440" cy="17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7"/>
              <p:cNvSpPr txBox="1"/>
              <p:nvPr/>
            </p:nvSpPr>
            <p:spPr>
              <a:xfrm>
                <a:off x="228600" y="4952880"/>
                <a:ext cx="319248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1" name="Titre 1"/>
          <p:cNvSpPr/>
          <p:nvPr/>
        </p:nvSpPr>
        <p:spPr>
          <a:xfrm>
            <a:off x="533520" y="358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valuate it at the upper and lower bound.  Then, subtrac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8"/>
              <p:cNvSpPr txBox="1"/>
              <p:nvPr/>
            </p:nvSpPr>
            <p:spPr>
              <a:xfrm>
                <a:off x="3733920" y="4952880"/>
                <a:ext cx="195264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6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7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9"/>
              <p:cNvSpPr txBox="1"/>
              <p:nvPr/>
            </p:nvSpPr>
            <p:spPr>
              <a:xfrm>
                <a:off x="6326280" y="5029200"/>
                <a:ext cx="95868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9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Back to example 2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230364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Find the exact value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"/>
              <p:cNvSpPr txBox="1"/>
              <p:nvPr/>
            </p:nvSpPr>
            <p:spPr>
              <a:xfrm>
                <a:off x="781200" y="2971800"/>
                <a:ext cx="3028680" cy="18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5105520" y="3276720"/>
                <a:ext cx="3038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5"/>
              <p:cNvSpPr txBox="1"/>
              <p:nvPr/>
            </p:nvSpPr>
            <p:spPr>
              <a:xfrm>
                <a:off x="376200" y="5429160"/>
                <a:ext cx="38592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x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6"/>
              <p:cNvSpPr txBox="1"/>
              <p:nvPr/>
            </p:nvSpPr>
            <p:spPr>
              <a:xfrm>
                <a:off x="4361040" y="5716440"/>
                <a:ext cx="135396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8"/>
              <p:cNvSpPr txBox="1"/>
              <p:nvPr/>
            </p:nvSpPr>
            <p:spPr>
              <a:xfrm>
                <a:off x="5562720" y="5791320"/>
                <a:ext cx="18018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9"/>
              <p:cNvSpPr txBox="1"/>
              <p:nvPr/>
            </p:nvSpPr>
            <p:spPr>
              <a:xfrm>
                <a:off x="7718400" y="5791320"/>
                <a:ext cx="142560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3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20:17:46Z</dcterms:created>
  <dc:creator>Laura Helbing</dc:creator>
  <dc:description/>
  <dc:language>en-US</dc:language>
  <cp:lastModifiedBy>Laura Helbing</cp:lastModifiedBy>
  <dcterms:modified xsi:type="dcterms:W3CDTF">2012-01-15T21:51:53Z</dcterms:modified>
  <cp:revision>72</cp:revision>
  <dc:subject/>
  <dc:title>The Definite Integral</dc:title>
</cp:coreProperties>
</file>