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A280-55B4-497E-AB6A-0DAB587F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F15-1C31-4D91-B7B2-1095D0F5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C86-9DC3-4BD3-B9B1-1AE1A0D9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215-BAD4-416B-BC2C-2B4FEE8D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4F15-C98B-4F39-8807-9D23B9A3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1464-693D-4136-8A7D-A6312FB2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0ABC-54C9-4215-9D7D-1AE2036F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9CE3-5070-4B57-A06E-69D871AE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73B7-DF58-42E7-8DEF-FE7F393C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CC8E-CF3D-4AFE-BFCE-1E66F481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081F-1034-4666-B9E4-AC4FCB6B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D75-21AE-4237-9D87-6F0F73B2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B981-A93F-4BDA-B798-AFAB240B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273F-6804-4DFF-A8D6-D9D4DDFB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F1DE-D780-4906-A4AF-E42C48B0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3C03-458E-4E19-9B65-9AFC4776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7F48-1267-43B2-A7DA-041BCD77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CFF00-DAB7-46C1-82EB-C99DF4F9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A5AB5-5402-4A60-8E05-0CBB01FB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FAF70-D724-47C1-94FC-717A4EB6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DC641-2833-46B4-819A-6BBAADCA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44D49-DC9D-41DE-8BEE-99B2613F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DFE-B209-4BCE-8503-41A18270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FF897-86A7-4B2B-B8B0-2CEAF470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B420F-7B4D-4296-B315-1563D171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5F390-EF55-4C9B-A39E-19F0388F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CF409-FED2-4FE1-9F76-4BBEC781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DDFAF-15B3-4D6B-810B-2A5BEA0B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36B19-60E6-4166-B6EF-6ABA8A66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9D7F2-12CD-4F96-B31A-F4FE6A71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1CF110-638A-4C53-AD5F-C91BAC1F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3255D-7C8E-4A69-BD52-604AD9AF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6C4060-A96F-406D-A0ED-76BFDA4F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FC7-B29D-4F25-B334-F36145C4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EE6799-AA51-4EEB-A26A-59E08CAA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2F96E-626B-4CA2-A719-22B4A774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7A65C9-FB05-4D46-B1AA-AE6113A5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EC4C5-D3BE-488B-B149-2C765358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CDE996-EE66-46A0-9D80-0D17700E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CBA804-F9F6-4F8C-9F7A-A6186EC2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FB3723-E63D-413C-9C49-E2F6B8A1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D9267-1EB8-40D4-A7AC-71BE4B97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43894D-68AC-40BD-ABEB-95B35D0B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DF117-70CE-4060-B64B-8EA796DD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CE9-ADCA-49E5-AF3C-D97D753E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4DE8F-927E-4F07-98DC-A2F3CE20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211E0-1670-4616-A96E-064BDE2D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33678-88AD-4104-90B3-345B2D60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56C54-500A-4AA9-AEF8-A4F75E02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BDE63-2476-4787-B94D-358C6D69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B9044-F82B-40BE-A53D-D75EC4D2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E1392-6D32-4D26-B201-4410B32B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98D8A1-9B46-4C5E-8083-F4EA90DD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C34BD-D5A6-4609-985E-2CB33033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8B083-148F-465E-B5BE-9997AD51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E04-5DE1-472E-816C-EE0D08C4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1E6925-8DF7-4E3C-9A13-D66DD1BD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5D77F-4284-46BA-9245-29DE468A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C38B1-9B47-4680-AE67-6479DD45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3030B-C892-442C-8781-A2A4B7A7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50A28-95B5-412E-B28E-42DFE963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4C7A9-6FF5-444B-9217-34EEC947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2431B-DBEA-4DBB-B660-57C7A937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C8203-DCF5-48D7-B1C6-747C6579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5F76E-5181-40CC-A987-CE8A2B4F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2D86E-BDCA-4AC2-94B2-85FC8372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5AF-F69A-4570-BA28-72057A31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5AB62-DE1B-4F5F-8FBF-844D3831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7E610-CC94-405D-9D46-B98E2181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4D031-AC8F-45B3-A430-722ECE7E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8C7835-92AC-41DF-B027-4631D628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F7102E-9E56-4C18-8619-75FDC15E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8929A-0D33-48B8-94A2-E6D2AE6C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BE513-E429-4EE1-8E84-3AECFE1E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C1BC2-BB8E-4E33-B89C-D3D9ED6A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E5358-DE5B-4129-A883-195AE949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152AF-0C05-4339-884F-4F0DFECC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2ADF-90E1-4430-8307-54C76D04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6C1FB0-A66B-4A55-BC88-2B719B31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49AD16-A527-4DCA-A29D-4F3151D2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4F7815-F1A2-49E7-839B-40A63AB5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BD85C-1D49-4E6E-95B8-6EA4CBA6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DAC67-594F-4542-B30A-0A6AAF4C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018B2-FE10-4E50-9274-75041ED3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3ECC8-CD10-430D-8575-923893D2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12014-FE49-4D3D-BCC9-37B6A36B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2AD50-93E5-4040-8282-275B7394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81F2D-D6B8-49F5-B188-91220FDF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9C5-090A-45D2-8DA9-E1B5AB42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88C26-4A1E-4C35-AA5A-2DA7BB04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EDAC2-A71C-4079-8F5D-D0813766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102BD-D53D-4071-BA0E-B54B2188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49F79-79A1-457C-B9BB-B3AD1C72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48C67-4673-4355-BC84-30CB0ABD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EF2F2-DA78-4273-83B2-701D0936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2DE19-44B5-4B09-AF52-A25AF908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4E72-4E4B-4C53-BC21-36D65E15993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ef5fa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6F04-F662-4BD3-8C1B-21568580F503}" type="slidenum">
              <a:rPr b="1" lang="en-US" sz="1400" spc="-1" strike="noStrike">
                <a:solidFill>
                  <a:srgbClr val="def5fa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4495-DBB9-4B28-BF4C-2AFA0F0BE576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C8DE-E1F6-4410-AA8E-282930CC034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477D-4F4C-4D71-8C66-84522928859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DC63-8869-4FAE-98F5-9E63FF9380D1}" type="slidenum">
              <a:rPr b="1" lang="en-US" sz="1400" spc="-1" strike="noStrike">
                <a:solidFill>
                  <a:srgbClr val="464646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7F99-BC31-4263-B707-47A23F40483A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2FB7-7675-4244-99DC-29B3C473482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Tw Cen MT"/>
              </a:rPr>
              <a:t>THE AREA UNDER A PARABOLA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tion 14.5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ar accelerates from 0 to 60 ft/sec. (≈ 41 mi/hr) in 8 seconds with a velocit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5181480" y="1981080"/>
                <a:ext cx="3738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1676520" y="2362320"/>
                <a:ext cx="4663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914400" y="3733920"/>
                <a:ext cx="6157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1521000" y="5029200"/>
                <a:ext cx="5749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Old way… (14.1)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5"/>
              <p:cNvSpPr txBox="1"/>
              <p:nvPr/>
            </p:nvSpPr>
            <p:spPr>
              <a:xfrm>
                <a:off x="1905120" y="1523880"/>
                <a:ext cx="52340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60" name="Picture 6" descr=""/>
          <p:cNvPicPr/>
          <p:nvPr/>
        </p:nvPicPr>
        <p:blipFill>
          <a:blip r:embed="rId1"/>
          <a:srcRect l="13751" t="14301" r="70000" b="67005"/>
          <a:stretch/>
        </p:blipFill>
        <p:spPr>
          <a:xfrm>
            <a:off x="228600" y="2971800"/>
            <a:ext cx="4800600" cy="3452760"/>
          </a:xfrm>
          <a:prstGeom prst="rect">
            <a:avLst/>
          </a:prstGeom>
          <a:ln w="0">
            <a:noFill/>
          </a:ln>
        </p:spPr>
      </p:pic>
      <p:sp>
        <p:nvSpPr>
          <p:cNvPr id="361" name="Right Triangle 7"/>
          <p:cNvSpPr/>
          <p:nvPr/>
        </p:nvSpPr>
        <p:spPr>
          <a:xfrm flipH="1">
            <a:off x="456480" y="3581280"/>
            <a:ext cx="4267080" cy="2438640"/>
          </a:xfrm>
          <a:prstGeom prst="rtTriangle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6180120" y="3809880"/>
            <a:ext cx="17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 = ½ (8) * (6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24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Old way (14.2)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410080" y="2666520"/>
            <a:ext cx="335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1) = 14.0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3) = 36.5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5) = 51.5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7) = 59.0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22.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6" descr=""/>
          <p:cNvPicPr/>
          <p:nvPr/>
        </p:nvPicPr>
        <p:blipFill>
          <a:blip r:embed="rId1"/>
          <a:srcRect l="13751" t="14301" r="70000" b="67005"/>
          <a:stretch/>
        </p:blipFill>
        <p:spPr>
          <a:xfrm>
            <a:off x="228600" y="2971800"/>
            <a:ext cx="4800600" cy="34527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4"/>
          <p:cNvSpPr/>
          <p:nvPr/>
        </p:nvSpPr>
        <p:spPr>
          <a:xfrm>
            <a:off x="457200" y="5410080"/>
            <a:ext cx="1066680" cy="5796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523880" y="4495680"/>
            <a:ext cx="1067040" cy="14940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2590920" y="3886200"/>
            <a:ext cx="1066680" cy="210348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57600" y="3581280"/>
            <a:ext cx="1066680" cy="24084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457200" y="1600200"/>
                <a:ext cx="5234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2666880" y="1219320"/>
                <a:ext cx="366732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t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2590920" y="3124080"/>
                <a:ext cx="366696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3581280" y="5181480"/>
                <a:ext cx="1946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rPr>
                        <m:lit/>
                        <m:nor/>
                      </m:rPr>
                      <m:t xml:space="preserve">fee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d the area bounded by the parabola y = 3x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nd the line with equation y = 1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sections: x = -2, 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4871880" y="3200400"/>
                <a:ext cx="24465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5091120" y="5432400"/>
                <a:ext cx="2670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5"/>
              <p:cNvSpPr txBox="1"/>
              <p:nvPr/>
            </p:nvSpPr>
            <p:spPr>
              <a:xfrm>
                <a:off x="7736040" y="5284800"/>
                <a:ext cx="10602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0" name="Picture 9" descr=""/>
          <p:cNvPicPr/>
          <p:nvPr/>
        </p:nvPicPr>
        <p:blipFill>
          <a:blip r:embed="rId1"/>
          <a:srcRect l="53125" t="12000" r="29377" b="67005"/>
          <a:stretch/>
        </p:blipFill>
        <p:spPr>
          <a:xfrm>
            <a:off x="0" y="3124080"/>
            <a:ext cx="4368960" cy="3276720"/>
          </a:xfrm>
          <a:prstGeom prst="rect">
            <a:avLst/>
          </a:prstGeom>
          <a:ln w="0">
            <a:noFill/>
          </a:ln>
        </p:spPr>
      </p:pic>
      <p:sp>
        <p:nvSpPr>
          <p:cNvPr id="381" name="Freeform 11"/>
          <p:cNvSpPr/>
          <p:nvPr/>
        </p:nvSpPr>
        <p:spPr>
          <a:xfrm>
            <a:off x="1219320" y="3809880"/>
            <a:ext cx="1904760" cy="2278080"/>
          </a:xfrm>
          <a:prstGeom prst="pie">
            <a:avLst/>
          </a:prstGeom>
          <a:solidFill>
            <a:srgbClr val="ffff00">
              <a:alpha val="43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Tw Cen MT"/>
              </a:rPr>
              <a:t>Page 843</a:t>
            </a: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Tw Cen MT"/>
              </a:rPr>
              <a:t>2 – 12</a:t>
            </a: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0:58:00Z</dcterms:created>
  <dc:creator>Laura Helbing</dc:creator>
  <dc:description/>
  <dc:language>en-US</dc:language>
  <cp:lastModifiedBy>Laura Helbing</cp:lastModifiedBy>
  <dcterms:modified xsi:type="dcterms:W3CDTF">2011-05-08T02:02:02Z</dcterms:modified>
  <cp:revision>10</cp:revision>
  <dc:subject/>
  <dc:title>The area under a Parabola</dc:title>
</cp:coreProperties>
</file>