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391-5A1E-404C-92AA-7CA656E0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F54-D611-4C60-B7E5-B5D4BFB0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DFF-C098-4710-A137-4E917ECF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956-B5C5-437E-A5B9-FD898C53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3025-C1E2-43C2-B6C9-949300E0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C3A6-981A-4218-8107-27565FDD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7A37-BFF8-44A8-8A57-68414D56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CCEA-77E0-4112-87D1-06BA9CCB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5F69-DE53-426C-87DA-EB0BD14D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D2AF-44AA-4B12-81FA-2A5F81B3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AF19-205C-4D7A-9290-0BA3676D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51A-CE55-42F4-AD67-7DE41484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8ACB-D42C-44B8-A0A0-C61F654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0D33-67A5-4196-9428-F3199BAD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A224-D000-4741-8F49-889E6745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036E-A0FB-46B9-BD19-6FA39869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4916-310A-4ACF-AB22-1C4CF661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43DFB-3527-4960-86FA-D5EC5EE1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F45FE-6D9B-438D-9D54-F16D1F1A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D38F14-A0B2-40E7-800D-5DC9E264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2ECC4-502B-4714-B6D3-8E2C42FF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E2FF0-3FC2-49A5-B24A-BDF8E074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D4B-8E28-4BBF-9084-4FE35BCF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D7C9F-71E1-4C57-803D-ED154A1E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35FCA-E76D-4256-A05B-38FEC62A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5E307-FF12-4DC0-BB20-5018B937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C2C5E-DB29-4B47-8198-1F23A30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9AF67-0A4E-4384-A0E7-AD853EE7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C7DE8-B64A-46C2-869D-620E13B4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48F8A-A3B3-4F7E-A7BA-9AD8364F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5DA6B-AA53-45B8-B730-4486E535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A9FD2-C456-4961-944E-E17A92FA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802FE-0635-452C-8779-F76A779F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E21-2367-4752-BBB7-F0A7886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24776-6E95-42CC-80E8-396DB766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BBC85-C6F2-4CEB-904C-34B49FB2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2D504-8095-4F1B-8B9C-3CF63956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AB4D8-23F5-471A-BB8E-50D1FDA3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E3397-CB15-41D6-B160-166FF4C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20956-6CC8-4CC0-80A3-3B505886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B5DFA1-0DB7-49EC-81C4-A1F527C1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CD54B0-73A4-4C11-882E-0A4715D9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BA4DB-4FEF-4EA1-A0B3-414F2A14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19D676-6086-47CF-85B3-D60BF352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EFA-EC5B-4EB1-8903-CFE87A26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48ACF-BB67-4B4C-B840-CEBCDEFC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9542F-B844-4226-8F16-4CB55F28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0CF019-0E0E-48EE-AE39-13C80B82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719495-01C9-4A65-9028-C14AED08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8653F-E737-41FD-B5A9-E2B6132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CE562-273E-4D88-8DAF-4D8293E7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B1A26-7367-47A9-910F-D858DB0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680E3-71E6-47CB-8265-24368924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132F1-6025-4842-9F67-92F2D81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93241-B4A3-4D49-BA5E-003757BE2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555-12E9-4904-84F0-8DB52A95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81C33-78C6-4F6B-B5C1-273EC829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DDA4-A9FF-41BE-8405-AFA17566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3C63F-DA72-489F-9E70-2A765B61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4CAAF-366B-4E07-85AF-644A9D39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B1604-08A5-4CA6-BC02-8A079A67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4DCB9-4103-477E-B22D-E958E3FB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8122-0902-4248-9DE6-12FC99D4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6467A-AB87-48F2-8724-5FF1B15A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3DE14-90D4-4A0E-95A5-AADFC4E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02ECE-6A05-4E98-BDCF-C17A21C9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62A-3C9C-4C98-88AF-D59B7EA2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26435-A74D-4F12-8981-2CBCE847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50B0E-A02A-4F8D-8868-99E3B491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07CA9-ABD5-4B15-B57C-7865C0A3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BD633-6281-4578-BD56-5794A29F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FD59E-3C2F-420A-BC86-1783369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640C2-F84A-4DEB-99E2-9EB900FF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C66D9-1C6E-4632-B833-1000219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324E0-6F56-499D-8D30-BA199A70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92AAC-99B2-4100-BF1F-AB6BCE3A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90AD3-B292-4047-AD9F-3BE51C71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B77-06FD-472C-B2C0-0A411FB0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9A78F-EFB8-4694-9A4C-5599B420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83064-5E92-4603-A268-9288524D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F6ED3-6203-46C7-975C-E9F8ABD6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E1428-D93C-4C5F-B57A-2BD114EF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0F948-2DCF-4881-AB4C-7BBDF1B1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4D3E8-A445-4EB2-B295-09209B81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2D776-FA0E-4999-AA3E-98C3BA22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044D3-2DEC-486A-A17C-B7CA8733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AC4B9-2A01-44AD-BCF2-630A90B5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FEE2A-C870-432A-B0EF-312A94C0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BFB-285C-4B91-892C-F370F9DC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E9C7F-7391-474F-9718-0BA3DAF6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11C1-E220-4D8F-BE71-7B55BFDC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EDEAF-6172-40AA-997C-7BD250C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95D23-D70F-410B-8479-62327356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EE847-9748-4CAF-B7EF-614C996A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47B30-0370-43C9-9B48-03AF5BD3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7508E-7DB7-4FAF-BCA5-4284DEC7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6A75-5925-4E01-BE7A-D540C2F4837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6388-1E64-4703-A6D0-F554B1DD0365}" type="slidenum">
              <a:rPr b="1" lang="en-US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C1C2-D931-412A-BDBE-A514A4D79BF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2B44-8C30-47EE-A565-95739C57871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AA93-C04A-42D7-BE2A-B75E7529AF0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14D-DF3A-417A-A4D6-4A3B7A15374E}" type="slidenum">
              <a:rPr b="1" lang="en-US" sz="1400" spc="-1" strike="noStrike">
                <a:solidFill>
                  <a:srgbClr val="46464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D29B-8107-42AA-8558-AE721D383A3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9C1D-FE7D-4CB3-92AD-2F007BE44F9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THE AREA UNDER A PARABOLA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14.5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ar accelerates from 0 to 60 ft/sec. (≈ 41 mi/hr) in 8 seconds with a veloc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5181480" y="1981080"/>
                <a:ext cx="3738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76520" y="2362320"/>
                <a:ext cx="4663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914400" y="3733920"/>
                <a:ext cx="6157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1521000" y="5029200"/>
                <a:ext cx="5749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… (14.1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905120" y="1523880"/>
                <a:ext cx="5234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0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1" name="Right Triangle 7"/>
          <p:cNvSpPr/>
          <p:nvPr/>
        </p:nvSpPr>
        <p:spPr>
          <a:xfrm flipH="1">
            <a:off x="456480" y="3581280"/>
            <a:ext cx="4267080" cy="2438640"/>
          </a:xfrm>
          <a:prstGeom prst="rtTriangl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6180120" y="3809880"/>
            <a:ext cx="17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= ½ (8) * (6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24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 (14.2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410080" y="2666520"/>
            <a:ext cx="335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1) = 14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3) = 36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5) = 51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7) = 59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22.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457200" y="5410080"/>
            <a:ext cx="1066680" cy="5796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523880" y="4495680"/>
            <a:ext cx="1067040" cy="14940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2590920" y="3886200"/>
            <a:ext cx="1066680" cy="210348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57600" y="3581280"/>
            <a:ext cx="1066680" cy="24084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457200" y="1600200"/>
                <a:ext cx="5234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2666880" y="1219320"/>
                <a:ext cx="36673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t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590920" y="3124080"/>
                <a:ext cx="366696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3581280" y="5181480"/>
                <a:ext cx="1946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fee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d the area bounded by the parabola y = 3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the line with equation y = 1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sections: x = -2, 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4871880" y="3200400"/>
                <a:ext cx="24465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5091120" y="5432400"/>
                <a:ext cx="267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7736040" y="5284800"/>
                <a:ext cx="10602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0" name="Picture 9" descr=""/>
          <p:cNvPicPr/>
          <p:nvPr/>
        </p:nvPicPr>
        <p:blipFill>
          <a:blip r:embed="rId1"/>
          <a:srcRect l="53125" t="12000" r="29377" b="67005"/>
          <a:stretch/>
        </p:blipFill>
        <p:spPr>
          <a:xfrm>
            <a:off x="0" y="3124080"/>
            <a:ext cx="4368960" cy="3276720"/>
          </a:xfrm>
          <a:prstGeom prst="rect">
            <a:avLst/>
          </a:prstGeom>
          <a:ln w="0">
            <a:noFill/>
          </a:ln>
        </p:spPr>
      </p:pic>
      <p:sp>
        <p:nvSpPr>
          <p:cNvPr id="381" name="Freeform 11"/>
          <p:cNvSpPr/>
          <p:nvPr/>
        </p:nvSpPr>
        <p:spPr>
          <a:xfrm>
            <a:off x="1219320" y="3809880"/>
            <a:ext cx="1904760" cy="2278080"/>
          </a:xfrm>
          <a:prstGeom prst="pie">
            <a:avLst/>
          </a:prstGeom>
          <a:solidFill>
            <a:srgbClr val="ffff00">
              <a:alpha val="43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Page 843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2 – 12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0:58:00Z</dcterms:created>
  <dc:creator>Laura Helbing</dc:creator>
  <dc:description/>
  <dc:language>en-US</dc:language>
  <cp:lastModifiedBy>Laura Helbing</cp:lastModifiedBy>
  <dcterms:modified xsi:type="dcterms:W3CDTF">2011-05-08T02:02:02Z</dcterms:modified>
  <cp:revision>10</cp:revision>
  <dc:subject/>
  <dc:title>The area under a Parabola</dc:title>
</cp:coreProperties>
</file>