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05D-43AD-4701-A5E6-7EA7CF6E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A04-DABF-4422-A554-B6FCE609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609-98FC-4DE6-B824-0F437908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79F-BD60-4091-88BF-938D9DD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81FB-FE46-4E07-8C86-FC93661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A27-5A94-44B7-8121-1095E070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5B5C-6F1B-42CE-A50C-9AABDA0E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D019-BFC0-4037-8BFD-11731516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5D29-1DB0-40FA-97B1-B446209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7B6-4BB9-4E5F-94C7-182CBE4A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35B-1614-4013-A8C3-6FA852D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05F-A870-4CE7-86EA-24E5F15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82A1-5F81-4CBA-82A4-020B4905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4156-D383-4F94-973F-8E42AF4A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F14-C96C-4BE6-B926-3E68AC49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90D6-CF35-457E-A016-EE744C81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B15-13EF-41EF-AF2F-A406B68F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CCF3-802F-4ECA-9758-944C851D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716F-89A0-4255-8299-EEF75F73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86E5-C836-45CB-94C7-234209F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809A-07D3-4D5F-8E7E-194824D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1E31-23C9-4418-8398-4D90170F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15F-77E6-4C42-8A12-0483AF7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A15C-3481-4FEA-BDC2-4697968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48A4-B974-4C12-BC64-108C969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B63D-E1E9-4AF0-9814-0AA88FB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46BA-B238-4B7A-9416-2AF0B14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97A0-B398-4C04-9DF2-4C0E7049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56C8-4429-47C2-AD12-DA4DFD3C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AEF3-9954-4EB1-B322-6DB68E5C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3D3C-F677-45A2-8468-CCA816DE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1FD9-DD58-4300-8F64-35C0DD61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F32E-8A2D-4093-933E-0BB9E6B6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6E1-1065-49D4-8AE3-531C3547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F6F6-14CC-422F-ACB9-AAE9824B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5C93-D959-4DEE-AA69-F348E7C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B078-DA5A-4DDC-B1AF-756BF190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0C2E-85E8-48EC-B9AE-F65E922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632A1-01C6-4021-A3F6-E075158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8DA3-F64E-4707-ADFE-37FBFB9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BF50-ACAD-4EF4-BC18-96EE3958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4D14-7ECC-4623-ADB2-7C1E3EA0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A465-A943-445F-AE3B-C8EA23BD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922-180B-4EE8-B151-A4E7C72A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EF0-8793-45F1-A94C-19EDA07C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997-581B-40D2-AC99-D739BF3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B10-63B8-4A81-8D39-AAA622D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74B-0440-4FDB-8346-A99739D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BB77-4CD5-4798-AA64-7EC5D72D54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ABF-B910-4C89-985B-EB9CEF24629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0F3-6D74-4E99-9C5B-624A3D4A7DC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C4B-CEAB-4459-A952-96A3EF8957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4.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0f6fc6"/>
                </a:solidFill>
                <a:latin typeface="Calibri"/>
              </a:rPr>
              <a:t>5 new derivatives (from 7.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Theorem of Calc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f be a continuous function on the interval from a to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f g is a function whose derivative is f, th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If g(x) =                 for all x from a to b, then g’(x)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for all such x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133720" y="3352680"/>
                <a:ext cx="3733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0" y="4876920"/>
                <a:ext cx="14158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his section mean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876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take the derivativ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04920" y="1905120"/>
                <a:ext cx="152388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743200" y="2057400"/>
                <a:ext cx="1444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495680" y="2057400"/>
                <a:ext cx="2571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362320" y="3505320"/>
                <a:ext cx="2030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657600" y="5638680"/>
                <a:ext cx="67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f(x) = cos x + sin x , what is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4876920" y="1447920"/>
                <a:ext cx="1770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9480" y="3200400"/>
                <a:ext cx="6759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09680" y="4267080"/>
                <a:ext cx="35989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3352680" y="5715000"/>
                <a:ext cx="1892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                                  Find h’(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209680" y="1905120"/>
                <a:ext cx="2446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124080" y="3809880"/>
                <a:ext cx="1677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Pages 854 – 85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3 – 1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# 12 is extra credit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9:23Z</dcterms:created>
  <dc:creator>Laura Helbing</dc:creator>
  <dc:description/>
  <dc:language>en-US</dc:language>
  <cp:lastModifiedBy>Laura Helbing</cp:lastModifiedBy>
  <dcterms:modified xsi:type="dcterms:W3CDTF">2011-05-17T01:29:04Z</dcterms:modified>
  <cp:revision>2</cp:revision>
  <dc:subject/>
  <dc:title>The Fundamental Theorem of Calculus</dc:title>
</cp:coreProperties>
</file>