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3B0E-1DF8-42F3-8F16-540CADFA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75C7-2C5D-4CEF-B1E1-5C8875A0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65E-91FA-470D-BCE3-DA8D57EB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9D4C-E703-4CA9-B96E-E1E2BD26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642F-DD60-416F-B0D6-B8B19BB2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E4E0-0A96-4438-96E4-E62BDC32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7523-D65D-4CDF-8A4A-51DD5FF6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1CDC-5B52-4256-B82A-69A6B74A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0A33-BCE5-4BD4-AE19-77660288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1611-C80E-4EAF-B45F-0229ACF8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7C1B-54F1-4383-A85B-1E8376FF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A87-2526-4DF8-961A-B072FA94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884F-C5A5-471E-AFEC-6039AE36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56F4-B558-439A-9514-DF2B0AE2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C785-46F4-4C45-BCDC-3171F127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E67E-8004-4705-809E-E27B9C34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1B9A-4EBC-4BD0-966C-F625E158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D98B9-F750-491D-84E2-F9C6AA26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068F2-8C94-4B88-83B3-55594310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E153D-49C7-4A35-AF53-2683C0CA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32F70-EBA6-4FBC-9A37-A5ACCB7B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4F06E-D78C-4B46-B677-E9851D94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93CD-6C9F-4136-9AA9-313D4989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F2709-A4B3-463C-AF9B-4587ED49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1EC65-B2AA-4BBB-AACC-EC6E9478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10316-BDF9-4975-9BC0-CA406000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BEB90-6B2C-4FCC-BAD8-354127EC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8D64E-DD35-4761-943F-7BA5D175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5988E-F950-487F-8C7A-008DDBEE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B3D15-4238-4EC6-8FC0-891BCBD4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667A8-15AB-46D3-BF03-5502286C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C2CDF-F4FB-4834-86A6-299CBA32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21930-4951-4F94-B88D-DCEA6A88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905C-14DF-46E7-8A1C-5C83ACC4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02D33-D8B3-4EB1-9B26-5826E125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8518C-37C1-4F37-A264-72F26124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49FA9-4835-4477-BE8C-B99124D6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688D2-6A91-4D1D-96E7-109B198F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48D94-E78E-4B7D-A7C8-B4F686E7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85FC3-C20A-48A1-941E-5D5CAABE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AEA7E-87DE-42A3-8F5E-BC1A1431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15501-15C8-4802-B8E5-CAC78004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A34B8-D12C-4B1D-97E8-19015E66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6732-E1E2-46A8-9D80-BE9AFA81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C7C-1507-4232-973F-1E593DCB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3A0-1FDD-47ED-8BDF-623D2EA1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576-4713-4386-A383-D82A2C95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59D-AF30-4975-B3FF-BFD9E08C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961B-FB57-4042-BEA1-78649BCD28C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BA8C-A71C-4949-886F-02EB2736E85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B207-BCE7-4415-934C-92D575B38A8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89D5-869C-4E9B-84B5-0F54F2B2898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23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tion 14.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214200" y="1428840"/>
            <a:ext cx="8715600" cy="542916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000" spc="-1" strike="noStrike">
                <a:solidFill>
                  <a:srgbClr val="0f6fc6"/>
                </a:solidFill>
                <a:latin typeface="Calibri"/>
              </a:rPr>
              <a:t>5 new derivatives (from 7.6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159984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f(x) = sin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(x) = ln 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f’(x)  = cos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’(x) = 1/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(x) = cos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j(x) = 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’(x) = -sin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j’(x) = (ln b)∙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’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damental Theorem of Calcul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t f be a continuous function on the interval from a to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If g is a function whose derivative is f, th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If g(x) =                 for all x from a to b, then g’(x) =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(x) for all such x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2133720" y="3352680"/>
                <a:ext cx="373356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0" y="4876920"/>
                <a:ext cx="141588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this section mean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4876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, take the derivativ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304920" y="1905120"/>
                <a:ext cx="1523880" cy="18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2743200" y="2057400"/>
                <a:ext cx="144468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x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4495680" y="2057400"/>
                <a:ext cx="25718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5"/>
              <p:cNvSpPr txBox="1"/>
              <p:nvPr/>
            </p:nvSpPr>
            <p:spPr>
              <a:xfrm>
                <a:off x="2362320" y="3505320"/>
                <a:ext cx="20304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3657600" y="5638680"/>
                <a:ext cx="6764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f(x) = cos x + sin x , what is                     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4876920" y="1447920"/>
                <a:ext cx="17701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π</m:t>
                        </m:r>
                        <m:r>
                          <m:t xml:space="preserve">4</m:t>
                        </m:r>
                      </m:sub>
                      <m:sup>
                        <m:r>
                          <m:t xml:space="preserve">π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609480" y="3200400"/>
                <a:ext cx="67597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π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π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2209680" y="4267080"/>
                <a:ext cx="35989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5"/>
              <p:cNvSpPr txBox="1"/>
              <p:nvPr/>
            </p:nvSpPr>
            <p:spPr>
              <a:xfrm>
                <a:off x="3352680" y="5715000"/>
                <a:ext cx="18925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se                                   Find h’(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2209680" y="1905120"/>
                <a:ext cx="24465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3124080" y="3809880"/>
                <a:ext cx="16779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Pages 854 – 855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3 – 14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# 12 is extra credit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2:19:23Z</dcterms:created>
  <dc:creator>Laura Helbing</dc:creator>
  <dc:description/>
  <dc:language>en-US</dc:language>
  <cp:lastModifiedBy>Laura Helbing</cp:lastModifiedBy>
  <dcterms:modified xsi:type="dcterms:W3CDTF">2011-05-17T01:29:04Z</dcterms:modified>
  <cp:revision>2</cp:revision>
  <dc:subject/>
  <dc:title>The Fundamental Theorem of Calculus</dc:title>
</cp:coreProperties>
</file>