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56D3-1A68-4535-A1F2-386A9CCE55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6058-B0C2-4AB0-8162-8F3584649F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1A27-9D19-4349-A858-59D2F12F5D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44D3-D6E4-4352-A89F-EB4FB361C0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BF6F-F35F-4CFB-A193-9656622BA8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A16A-1172-440D-BDB5-C8DE4B6091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D98-E949-4D6A-BB31-CBA742EE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C9B-2388-4293-9F43-122E5F34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4D3-AF5F-450A-B1B3-139A5921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DD6-11D8-4039-A658-600788BB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CAB-644F-4E13-9744-C16782EB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7870-892B-4935-8744-B3B959CA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2A5-FF62-455C-A190-85E43790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5A8-81EB-45F6-B991-B8D6E9E2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AAD-34DB-452A-BA95-562B18B9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962-DD13-4ACF-BF0D-8C27BB9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555-7BF2-43AE-AB5E-C3934ED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3A0-7AB5-4493-9442-D9456EA5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5043-A947-4E18-9EBA-E70052536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Sum and Difference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74ebc"/>
                </a:solidFill>
                <a:latin typeface="Calibri"/>
              </a:rPr>
              <a:t>section 5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Content Placeholder 3"/>
              <p:cNvSpPr txBox="1"/>
              <p:nvPr/>
            </p:nvSpPr>
            <p:spPr>
              <a:xfrm>
                <a:off x="2362320" y="1447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362320" y="2590920"/>
                <a:ext cx="60958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395440" y="3657600"/>
                <a:ext cx="6029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2438280" y="4876920"/>
                <a:ext cx="60292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Box 8"/>
          <p:cNvSpPr/>
          <p:nvPr/>
        </p:nvSpPr>
        <p:spPr>
          <a:xfrm>
            <a:off x="2769480" y="5791320"/>
            <a:ext cx="600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Cofunctions (complements) :  sine and co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tangent and cota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74ebc"/>
                </a:solidFill>
                <a:latin typeface="Arial"/>
              </a:rPr>
              <a:t>secant and cose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Express cos 15° in terms of rational numbers and radic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1981080" y="3352680"/>
                <a:ext cx="6807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8"/>
              <p:cNvSpPr txBox="1"/>
              <p:nvPr/>
            </p:nvSpPr>
            <p:spPr>
              <a:xfrm>
                <a:off x="2971800" y="3962520"/>
                <a:ext cx="4944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3309840" y="5334120"/>
                <a:ext cx="3963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Content Placeholder 3"/>
              <p:cNvSpPr txBox="1"/>
              <p:nvPr/>
            </p:nvSpPr>
            <p:spPr>
              <a:xfrm>
                <a:off x="2209680" y="2590920"/>
                <a:ext cx="60962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By letting x = y in the formu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cos(x+y), find a formula for cos 2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471760" y="3352680"/>
                <a:ext cx="582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251160" y="4157640"/>
                <a:ext cx="45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3556080" y="5334120"/>
                <a:ext cx="409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304920" y="1676520"/>
                <a:ext cx="84214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Content Placeholder 3"/>
              <p:cNvSpPr txBox="1"/>
              <p:nvPr/>
            </p:nvSpPr>
            <p:spPr>
              <a:xfrm>
                <a:off x="1371600" y="3048120"/>
                <a:ext cx="6437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2362320" y="4114800"/>
                <a:ext cx="589752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Straight Connector 14"/>
          <p:cNvSpPr/>
          <p:nvPr/>
        </p:nvSpPr>
        <p:spPr>
          <a:xfrm flipV="1">
            <a:off x="3886200" y="419076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5"/>
          <p:cNvSpPr/>
          <p:nvPr/>
        </p:nvSpPr>
        <p:spPr>
          <a:xfrm flipV="1">
            <a:off x="7010280" y="4343040"/>
            <a:ext cx="1371600" cy="609480"/>
          </a:xfrm>
          <a:prstGeom prst="line">
            <a:avLst/>
          </a:prstGeom>
          <a:ln w="76320">
            <a:solidFill>
              <a:srgbClr val="f74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791240" y="5486400"/>
                <a:ext cx="2165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contenu 2"/>
          <p:cNvSpPr/>
          <p:nvPr/>
        </p:nvSpPr>
        <p:spPr>
          <a:xfrm>
            <a:off x="2438280" y="1219320"/>
            <a:ext cx="6705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4eb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74ebc"/>
                </a:solidFill>
                <a:latin typeface="Calibri"/>
              </a:rPr>
              <a:t>Prove the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2895480" y="1676520"/>
                <a:ext cx="4410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950000" y="3475080"/>
                <a:ext cx="4521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Content Placeholder 3"/>
              <p:cNvSpPr txBox="1"/>
              <p:nvPr/>
            </p:nvSpPr>
            <p:spPr>
              <a:xfrm>
                <a:off x="3444840" y="3403440"/>
                <a:ext cx="39290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087880" y="4910040"/>
                <a:ext cx="9144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74ebc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2544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Pages 328 – 32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3, 5, 8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f74ebc"/>
                </a:solidFill>
                <a:latin typeface="Calibri"/>
              </a:rPr>
              <a:t>11 - 1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838080" y="204840"/>
            <a:ext cx="77724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23:39:00Z</dcterms:created>
  <dc:creator>Kevin Lockwood</dc:creator>
  <dc:description/>
  <dc:language>en-US</dc:language>
  <cp:lastModifiedBy>Laura Helbing</cp:lastModifiedBy>
  <dcterms:modified xsi:type="dcterms:W3CDTF">2011-01-06T14:50:47Z</dcterms:modified>
  <cp:revision>7</cp:revision>
  <dc:subject/>
  <dc:title>Sum and Difference Formulas</dc:title>
</cp:coreProperties>
</file>