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93F-A366-41F4-92D7-DB163610D7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CEA-580C-4D54-9EC3-7C6F5B213E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C254-58D7-4E6D-95F2-D8F8D25EE5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2AF5-6BE9-4835-BEE5-079F959DD1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BA05-FB39-4CB4-A51B-C6CAB96A4D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772A-7F0B-41B1-96D3-5AE42F41A1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823-EA9C-4BD8-969E-5D7D759A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B5E-BE56-4A0D-AB69-3DCC9859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2A2-0D4D-49BD-9E8E-89B52E5E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086-D345-454D-B6AB-0120086A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90B-AAC9-4F02-9AA8-F9B4DA5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923-359A-4A72-A8AA-62AC3E3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AD8-802F-4EFD-95B4-4161AD6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59C-57CB-47CA-92C3-05FEC8E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7E0-498B-4420-BBEE-0D9FFDF1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5C9-FD87-4AFB-9B73-8C7D7FE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71E-44A3-4B6D-A918-9FDF5EB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510-4007-4D32-9DAB-8A09925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303D-DDA1-4799-9851-77B91959C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Sum and Difference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74ebc"/>
                </a:solidFill>
                <a:latin typeface="Calibri"/>
              </a:rPr>
              <a:t>section 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Content Placeholder 3"/>
              <p:cNvSpPr txBox="1"/>
              <p:nvPr/>
            </p:nvSpPr>
            <p:spPr>
              <a:xfrm>
                <a:off x="2362320" y="1447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362320" y="2590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395440" y="3657600"/>
                <a:ext cx="602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438280" y="4876920"/>
                <a:ext cx="6029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8"/>
          <p:cNvSpPr/>
          <p:nvPr/>
        </p:nvSpPr>
        <p:spPr>
          <a:xfrm>
            <a:off x="2769480" y="5791320"/>
            <a:ext cx="60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Cofunctions (complements) :  sine and c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tangent and co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secant and cose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Express cos 15°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981080" y="3352680"/>
                <a:ext cx="6807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2971800" y="3962520"/>
                <a:ext cx="494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309840" y="5334120"/>
                <a:ext cx="396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By letting x = y in the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cos(x+y), find a formula for cos 2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471760" y="3352680"/>
                <a:ext cx="582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251160" y="4157640"/>
                <a:ext cx="45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556080" y="5334120"/>
                <a:ext cx="409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4920" y="1676520"/>
                <a:ext cx="8421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Content Placeholder 3"/>
              <p:cNvSpPr txBox="1"/>
              <p:nvPr/>
            </p:nvSpPr>
            <p:spPr>
              <a:xfrm>
                <a:off x="1371600" y="3048120"/>
                <a:ext cx="6437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362320" y="4114800"/>
                <a:ext cx="58975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traight Connector 14"/>
          <p:cNvSpPr/>
          <p:nvPr/>
        </p:nvSpPr>
        <p:spPr>
          <a:xfrm flipV="1">
            <a:off x="3886200" y="419076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7010280" y="434304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791240" y="5486400"/>
                <a:ext cx="2165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895480" y="1676520"/>
                <a:ext cx="4410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50000" y="3475080"/>
                <a:ext cx="452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3444840" y="3403440"/>
                <a:ext cx="3929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087880" y="4910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Pages 328 – 3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3, 5, 8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11 -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38080" y="204840"/>
            <a:ext cx="77724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3:39:00Z</dcterms:created>
  <dc:creator>Kevin Lockwood</dc:creator>
  <dc:description/>
  <dc:language>en-US</dc:language>
  <cp:lastModifiedBy>Laura Helbing</cp:lastModifiedBy>
  <dcterms:modified xsi:type="dcterms:W3CDTF">2011-01-06T14:50:47Z</dcterms:modified>
  <cp:revision>7</cp:revision>
  <dc:subject/>
  <dc:title>Sum and Difference Formulas</dc:title>
</cp:coreProperties>
</file>