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03E4-446C-4ADB-9A0E-52B831D571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AF58-B339-4A25-8148-AD28E7347C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1937-BF35-4A40-BE70-CF8BE268F9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195F-B4DC-41D2-BAA9-1AB18E657A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64A2-EADF-4B0D-924F-4321023140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F6F7-602B-4AC3-A7E8-044812EC22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BDA-A9B7-4C37-B7FC-2E85EF43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BAC-12E3-4EB6-AAF6-5606702D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785-CCA4-4157-A0C2-166D3A09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795-4BF7-4E04-828F-8A6980B0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6FC-0E68-44EA-81E6-677B1DB4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20E-56FF-4224-A43C-564DF3A5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D1D-DA9C-41AB-AB49-856BE93C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DEE-182E-4EFF-A407-3CA9E838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EDC-AC65-4368-AEA7-DE7251FB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A19-7ADE-4899-A94C-205E2624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754-70F4-46E0-B484-C3EEDF4C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A71D-E26B-4658-8AE8-06632800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70DB-076A-4A4C-8878-33091D8200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Sum and Difference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74ebc"/>
                </a:solidFill>
                <a:latin typeface="Calibri"/>
              </a:rPr>
              <a:t>section 5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Content Placeholder 3"/>
              <p:cNvSpPr txBox="1"/>
              <p:nvPr/>
            </p:nvSpPr>
            <p:spPr>
              <a:xfrm>
                <a:off x="2362320" y="1447920"/>
                <a:ext cx="6095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362320" y="2590920"/>
                <a:ext cx="6095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2395440" y="3657600"/>
                <a:ext cx="60292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2438280" y="4876920"/>
                <a:ext cx="60292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8"/>
          <p:cNvSpPr/>
          <p:nvPr/>
        </p:nvSpPr>
        <p:spPr>
          <a:xfrm>
            <a:off x="2769480" y="5791320"/>
            <a:ext cx="60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Cofunctions (complements) :  sine and co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tangent and cota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secant and cose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Content Placeholder 3"/>
              <p:cNvSpPr txBox="1"/>
              <p:nvPr/>
            </p:nvSpPr>
            <p:spPr>
              <a:xfrm>
                <a:off x="2209680" y="2590920"/>
                <a:ext cx="6096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Express cos 15° in terms of rational numbers and radic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7"/>
              <p:cNvSpPr txBox="1"/>
              <p:nvPr/>
            </p:nvSpPr>
            <p:spPr>
              <a:xfrm>
                <a:off x="1981080" y="3352680"/>
                <a:ext cx="6807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8"/>
              <p:cNvSpPr txBox="1"/>
              <p:nvPr/>
            </p:nvSpPr>
            <p:spPr>
              <a:xfrm>
                <a:off x="2971800" y="3962520"/>
                <a:ext cx="4944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3309840" y="5334120"/>
                <a:ext cx="3963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Content Placeholder 3"/>
              <p:cNvSpPr txBox="1"/>
              <p:nvPr/>
            </p:nvSpPr>
            <p:spPr>
              <a:xfrm>
                <a:off x="2209680" y="2590920"/>
                <a:ext cx="6096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By letting x = y in the fo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cos(x+y), find a formula for cos 2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471760" y="3352680"/>
                <a:ext cx="582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251160" y="4157640"/>
                <a:ext cx="45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3556080" y="5334120"/>
                <a:ext cx="409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Prove the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304920" y="1676520"/>
                <a:ext cx="84214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Content Placeholder 3"/>
              <p:cNvSpPr txBox="1"/>
              <p:nvPr/>
            </p:nvSpPr>
            <p:spPr>
              <a:xfrm>
                <a:off x="1371600" y="3048120"/>
                <a:ext cx="6437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0"/>
              <p:cNvSpPr txBox="1"/>
              <p:nvPr/>
            </p:nvSpPr>
            <p:spPr>
              <a:xfrm>
                <a:off x="2362320" y="4114800"/>
                <a:ext cx="58975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Straight Connector 14"/>
          <p:cNvSpPr/>
          <p:nvPr/>
        </p:nvSpPr>
        <p:spPr>
          <a:xfrm flipV="1">
            <a:off x="3886200" y="4190760"/>
            <a:ext cx="1371600" cy="609480"/>
          </a:xfrm>
          <a:prstGeom prst="line">
            <a:avLst/>
          </a:prstGeom>
          <a:ln w="76320">
            <a:solidFill>
              <a:srgbClr val="f74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5"/>
          <p:cNvSpPr/>
          <p:nvPr/>
        </p:nvSpPr>
        <p:spPr>
          <a:xfrm flipV="1">
            <a:off x="7010280" y="4343040"/>
            <a:ext cx="1371600" cy="609480"/>
          </a:xfrm>
          <a:prstGeom prst="line">
            <a:avLst/>
          </a:prstGeom>
          <a:ln w="76320">
            <a:solidFill>
              <a:srgbClr val="f74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791240" y="5486400"/>
                <a:ext cx="2165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Prove the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2895480" y="1676520"/>
                <a:ext cx="4410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950000" y="3475080"/>
                <a:ext cx="452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3444840" y="3403440"/>
                <a:ext cx="39290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087880" y="4910040"/>
                <a:ext cx="914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2544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Pages 328 – 32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3, 5, 8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11 - 1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838080" y="204840"/>
            <a:ext cx="77724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23:39:00Z</dcterms:created>
  <dc:creator>Kevin Lockwood</dc:creator>
  <dc:description/>
  <dc:language>en-US</dc:language>
  <cp:lastModifiedBy>Laura Helbing</cp:lastModifiedBy>
  <dcterms:modified xsi:type="dcterms:W3CDTF">2011-01-06T14:50:47Z</dcterms:modified>
  <cp:revision>7</cp:revision>
  <dc:subject/>
  <dc:title>Sum and Difference Formulas</dc:title>
</cp:coreProperties>
</file>