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EFC1-1D5B-455D-8F11-29251A671C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5021-E347-47C9-A607-E31618AAF4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C472-EBCA-4C2C-9AD8-2FD82FD929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5A5F-2810-4FFC-A118-2445F86B15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32A9-ED1E-4996-8BA4-7F20F04E65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3486-6CA5-426D-A889-BC6D6823E8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A27-7445-4876-B488-311407FE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523-BEFB-4D1A-9394-231AC3E5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AC4-B79B-499B-A252-690E92D6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E1B-A115-483D-971B-DED14474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E18-8DD3-4973-B679-24DAA3FD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F01-8633-4E7B-A411-C7E7F8E8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160-68A0-4141-8C88-EABDD599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8967-EC75-42B3-9697-DD171B53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482-A4B1-4743-92F7-83AFCDAC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9C1-2FDF-4A37-816E-22CB9008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58C-9999-454F-A14E-02DC3323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B0F-5B02-4A18-9D86-0B2D63DF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9A43-AE7E-4C44-B1B3-7125415A5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Sum and Difference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74ebc"/>
                </a:solidFill>
                <a:latin typeface="Calibri"/>
              </a:rPr>
              <a:t>section 5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Content Placeholder 3"/>
              <p:cNvSpPr txBox="1"/>
              <p:nvPr/>
            </p:nvSpPr>
            <p:spPr>
              <a:xfrm>
                <a:off x="2362320" y="1447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362320" y="2590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2395440" y="3657600"/>
                <a:ext cx="60292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2438280" y="4876920"/>
                <a:ext cx="60292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8"/>
          <p:cNvSpPr/>
          <p:nvPr/>
        </p:nvSpPr>
        <p:spPr>
          <a:xfrm>
            <a:off x="2769480" y="5791320"/>
            <a:ext cx="60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Cofunctions (complements) :  sine and co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tangent and cota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secant and cose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Express cos 15°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1981080" y="3352680"/>
                <a:ext cx="6807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8"/>
              <p:cNvSpPr txBox="1"/>
              <p:nvPr/>
            </p:nvSpPr>
            <p:spPr>
              <a:xfrm>
                <a:off x="2971800" y="3962520"/>
                <a:ext cx="4944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3309840" y="5334120"/>
                <a:ext cx="3963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By letting x = y in the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cos(x+y), find a formula for cos 2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471760" y="3352680"/>
                <a:ext cx="582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251160" y="4157640"/>
                <a:ext cx="45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3556080" y="5334120"/>
                <a:ext cx="409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304920" y="1676520"/>
                <a:ext cx="84214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Content Placeholder 3"/>
              <p:cNvSpPr txBox="1"/>
              <p:nvPr/>
            </p:nvSpPr>
            <p:spPr>
              <a:xfrm>
                <a:off x="1371600" y="3048120"/>
                <a:ext cx="6437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2362320" y="4114800"/>
                <a:ext cx="58975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Straight Connector 14"/>
          <p:cNvSpPr/>
          <p:nvPr/>
        </p:nvSpPr>
        <p:spPr>
          <a:xfrm flipV="1">
            <a:off x="3886200" y="419076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5"/>
          <p:cNvSpPr/>
          <p:nvPr/>
        </p:nvSpPr>
        <p:spPr>
          <a:xfrm flipV="1">
            <a:off x="7010280" y="434304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791240" y="5486400"/>
                <a:ext cx="2165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2895480" y="1676520"/>
                <a:ext cx="4410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950000" y="3475080"/>
                <a:ext cx="452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3444840" y="3403440"/>
                <a:ext cx="39290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087880" y="4910040"/>
                <a:ext cx="914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2544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Pages 328 – 32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3, 5, 8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11 - 1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838080" y="204840"/>
            <a:ext cx="77724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3:39:00Z</dcterms:created>
  <dc:creator>Kevin Lockwood</dc:creator>
  <dc:description/>
  <dc:language>en-US</dc:language>
  <cp:lastModifiedBy>Laura Helbing</cp:lastModifiedBy>
  <dcterms:modified xsi:type="dcterms:W3CDTF">2011-01-06T14:50:47Z</dcterms:modified>
  <cp:revision>7</cp:revision>
  <dc:subject/>
  <dc:title>Sum and Difference Formulas</dc:title>
</cp:coreProperties>
</file>