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BCB1-536F-4685-B7F3-C519CEC3B1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22C5-D050-4D05-BCA1-8D8D256001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CD0-71ED-44F1-AFAF-135BFB7C96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72BE-DF56-4825-9D7D-9D23329D86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AEC6-1642-4D7B-9C74-03497F74E5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95E2-9F54-4DDF-A7FA-50201EA24B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9EC-4EF6-48F9-83E3-E4AF5F3C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1A4-977A-46E3-9D5C-8CDE22B3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D51-BDEE-47BF-BF77-54C7EA39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147-B6C0-4C35-8FDD-4DBD4606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949-517D-4704-8F9C-9B3C923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460-31E1-4CEB-91C2-8DD13729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662-C7AA-4892-A5FA-1F0EFBF8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3D5-0377-4745-954A-C64752C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ED5-664D-4FE2-AC39-CECB0231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D48-60C9-402A-8FDD-53874E7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3F2-DAB7-40FB-8EE1-9EB7C1F5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14D-9492-4951-84AB-B04323F1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DC83-1F01-45C3-9808-22CEEAA4B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Sum and Difference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74ebc"/>
                </a:solidFill>
                <a:latin typeface="Calibri"/>
              </a:rPr>
              <a:t>section 5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Content Placeholder 3"/>
              <p:cNvSpPr txBox="1"/>
              <p:nvPr/>
            </p:nvSpPr>
            <p:spPr>
              <a:xfrm>
                <a:off x="2362320" y="1447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362320" y="2590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395440" y="3657600"/>
                <a:ext cx="6029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2438280" y="4876920"/>
                <a:ext cx="60292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8"/>
          <p:cNvSpPr/>
          <p:nvPr/>
        </p:nvSpPr>
        <p:spPr>
          <a:xfrm>
            <a:off x="2769480" y="5791320"/>
            <a:ext cx="60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Cofunctions (complements) :  sine and co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tangent and co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secant and cose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Express cos 15°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1981080" y="3352680"/>
                <a:ext cx="6807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2971800" y="3962520"/>
                <a:ext cx="4944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3309840" y="5334120"/>
                <a:ext cx="3963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By letting x = y in the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cos(x+y), find a formula for cos 2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471760" y="3352680"/>
                <a:ext cx="582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251160" y="4157640"/>
                <a:ext cx="45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3556080" y="5334120"/>
                <a:ext cx="409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304920" y="1676520"/>
                <a:ext cx="84214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Content Placeholder 3"/>
              <p:cNvSpPr txBox="1"/>
              <p:nvPr/>
            </p:nvSpPr>
            <p:spPr>
              <a:xfrm>
                <a:off x="1371600" y="3048120"/>
                <a:ext cx="6437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2362320" y="4114800"/>
                <a:ext cx="58975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Straight Connector 14"/>
          <p:cNvSpPr/>
          <p:nvPr/>
        </p:nvSpPr>
        <p:spPr>
          <a:xfrm flipV="1">
            <a:off x="3886200" y="419076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5"/>
          <p:cNvSpPr/>
          <p:nvPr/>
        </p:nvSpPr>
        <p:spPr>
          <a:xfrm flipV="1">
            <a:off x="7010280" y="434304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791240" y="5486400"/>
                <a:ext cx="2165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895480" y="1676520"/>
                <a:ext cx="4410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950000" y="3475080"/>
                <a:ext cx="452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3444840" y="3403440"/>
                <a:ext cx="39290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087880" y="4910040"/>
                <a:ext cx="914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254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Pages 328 – 32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3, 5, 8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11 - 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38080" y="204840"/>
            <a:ext cx="77724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3:39:00Z</dcterms:created>
  <dc:creator>Kevin Lockwood</dc:creator>
  <dc:description/>
  <dc:language>en-US</dc:language>
  <cp:lastModifiedBy>Laura Helbing</cp:lastModifiedBy>
  <dcterms:modified xsi:type="dcterms:W3CDTF">2011-01-06T14:50:47Z</dcterms:modified>
  <cp:revision>7</cp:revision>
  <dc:subject/>
  <dc:title>Sum and Difference Formulas</dc:title>
</cp:coreProperties>
</file>