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DCE3-9DB0-4883-84D3-CCA1FFE2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6C2A-9E76-43D2-BEAA-1AA0DEB4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1BB2-2924-41E8-857D-B78926ED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0D8-4CC4-4B0A-A3CB-A7A14C2B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0F86-1C65-4FA9-A5D5-DD913D3C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78BB-7D98-4BAD-8090-C948C7D6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6274-614B-47B1-8036-80C9CCD9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C396-B073-4211-BA9F-F66E4A1C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051-FAC5-43D2-845E-F59D24F5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18A7-0074-417A-A13B-E3469D87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543D-18A1-4FF1-AFE2-5C9F91E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B17-60E0-4CE4-9FD3-112C9369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1F34-867C-4B11-B5E8-A8A99FD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5B2C-118F-494C-954C-5310513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944-1894-48B2-BE17-154BCB29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1E8D-7270-486B-985C-1A22B5E6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2A6E-4310-4C7C-9D10-7FB31D2F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E609-0B92-4FFA-A253-A7142F93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5616-797C-431B-AA98-69F3CD2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CA5F-231D-4CEB-8DF1-5258E399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10E31-3ABF-4B89-A768-A212E870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8CAD-B6A1-45DA-9A89-03095BB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F14-D0CF-4C3F-A24E-3AF685B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6092D-C1C8-487C-A65A-3F4E1E0C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16AA3-46DE-4682-9B76-D38F6EEC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9BFB-CE76-4B17-BF85-A361400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D648E-1201-48B6-B29D-2EE31E9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D4ED-A2A9-4A85-ACAF-774C24EB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F408-F0A1-4DB1-A00E-588C237D1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2FEF-8541-41D7-9FC6-848510C4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0821C-51EF-4BEC-872F-BF92B7A4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C88C0-6E7B-40CE-B225-9215567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20EA8-FE57-44F0-86A2-A091BDDF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579-F436-4F15-9610-671F0397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F2734-4AF8-496A-8048-F327CCA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7296-D8F9-4EE5-BE7D-8442F5D3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3458F-5527-44E4-9491-718EF519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BF92-FC7A-494E-8FBA-7AB38CD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B587E-2BA7-42FF-9FE5-62511503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8148-87E4-451E-AD49-6C10B35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0F74-57EC-487B-8C89-614C4AD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FE864-4F12-4066-AC2B-D64EED95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6D76-EDDD-44F0-AA32-9BABA635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FD15-D6EA-450B-920C-F94D98D5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F66-CDE2-48F5-94AC-95DE8101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EE1C-356F-4806-8700-DCE0FC66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793D-069D-4A4B-B6ED-D8ACC19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CC83-5826-47E2-84C3-31E12B10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3C0C-A0E7-4889-A193-255B641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6BF57-C613-4301-9DB6-E572FC1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35B2-30BE-43D6-AA9E-AB532C8B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953E7-2025-46A5-99AE-48867BC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FE1CC-629F-43D0-8E5A-F549805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9A8C-632D-48DB-A1B6-DD4C97E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140C1-D882-49DE-A18D-71AAFEAE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631-DD64-4ACC-825E-46CFAB7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4FF95-5596-4065-9AAA-B81DF2CC1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0BEC-ABB1-4D68-A03C-973AA3B2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C54A3-1BFC-43CC-B576-C17BBDFA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D22D-1914-402E-855D-3DE9B05D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5C53E-BD95-4459-B662-D3C4F28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162BD-A235-4265-B525-58D7209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06AB-BCB5-427C-9585-BD1ACB55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54B0A-E121-4E50-96B4-7920C76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094BD-9BF1-4186-8EC7-CADAE94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EC0E-87E5-4150-BDA8-078DC012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391-013A-403E-96A9-3362CB3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97290-3061-42D5-85C3-ABB9A677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E07A6-7237-481F-BB98-051408C0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CC5F-5F8C-48D3-9115-C6CFE94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F3E48-B972-45C6-95A5-853E9B0A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193FD-73D0-48D1-BDB1-BC2F5D22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06AF3-CA6C-4D4C-8F36-BE0F9FD5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C8CE2-A3B6-438A-B644-2717A54C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2F319-D5A7-4153-9267-B01AE393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952E-7476-45D1-8B6D-B0669B4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CBA80-7281-4322-99DF-120CFCBB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B8FA-B1B4-4176-9B04-F1129116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E714-29FB-4599-B86F-3B29F84E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28F2C-6428-4B24-87C0-C084698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A1FB-17A9-4913-A10C-39D11E4A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AE754-D146-47FA-B8FC-73E02116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E6EB5-6E05-4EDC-8537-BC745982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9B7-73D1-4E07-B142-2CC048B5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F5F-4342-4DF3-A4FC-6E5FD4D943D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A8F7-CB56-486C-854B-0A59C2ACCB4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D0CC-3333-434D-8B68-706FB91DFA5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887-1EDC-4C91-BBD5-AE26B3FDB8D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4C99-6A90-49FD-8062-E74903955CC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DB17-BF72-4A86-A41F-A3A85A5CE11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A8D2-2053-4683-9E3D-9BD70F31966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7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mparison of the Two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Content Placeholder 3" descr=""/>
          <p:cNvPicPr/>
          <p:nvPr/>
        </p:nvPicPr>
        <p:blipFill>
          <a:blip r:embed="rId1"/>
          <a:stretch/>
        </p:blipFill>
        <p:spPr>
          <a:xfrm>
            <a:off x="914400" y="17845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functions increase in both an exponential growth model and a limited growth mode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, in a limited growth model, the year to year growth at first increases but than starts to decrea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flection point: where the growth changes from increasing to decreas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Home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ges 121 – 122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7,8 (part b do P</a:t>
            </a:r>
            <a:r>
              <a:rPr b="1" lang="en-US" sz="72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), 9 - 12, 14</a:t>
            </a:r>
            <a:endParaRPr b="0" lang="en-US" sz="7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tra Credit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#13 – on excel  (email  by 8:10 AM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ocab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nfinite sequence: domain is the interval [k, ∞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nite sequence: closed interval [k, l]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rmul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icit :           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4n - 1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ecursive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3  ,  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= 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+ 4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372" name="Straight Arrow Connector 6"/>
          <p:cNvCxnSpPr>
            <a:stCxn id="373" idx="0"/>
          </p:cNvCxnSpPr>
          <p:nvPr/>
        </p:nvCxnSpPr>
        <p:spPr>
          <a:xfrm flipV="1">
            <a:off x="3587760" y="4800240"/>
            <a:ext cx="527760" cy="5342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3" name="TextBox 7"/>
          <p:cNvSpPr/>
          <p:nvPr/>
        </p:nvSpPr>
        <p:spPr>
          <a:xfrm>
            <a:off x="2640240" y="533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itial Con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4" name="Straight Arrow Connector 10"/>
          <p:cNvCxnSpPr>
            <a:stCxn id="375" idx="0"/>
          </p:cNvCxnSpPr>
          <p:nvPr/>
        </p:nvCxnSpPr>
        <p:spPr>
          <a:xfrm flipH="1" flipV="1">
            <a:off x="5562360" y="4799880"/>
            <a:ext cx="717840" cy="76284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sp>
        <p:nvSpPr>
          <p:cNvPr id="375" name="TextBox 11"/>
          <p:cNvSpPr/>
          <p:nvPr/>
        </p:nvSpPr>
        <p:spPr>
          <a:xfrm>
            <a:off x="5132160" y="55627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currence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nd an explicit formula and a recursive formula for the sequ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, a + r, a + 2r, a + 3r , 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a + nr        , where n ≥ 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=a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r +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 2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pair of jeans is originally priced at $75, and the store reduces the price by 20% each day they are not sol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cursive: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$75,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+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.8 *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icit:   a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orbel"/>
              </a:rPr>
              <a:t>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= 75 ( .8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orbel"/>
              </a:rPr>
              <a:t>n-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here n ≥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 Mode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small man-made lake is to be stocked with trout.  With ample food and without fishing or disease, the trout population will grow about 20% each year.  The Game Commission estimates that the lake can support a maximum of about 30,000 trout.  If it is initially stocked with 2000 trout, analyze and model the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Chart 3" descr=""/>
          <p:cNvPicPr/>
          <p:nvPr/>
        </p:nvPicPr>
        <p:blipFill>
          <a:blip r:embed="rId1"/>
          <a:stretch/>
        </p:blipFill>
        <p:spPr>
          <a:xfrm>
            <a:off x="1523880" y="1778040"/>
            <a:ext cx="6629400" cy="50799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ponential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rcRect l="50001" t="21000" r="23126" b="15000"/>
          <a:stretch/>
        </p:blipFill>
        <p:spPr>
          <a:xfrm>
            <a:off x="685800" y="0"/>
            <a:ext cx="72388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gistic Growth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+1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 =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+.2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1 – P</a:t>
            </a:r>
            <a:r>
              <a:rPr b="0" lang="en-US" sz="4000" spc="-1" strike="noStrike" baseline="-25000">
                <a:solidFill>
                  <a:srgbClr val="c1eeff"/>
                </a:solidFill>
                <a:latin typeface="Consolas"/>
              </a:rPr>
              <a:t>n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/30,000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8" name="Content Placeholder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rcRect l="50001" t="22001" r="23126" b="16001"/>
          <a:stretch/>
        </p:blipFill>
        <p:spPr>
          <a:xfrm>
            <a:off x="609480" y="-63360"/>
            <a:ext cx="80773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31:17Z</dcterms:created>
  <dc:creator>teacher</dc:creator>
  <dc:description/>
  <dc:language>en-US</dc:language>
  <cp:lastModifiedBy>lockwood laura</cp:lastModifiedBy>
  <dcterms:modified xsi:type="dcterms:W3CDTF">2013-09-24T18:24:31Z</dcterms:modified>
  <cp:revision>6</cp:revision>
  <dc:subject/>
  <dc:title>Sequences and a Limited Growth Model</dc:title>
</cp:coreProperties>
</file>