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58C-6A8D-4B5F-B28E-0886BEB7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339-D583-4022-A456-AC3493C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EA3-C528-4EF0-837D-D0788FC4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86E-D656-4518-8DE7-9322C7A5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D5DF-D2B2-4221-A846-34EEB0AB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82D-F2A0-4DCE-A029-2BC876C1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262C-E4D3-477C-8A8F-70A9CC7B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D6BA-5FA7-4591-AC5A-835CBD8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00C0-D9EB-4A32-8CB2-9055A7CE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407D-ABB8-4BD1-81B4-92DB1BA7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53F3-3375-461D-85A8-1429DC4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552-6016-409D-B859-DD1B2A55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BA20-75E2-4AED-A4B5-76EC7C57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FAA4-A3CC-4DFF-B908-CBC6B13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CC5-2BC0-41C3-BB1A-A716DA1E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642F-1C58-4971-BDB0-CAA47BEB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244-D1E6-4269-A4C7-D754068A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8D3FA-9D53-4FF2-91C5-E48D30E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5353-782A-49CB-ABC6-45BC04C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F310-7B5C-4F20-86FF-F5292AE4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9201-377E-4971-90A9-105EED8C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CB57-843E-4024-BCAA-E1AF0E6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5B4-862D-4DB4-A1AA-69A0B271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41B6-909D-4C44-AA99-F3A65D81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E45F-A6E3-4055-AC3B-52662E2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4E0B-774A-4F96-898A-4E62202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E88A-8E72-4662-B2FC-61335F6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6D05-21CA-4A4A-A7B9-89DC563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DAA2-380B-4E08-9392-DE678449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2E51-8955-4851-A996-42CE3F23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E6DB-7155-4A41-A33D-6B9A4AB5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28F8-7E84-4CC9-BA37-E6BD24DF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455E-02BF-4879-B84D-AA93D46C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7CC-323E-4087-8B6C-738DEFA0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B865-11FE-4B89-B3CD-9E31256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20E7-5163-4F21-9ACE-6049767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DA3E-A39C-4907-8FB4-4F3697D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5D45-C7DD-49E1-BEAB-AE441CA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C364-D709-41F4-B998-9FDE755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36A1-4626-4898-B18D-C0A2705D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C2C8-53C3-4099-A8AD-73F72717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EAE1-511D-4C19-BF17-B49917A9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9BD4-053C-440E-8F90-197AFD25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C79D-087E-4B81-AD13-68D6D5C2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98B-20AA-4524-8331-320844C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8530-55F5-432A-8579-F7E1C31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9981-4BD1-4B56-9ACA-18CB3481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D5B2-D3A1-418F-9F6C-7E7E2D2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9495-2DDA-4303-9B64-AF9530A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A69A-4720-4C96-A244-4672796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016C-B008-43DB-8A92-36154BE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D86BA-B7BA-4177-B6A4-DD8324B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BD2D-CA94-4F03-AC61-65EC07D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DC72-70D5-4741-8719-E9A1DBE4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676F-7CDE-4E3E-820F-0E5D67E7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C56-F09D-4C56-85E6-1F88DCD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7016-B366-4392-81BD-3B333F2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85A6-0889-4424-9212-6A4ABBCF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729D-9A35-4F56-A946-16A48538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E39D6-191A-4866-9BCD-223CE43B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E67C5-A663-4199-A36A-370BE38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F76A4-92DB-4086-8A59-AFC14703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436E-C65E-4307-89B2-DBE46628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EBCD-F11E-4EBB-987E-04EC12F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A6C1-443E-49C4-81D1-152EE9B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80CC-9B64-4419-B7BA-C8BF23A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099-2CDF-41BE-8B2D-31DCAF0C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880E-39E7-4FBC-94F8-669FAB3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0A30-8AEE-4B24-BCE9-B9097B6C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B510D-B801-419D-8B1C-4A11716C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B3E3-2125-40F4-9608-F4ECFE2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A740-517B-460B-AAD4-7BA33EB7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C23EB-6C72-48A8-8912-CD2B69C5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B7C3-61A8-4490-B65A-094EB42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FB258-00E8-4331-8D83-C3507E6A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482FB-99AD-4430-A921-BE33816A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1285-CCBB-4F4E-80DD-00862C99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B46-69FB-4F4D-B093-CB8C841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2294-D384-4A25-8BD4-503193B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969C5-3445-44BC-BD4A-2370D66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D4EA4-5169-4604-B9D8-972D0D44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F900-7BA0-4C4D-B7F8-B441FC54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CDFB-298F-417C-9EDB-05E33786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D61-B5CB-4F72-A737-D3DC1AA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5F7-DE77-431C-AE36-111C6E77B03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3A5-EF9F-4C5A-B4E8-8E27E6B7FDD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0A66-771A-4D38-84A9-AADD5487A86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197-36E1-48D6-9C14-5BD754C9A30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4700-A047-43B2-97DB-37CB65E697E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125-D816-47CF-AECC-FE173476CB2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B39-FA53-4683-8659-DDCB11892BB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of the Two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unctions increase in both an exponential growth model and a limited growth mod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, in a limited growth model, the year to year growth at first increases but than starts to decre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flection point: where the growth changes from increasing to decre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ges 121 – 122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7,8 (part b do P</a:t>
            </a:r>
            <a:r>
              <a:rPr b="1" lang="en-US" sz="72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), 9 - 12, 14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Credit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#13 – on excel  (email  by 8:10 A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oca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inite sequence: domain is the interval [k, ∞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ite sequence: closed interval [k, l]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mul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icit :           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4n -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ursive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3  ,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+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2" name="Straight Arrow Connector 6"/>
          <p:cNvCxnSpPr>
            <a:stCxn id="373" idx="0"/>
          </p:cNvCxnSpPr>
          <p:nvPr/>
        </p:nvCxnSpPr>
        <p:spPr>
          <a:xfrm flipV="1">
            <a:off x="3587760" y="4800240"/>
            <a:ext cx="527760" cy="5342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3" name="TextBox 7"/>
          <p:cNvSpPr/>
          <p:nvPr/>
        </p:nvSpPr>
        <p:spPr>
          <a:xfrm>
            <a:off x="2640240" y="533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itial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Straight Arrow Connector 10"/>
          <p:cNvCxnSpPr>
            <a:stCxn id="375" idx="0"/>
          </p:cNvCxnSpPr>
          <p:nvPr/>
        </p:nvCxnSpPr>
        <p:spPr>
          <a:xfrm flipH="1" flipV="1">
            <a:off x="5562360" y="4799880"/>
            <a:ext cx="717840" cy="7628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5" name="TextBox 11"/>
          <p:cNvSpPr/>
          <p:nvPr/>
        </p:nvSpPr>
        <p:spPr>
          <a:xfrm>
            <a:off x="5132160" y="5562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currence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nd an explicit formula and a recursive formula for the 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, a + r, a + 2r, a + 3r 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a + nr        , where n ≥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a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r +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air of jeans is originally priced at $75, and the store reduces the price by 20% each day they are not so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$75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.8 *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75 ( .8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mall man-made lake is to be stocked with trout.  With ample food and without fishing or disease, the trout population will grow about 20% each year.  The Game Commission estimates that the lake can support a maximum of about 30,000 trout.  If it is initially stocked with 2000 trout, analyze and model the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hart 3" descr=""/>
          <p:cNvPicPr/>
          <p:nvPr/>
        </p:nvPicPr>
        <p:blipFill>
          <a:blip r:embed="rId1"/>
          <a:stretch/>
        </p:blipFill>
        <p:spPr>
          <a:xfrm>
            <a:off x="1523880" y="1778040"/>
            <a:ext cx="6629400" cy="5079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ponential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50001" t="21000" r="23126" b="15000"/>
          <a:stretch/>
        </p:blipFill>
        <p:spPr>
          <a:xfrm>
            <a:off x="685800" y="0"/>
            <a:ext cx="72388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1 –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/30,000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50001" t="22001" r="23126" b="16001"/>
          <a:stretch/>
        </p:blipFill>
        <p:spPr>
          <a:xfrm>
            <a:off x="609480" y="-63360"/>
            <a:ext cx="80773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31:17Z</dcterms:created>
  <dc:creator>teacher</dc:creator>
  <dc:description/>
  <dc:language>en-US</dc:language>
  <cp:lastModifiedBy>lockwood laura</cp:lastModifiedBy>
  <dcterms:modified xsi:type="dcterms:W3CDTF">2013-09-24T18:24:31Z</dcterms:modified>
  <cp:revision>6</cp:revision>
  <dc:subject/>
  <dc:title>Sequences and a Limited Growth Model</dc:title>
</cp:coreProperties>
</file>