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C06A-51F2-4614-BF9D-707C3644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30F8-019F-4BC9-9A8B-C788904D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4C90-22C0-4F78-8C84-7BACD17C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EFA3-A133-40FC-BF4C-A6FCB52B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FD24-9D54-4688-8B85-A6305869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834F-47DF-4223-92E3-209E79A3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8809-7801-4236-B094-B71A6B16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0F2A-24E8-4585-9E83-4E4BEA1A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D561-B9A4-47E1-8D80-E8883BDF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0E9C-0B83-4AF0-B54E-C732A0B9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3F12-9762-48DB-AAB5-73DB9B28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48D2-7DBE-4395-A792-192C4B28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EBBF-C30D-4C5C-A6BD-7633F356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8DFD-BD55-4353-B464-E0532CC4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648E-70FD-4A4E-A789-C0374825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7365-9B55-42E2-8C50-5D3CB6DD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527E-384E-4C64-ABAC-6E8465A3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B17FC-32B6-47AB-906B-DF5ED828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1BCF9-31ED-42B4-B062-89322DB0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FE43B-4563-4F98-BA0C-9A345E60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FFB0B-C10E-4095-AF03-4B11E19E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A6BCF-EEF1-47DE-976E-630E0FD1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39E3-9989-427A-9B87-2BC7CC1C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1B7E9-A110-47FF-9506-CE50CA58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7F226-B281-45B8-82CD-3D8B6E8D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F8B74-429D-422E-AAD0-0C1F020D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F8856-5EFF-4D3F-83C3-2BAA7747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69E74-9454-4325-ADAD-5E03B4F9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9334B-BD44-45CC-8C47-327E0438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B8751-481B-4A29-B97C-AC977CFF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12AA8-1020-4E90-8E99-645737D2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2F072-C735-49C3-AD59-24F575DE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DB90B-BD9E-4C1D-B691-466EB2EF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94BC-6817-4378-B726-760CFA46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B98C8-B2C8-4DF2-BBCD-FC4373A6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B51BC-5704-45D3-BDB6-35A0A255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B92DC-F58F-426B-80FD-2E8B6F05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C3742-3FF1-4849-A661-BC2B5330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89212-07D1-41DF-A875-DAE9249A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E7270-E4B1-4E71-97D8-5D2AD9FE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5A939-2B7B-47D4-AB5B-E1997BF8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36712-9D36-4905-B258-2A9A66B2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9454D-6425-4393-8299-D401A913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35171-38A9-4133-8F60-75E834A6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397A-360F-488B-984C-D8FC653F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93F38-1FEA-418C-91D6-4B0CE139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3DCF9-BE4C-4F97-B209-291BC21F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C45C2-E5BF-4722-B3DF-82C73876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C9619-0FE8-4E99-B701-478B40DC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606CD-20CF-4D56-A0DB-B040B9CA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85536-23DA-41FF-A4D0-3ACB13DB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975D5-2AD8-4163-95D8-EC30EAC6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17B38-D265-4F03-9670-602C2833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666A9-0CEF-4045-B145-5A914B3D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FA75D-6594-4B25-A624-2E053133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4948-9638-4EA6-9A45-219D2787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34E77-9EEC-4653-9A12-C1FBF409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7AB50-A41D-4919-82FC-5A7BBF1B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8267D-568E-4490-971C-03F43F22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F7F74-B829-4634-B717-55E7CC0B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407E1-80FF-48A9-85AB-1D7EDD32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192AF-C881-4ADB-98F7-24AE7CCD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CD193-224B-4459-BE0A-7283BDEF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FA361-CB87-4CA6-A9E1-933EACDD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A72B4-A86D-4535-AAB1-D4F5236F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C79ED-CEA8-47A2-B8CB-D2043471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72BB-0884-49D1-96B9-AA3BA947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4FAD0-32A2-4D39-977A-23B6CB18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0DB62-1F71-4522-AEF3-6A8E5BC7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84DC8-92FD-4DEF-B9ED-19BFD83E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7875E-935B-45BC-B4FD-468132DB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DEC20-B9E8-425C-90AE-BA0B9ECC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5CC99-402C-40C6-92D1-33DAADEC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0CF76-AA47-443E-80DF-027E22F6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9008D-DA5E-4DCF-A03C-85BD1F6F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8A104-B675-44A4-93E7-59C55FDD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D03AA-9E02-4EA4-B817-0958E06C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AFB2-BD0C-489C-9659-26A3113B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EBDC6-C9A6-4998-B9E9-D3F2C23E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4B44F-B859-4397-9CAC-6B15316A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EFECA-535A-4FCC-AC7A-807DEBAE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30C58-67C8-4DD9-9B2B-036BC03C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B285C-7F21-4F89-B3D6-F6382480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AE01-FFF5-481D-B525-B11736FC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11FA-3F67-465C-9EC3-D426231D6C7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E395-4209-4414-8FD8-F588850D749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38D2-E5B3-41D9-A244-CB64CB7ACF2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FE23-CBE3-4FEB-94E8-2F76AA44719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BBC6-6C62-49F3-9496-EFC996ACBC0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3409-7A5D-4BF6-AD83-EB6971F8287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65D5-4604-40AF-9F51-2EF9D864972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esson 2.7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mparison of the Two Model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3" name="Content Placeholder 3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functions increase in both an exponential growth model and a limited growth mode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ut, in a limited growth model, the year to year growth at first increases but than starts to decreas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flection point: where the growth changes from increasing to decreasing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mewor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53520" indent="-29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rbel"/>
              </a:rPr>
              <a:t>Pages 121 – 122</a:t>
            </a:r>
            <a:endParaRPr b="0" lang="en-US" sz="7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rbel"/>
              </a:rPr>
              <a:t>7,8 (part b do P</a:t>
            </a:r>
            <a:r>
              <a:rPr b="1" lang="en-US" sz="7200" spc="-1" strike="noStrike" baseline="-25000">
                <a:solidFill>
                  <a:srgbClr val="ffffff"/>
                </a:solidFill>
                <a:latin typeface="Corbel"/>
              </a:rPr>
              <a:t>3</a:t>
            </a:r>
            <a:r>
              <a:rPr b="1" lang="en-US" sz="7200" spc="-1" strike="noStrike">
                <a:solidFill>
                  <a:srgbClr val="ffffff"/>
                </a:solidFill>
                <a:latin typeface="Corbel"/>
              </a:rPr>
              <a:t>), 9 - 12, 14</a:t>
            </a:r>
            <a:endParaRPr b="0" lang="en-US" sz="7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tra Credit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#13 – on excel  (email  by 8:10 AM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Vocab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quen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nfinite sequence: domain is the interval [k, ∞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nite sequence: closed interval [k, l]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rmula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xplicit :              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= 4n - 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ecursive: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= 3  ,   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orbel"/>
              </a:rPr>
              <a:t>n+1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= 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+ 4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372" name="Straight Arrow Connector 6"/>
          <p:cNvCxnSpPr>
            <a:stCxn id="373" idx="0"/>
          </p:cNvCxnSpPr>
          <p:nvPr/>
        </p:nvCxnSpPr>
        <p:spPr>
          <a:xfrm flipV="1">
            <a:off x="3587760" y="4800240"/>
            <a:ext cx="527760" cy="534240"/>
          </a:xfrm>
          <a:prstGeom prst="straightConnector1">
            <a:avLst/>
          </a:prstGeom>
          <a:ln w="57240">
            <a:solidFill>
              <a:srgbClr val="7fd13b"/>
            </a:solidFill>
            <a:miter/>
            <a:tailEnd len="med" type="arrow" w="med"/>
          </a:ln>
        </p:spPr>
      </p:cxnSp>
      <p:sp>
        <p:nvSpPr>
          <p:cNvPr id="373" name="TextBox 7"/>
          <p:cNvSpPr/>
          <p:nvPr/>
        </p:nvSpPr>
        <p:spPr>
          <a:xfrm>
            <a:off x="2640240" y="533412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Initial Cond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4" name="Straight Arrow Connector 10"/>
          <p:cNvCxnSpPr>
            <a:stCxn id="375" idx="0"/>
          </p:cNvCxnSpPr>
          <p:nvPr/>
        </p:nvCxnSpPr>
        <p:spPr>
          <a:xfrm flipH="1" flipV="1">
            <a:off x="5562360" y="4799880"/>
            <a:ext cx="717840" cy="762840"/>
          </a:xfrm>
          <a:prstGeom prst="straightConnector1">
            <a:avLst/>
          </a:prstGeom>
          <a:ln w="57240">
            <a:solidFill>
              <a:srgbClr val="7fd13b"/>
            </a:solidFill>
            <a:miter/>
            <a:tailEnd len="med" type="arrow" w="med"/>
          </a:ln>
        </p:spPr>
      </p:cxnSp>
      <p:sp>
        <p:nvSpPr>
          <p:cNvPr id="375" name="TextBox 11"/>
          <p:cNvSpPr/>
          <p:nvPr/>
        </p:nvSpPr>
        <p:spPr>
          <a:xfrm>
            <a:off x="5132160" y="55627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Recurrence re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nd an explicit formula and a recursive formula for the sequen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, a + r, a + 2r, a + 3r , 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plicit: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a + nr        , where n ≥ 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cursive: 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=a,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+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r +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 2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pair of jeans is originally priced at $75, and the store reduces the price by 20% each day they are not sol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cursive: 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$75,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+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.8 *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ere n ≥ 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plicit:  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75 ( .8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orbel"/>
              </a:rPr>
              <a:t>n-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where n ≥ 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gistic Growth Mode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small man-made lake is to be stocked with trout.  With ample food and without fishing or disease, the trout population will grow about 20% each year.  The Game Commission estimates that the lake can support a maximum of about 30,000 trout.  If it is initially stocked with 2000 trout, analyze and model the grow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Chart 3" descr=""/>
          <p:cNvPicPr/>
          <p:nvPr/>
        </p:nvPicPr>
        <p:blipFill>
          <a:blip r:embed="rId1"/>
          <a:stretch/>
        </p:blipFill>
        <p:spPr>
          <a:xfrm>
            <a:off x="1523880" y="1778040"/>
            <a:ext cx="6629400" cy="50799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ponential Growth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+1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 = 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+.2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rcRect l="50001" t="21000" r="23126" b="15000"/>
          <a:stretch/>
        </p:blipFill>
        <p:spPr>
          <a:xfrm>
            <a:off x="685800" y="0"/>
            <a:ext cx="723888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gistic Growth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+1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 = 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+.2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(1 – 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/30,000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8" name="Content Placeholder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rcRect l="50001" t="22001" r="23126" b="16001"/>
          <a:stretch/>
        </p:blipFill>
        <p:spPr>
          <a:xfrm>
            <a:off x="609480" y="-63360"/>
            <a:ext cx="807732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7:31:17Z</dcterms:created>
  <dc:creator>teacher</dc:creator>
  <dc:description/>
  <dc:language>en-US</dc:language>
  <cp:lastModifiedBy>lockwood laura</cp:lastModifiedBy>
  <dcterms:modified xsi:type="dcterms:W3CDTF">2013-09-24T18:24:31Z</dcterms:modified>
  <cp:revision>6</cp:revision>
  <dc:subject/>
  <dc:title>Sequences and a Limited Growth Model</dc:title>
</cp:coreProperties>
</file>