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1B3-3648-4BD9-B50F-07BCF22A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615-D7BB-4143-8B04-9D1862A6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017-9617-4258-BAEE-ACA7BD24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590-9D10-4C78-B553-34F1E0BA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1A4-33F1-44C1-A497-3A32A992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B0EE-BE3F-40C7-A3CE-BDC8BF99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F5CE-8906-434D-A4FB-47986BC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352F-10AB-4F03-8361-3B97E210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E26D-E43C-4C20-82AD-12C2A735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1E01-6AA8-40B6-BC46-C12EC444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8937-4EB9-4B4F-B94D-F1332A6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965-D9DE-4067-B9FE-63334DF9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AA3D-2E1A-44D8-9C7B-858E7A21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4291-2A72-4320-A699-E36C351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5D02-954F-407D-BC09-5207506D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0722-8757-4BFC-81FF-D8AEF11A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63B-20CC-46CF-8E34-51ABF59E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7612-AF7B-4C05-BECC-C5BED6A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3549-8979-495B-9343-AAA939EB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30231-55A2-48B1-8E3E-706CBAEA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9D99A-382C-4D27-8475-719F4483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3D56A-1CD4-45BC-A59D-86D059AF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85B-BECD-4F16-90FD-29A81DEF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DB578-FFBE-4413-9892-4831E81E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92EB-C039-4BE4-B74F-36E4AA69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018F-92F1-4777-B985-D13D415D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78545-87BC-47CA-BC01-559EF40D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066D-FC0B-40A5-99D1-EA687546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5E5F-FC36-4F5F-8319-B1CABE03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D063-3BC1-44B4-AAD0-56E1FAEF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60214-CE1B-431B-B343-1D870F41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C8F84-3460-4CAC-9080-E19B6984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2BBBF-DD76-4B4F-9A1F-3A735CCB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22F-00FF-4B10-8C64-982274F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BB78-84E8-487F-A424-E2A3376D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A1C7D-A42A-4A45-A1A4-FF8BDA6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BA8CC-F1A8-48F1-9B43-DF9DCFF6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03ACC-B00A-4765-B1D9-5FB8A288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4F45-E4D3-493C-956F-D3BA0384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FA31-91AE-4C0C-BBCA-B709C203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9E31-68D4-4485-A679-1D9D9C32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CFA8-B1BB-467C-B624-FD0831E2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BD976-C022-4737-B1DC-AF2B6B66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AD7C-F59E-43CD-BB32-BCE3BAC8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5FC2-66CD-4387-B911-35DEF9B3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6A8CB-87F0-4275-A3F4-8D458707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90399-82B8-4A1E-AB75-A45F9D08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8EF7-851B-4C8F-838B-7EB38F9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40287-A204-4AAB-A0E1-087D2BB0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3D18-C177-473A-A1D0-CE80AE51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5ACB-6C2C-44BA-974E-A3D2C73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9512-91BF-45A8-A12A-AA1624F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50D63-9243-4476-B462-318197B8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EA8FA-8088-4EDA-BACD-16D3CDD3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818C5-FB71-496C-A3C1-FF74F04B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18D-425A-4083-9E88-CE0D0A8C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B5C63-5CD9-4F08-A99F-E654C0CD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AE184-96C5-4EF0-B345-BDE6CE62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3081-05CF-4E25-B410-E419E69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479A8-6984-4ED7-BCE6-1CF39AB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51EF2-8FD2-42A0-9CE0-52A98DA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85FB-AEAC-4362-8BA4-DC59D7AF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483A6-C371-4F6F-A6B3-2EBB1D16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4C764-F4D9-4C9F-8F8A-7FDC4CB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B602-48C2-42FB-9E25-42E0379F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78F7-9E82-4BC9-B3F1-92F5636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742-0784-40F5-B4DC-8951C651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F2907-3BC4-4B38-B5E0-82AC3B6A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9634-6CF1-4102-A0E7-EFA017D1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ED77E-9FA2-4235-BA52-B8D45775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96F4-14DB-4699-A99C-60DB30D5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B548-8365-4E79-A0AB-CE95BB52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C1FA9-9D6A-43FD-AE7A-ECC8A5CE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7CF0-23B4-46C9-B4D9-589F022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EC5E3-4AEB-4031-97F9-A22FC0D4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6511E-5DC5-42DC-953D-60F97346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08EB0-0401-41FE-A361-A2AAADE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2F3-6F5E-4F2D-98A4-AC795BA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3F696-1D2F-487C-9C45-BED2C7D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E4AA6-EC56-4251-B509-6470C71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4F902-740E-467A-B0FE-6D83AD2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B85C6-15ED-4C7B-9FB0-13192C7C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57549-7F35-410C-90D2-E38C9A8C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5BA-D24A-465B-81D6-97479EB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771B-7B84-470F-9B7E-CB9765CA954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D5A2-6D95-4A65-8107-03E3C4902D1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FC6E-8653-4267-9115-56EC6E116FE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65D1-8EE6-4986-A0F7-2404376DC3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4AF-CD4A-4BDA-B4C9-D0225763432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BA6A-5FA5-4F72-9555-50E379944DB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3DC7-45FC-4862-8425-8BF93F96D7E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of the Two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unctions increase in both an exponential growth model and a limited growth mod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, in a limited growth model, the year to year growth at first increases but than starts to decre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flection point: where the growth changes from increasing to decre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ges 121 – 122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7,8 (part b do P</a:t>
            </a:r>
            <a:r>
              <a:rPr b="1" lang="en-US" sz="72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), 9 - 12, 14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Credit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#13 – on excel  (email  by 8:10 A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oca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inite sequence: domain is the interval [k, ∞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ite sequence: closed interval [k, l]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mul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icit :           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4n -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ursive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3  ,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+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2" name="Straight Arrow Connector 6"/>
          <p:cNvCxnSpPr>
            <a:stCxn id="373" idx="0"/>
          </p:cNvCxnSpPr>
          <p:nvPr/>
        </p:nvCxnSpPr>
        <p:spPr>
          <a:xfrm flipV="1">
            <a:off x="3587760" y="4800240"/>
            <a:ext cx="527760" cy="5342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3" name="TextBox 7"/>
          <p:cNvSpPr/>
          <p:nvPr/>
        </p:nvSpPr>
        <p:spPr>
          <a:xfrm>
            <a:off x="2640240" y="533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itial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Straight Arrow Connector 10"/>
          <p:cNvCxnSpPr>
            <a:stCxn id="375" idx="0"/>
          </p:cNvCxnSpPr>
          <p:nvPr/>
        </p:nvCxnSpPr>
        <p:spPr>
          <a:xfrm flipH="1" flipV="1">
            <a:off x="5562360" y="4799880"/>
            <a:ext cx="717840" cy="7628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5" name="TextBox 11"/>
          <p:cNvSpPr/>
          <p:nvPr/>
        </p:nvSpPr>
        <p:spPr>
          <a:xfrm>
            <a:off x="5132160" y="5562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currence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nd an explicit formula and a recursive formula for the 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, a + r, a + 2r, a + 3r 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a + nr        , where n ≥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a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r +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air of jeans is originally priced at $75, and the store reduces the price by 20% each day they are not so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$75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.8 *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75 ( .8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mall man-made lake is to be stocked with trout.  With ample food and without fishing or disease, the trout population will grow about 20% each year.  The Game Commission estimates that the lake can support a maximum of about 30,000 trout.  If it is initially stocked with 2000 trout, analyze and model the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hart 3" descr=""/>
          <p:cNvPicPr/>
          <p:nvPr/>
        </p:nvPicPr>
        <p:blipFill>
          <a:blip r:embed="rId1"/>
          <a:stretch/>
        </p:blipFill>
        <p:spPr>
          <a:xfrm>
            <a:off x="1523880" y="1778040"/>
            <a:ext cx="6629400" cy="5079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ponential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50001" t="21000" r="23126" b="15000"/>
          <a:stretch/>
        </p:blipFill>
        <p:spPr>
          <a:xfrm>
            <a:off x="685800" y="0"/>
            <a:ext cx="72388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1 –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/30,000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50001" t="22001" r="23126" b="16001"/>
          <a:stretch/>
        </p:blipFill>
        <p:spPr>
          <a:xfrm>
            <a:off x="609480" y="-63360"/>
            <a:ext cx="80773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31:17Z</dcterms:created>
  <dc:creator>teacher</dc:creator>
  <dc:description/>
  <dc:language>en-US</dc:language>
  <cp:lastModifiedBy>lockwood laura</cp:lastModifiedBy>
  <dcterms:modified xsi:type="dcterms:W3CDTF">2013-09-24T18:24:31Z</dcterms:modified>
  <cp:revision>6</cp:revision>
  <dc:subject/>
  <dc:title>Sequences and a Limited Growth Model</dc:title>
</cp:coreProperties>
</file>