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EE0-7624-43E8-952A-17744E51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550-35F9-4768-945E-CE97A508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87B4-63B3-40CE-ADCB-01926C35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23A-E699-4692-9F95-91A11CBA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EF9-A73F-4BDC-B423-EC12E0DE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4336-85F9-4315-B2F8-9427822B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4F3-C083-45FE-B465-3DDC3DF1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4E7B-7FDF-437A-84CB-40DC45D2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2139-F18E-4BB3-9AD2-2B00B41A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A96A-E1CF-427D-BE1F-B40869B6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8D37-6E71-45FA-9ADC-F8DAFBEE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7DC-10F2-4496-98FE-F34FE84B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BD9A-43E7-43A7-933E-186DEDF6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B9F6-0372-49B5-AA58-442CC2AF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B426-1371-423E-98F2-46C7FC79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ABBA-CDB8-4B76-83C2-63DC9960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6E88-E069-46F8-9FA7-7AB3FC58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A81C-C8E2-4B28-9595-042E68A7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639FF-0F67-456D-94AD-4F48C9B1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5A3E-B778-488C-A83C-AE6E7DD0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AB14-1AEB-4524-B1C0-20BA4B70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08729-BFE0-4F59-88E4-566B0F76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A2F-10F4-4AC8-92F3-DB7996B0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6AF4-39C9-40A4-80C8-8628A58C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4182-A8BB-4653-BBA9-13E088BF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08EA-01E5-4230-8941-2F74DEF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B51E9-A23A-4671-A8D6-3EAA93B4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F5F3-16F8-44EA-BA9D-9BF7DB14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34BA-D9C3-47BC-8863-F77F84FB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85125-33F8-499A-96DF-AD05A955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1F14-E277-41FC-BA0D-815C6F55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178A-155A-470F-A672-83D3DCC3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9AD1-A15D-45C7-B003-4440A86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E7A-1C48-4696-99CD-BB4FC2DB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7E2A2-3B29-45FD-821F-42C65376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9B29-C953-4E25-BEE3-99776D7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C336-3411-4274-8D17-414FE797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07AAF-2324-4FF1-A410-A10F9329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425B5-F147-442A-99C1-A1136C49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6D7D7-BD6F-44EF-A139-6CEA67F5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18307-C23C-4778-92FE-CEA2F2E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4C13D-672E-4EF2-9DED-87758C9A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E584-FE1F-4384-BA14-F3B61FA4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3491-77CD-4459-A016-FB1E96B6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2FC-1C8B-43F4-999A-EF9BD72B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A563-B964-43F0-AF18-6CB6158F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1186-08DA-4041-881D-23F9E954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8208-7A0E-41FA-AE74-9A9D599A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CD15-7EF2-4AC6-BA4C-97303BDA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403D-EB5D-42CA-9F53-327B6B6F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D4750-BE41-4EFB-BDC8-1DF864BA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4812-CA9E-425F-BCE8-10C182F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6F59-607C-44E1-A40E-1034B747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C213-60CF-405A-BDD3-2EEBC7A4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72024-BBFB-4AF4-AE20-823A10E2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38D4-9165-475C-9DCE-77599BE8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67357-B207-4319-ABD9-46EFE195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624F-86F7-46D8-AC9D-07BD4B0D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3AA17-AAE7-4E24-800F-2BF0019B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0E958-29AE-4C35-837F-083BD74D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F997E-7E26-47F2-80CF-7EE49F18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09DD-F580-4667-AEAA-1AB4E049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4A97-18AA-4F48-B059-319A3651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0B531-E9D7-4F52-B990-6B3A95F4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F3B84-5C08-4A41-9FF3-87B2CE11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49DFD-7988-4A20-9386-D9B9211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423-5456-4E4D-94FF-A2EB997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8C920-A513-4691-81CC-BD71B8E4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394E4-ABB9-4376-A6F4-66FA06D0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6C42-66B5-4344-A30A-D8A81911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E38D8-CF2D-4EAB-9EDA-899587C5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258C-D2E2-4203-8874-938B9597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1DD6E-2B7E-4A23-A9A5-11B025B8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1EE45-D069-467A-A123-7729FCA3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A3890-47D4-46EF-BC2F-6CE0562B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C41E8-87C9-46BC-8A40-5F6B7C91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AD6F5-2ACE-4A8F-B3F4-7D96341D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2A5-945F-471B-9862-07F42BE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A3BFA-5E1A-4712-A7F9-D89304A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E5461-B4A1-40F7-B424-EB3EB9EA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A335C-BD93-4993-B38F-AD6F47B6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51E4B-270A-4995-B115-53CDD1C6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E927A-9199-4525-ADEE-69614CCA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CC0-83F5-4642-97B5-3EFAAC58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FBF1-7F3F-4049-8719-C1C95162035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8A6F-0496-4612-8368-D71B0982F85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0371-D460-45EF-A3BD-C08C981DBFA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5C31-B9BE-418F-98DC-6212B1F1518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3814-C7BE-48F0-84BF-B0D53C8F23E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F6F-1A93-43AE-B068-98C46266721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148-808E-4615-9F6A-D76CA0DC08B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of the Two Mod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unctions increase in both an exponential growth model and a limited growth mod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, in a limited growth model, the year to year growth at first increases but than starts to decre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flection point: where the growth changes from increasing to decreas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ges 121 – 122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7,8 (part b do P</a:t>
            </a:r>
            <a:r>
              <a:rPr b="1" lang="en-US" sz="72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), 9 - 12, 14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tra Credit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#13 – on excel  (email  by 8:10 AM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oca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inite sequence: domain is the interval [k, ∞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ite sequence: closed interval [k, l]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mul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plicit :           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4n -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ursive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3  ,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+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2" name="Straight Arrow Connector 6"/>
          <p:cNvCxnSpPr>
            <a:stCxn id="373" idx="0"/>
          </p:cNvCxnSpPr>
          <p:nvPr/>
        </p:nvCxnSpPr>
        <p:spPr>
          <a:xfrm flipV="1">
            <a:off x="3587760" y="4800240"/>
            <a:ext cx="527760" cy="5342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3" name="TextBox 7"/>
          <p:cNvSpPr/>
          <p:nvPr/>
        </p:nvSpPr>
        <p:spPr>
          <a:xfrm>
            <a:off x="2640240" y="533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itial 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Straight Arrow Connector 10"/>
          <p:cNvCxnSpPr>
            <a:stCxn id="375" idx="0"/>
          </p:cNvCxnSpPr>
          <p:nvPr/>
        </p:nvCxnSpPr>
        <p:spPr>
          <a:xfrm flipH="1" flipV="1">
            <a:off x="5562360" y="4799880"/>
            <a:ext cx="717840" cy="7628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5" name="TextBox 11"/>
          <p:cNvSpPr/>
          <p:nvPr/>
        </p:nvSpPr>
        <p:spPr>
          <a:xfrm>
            <a:off x="5132160" y="5562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currence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nd an explicit formula and a recursive formula for the 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, a + r, a + 2r, a + 3r 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a + nr        , where n ≥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a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r +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air of jeans is originally priced at $75, and the store reduces the price by 20% each day they are not so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$75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.8 *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75 ( .8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mall man-made lake is to be stocked with trout.  With ample food and without fishing or disease, the trout population will grow about 20% each year.  The Game Commission estimates that the lake can support a maximum of about 30,000 trout.  If it is initially stocked with 2000 trout, analyze and model the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hart 3" descr=""/>
          <p:cNvPicPr/>
          <p:nvPr/>
        </p:nvPicPr>
        <p:blipFill>
          <a:blip r:embed="rId1"/>
          <a:stretch/>
        </p:blipFill>
        <p:spPr>
          <a:xfrm>
            <a:off x="1523880" y="1778040"/>
            <a:ext cx="6629400" cy="5079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ponential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50001" t="21000" r="23126" b="15000"/>
          <a:stretch/>
        </p:blipFill>
        <p:spPr>
          <a:xfrm>
            <a:off x="685800" y="0"/>
            <a:ext cx="72388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1 –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/30,000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8" name="Content Placeholder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50001" t="22001" r="23126" b="16001"/>
          <a:stretch/>
        </p:blipFill>
        <p:spPr>
          <a:xfrm>
            <a:off x="609480" y="-63360"/>
            <a:ext cx="80773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31:17Z</dcterms:created>
  <dc:creator>teacher</dc:creator>
  <dc:description/>
  <dc:language>en-US</dc:language>
  <cp:lastModifiedBy>lockwood laura</cp:lastModifiedBy>
  <dcterms:modified xsi:type="dcterms:W3CDTF">2013-09-24T18:24:31Z</dcterms:modified>
  <cp:revision>6</cp:revision>
  <dc:subject/>
  <dc:title>Sequences and a Limited Growth Model</dc:title>
</cp:coreProperties>
</file>