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7E3-713C-4DC9-95B5-686BA7CE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DDC-8479-4D58-923A-14CB10D2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AFAA-7624-4108-9FE1-43A7A1FE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89D-DB1E-4CEE-8996-D9D7AA91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DCE6-4564-4995-85E7-8970E626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657C-D987-43A1-9C64-F63BB0A3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9988-7270-494C-AADB-C10B9B46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C5B0-7AB8-4271-BBEB-6D9A240D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1094-4B29-4C08-BC5C-450F0BFC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348D-FE72-43E5-B003-3F9232BF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FF57-CC8A-4907-B7A8-5EDF8333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27B-8E4F-41FA-9072-EB35E595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D8BB-33D0-43DA-88DA-38808E06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E758-0404-4A00-A0BC-7635526A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9417-F0EB-452E-AF6D-B3D24C4D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D868-2D51-4F3C-95D0-652C24CA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FB35-B5C6-417D-A966-76CFC865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50AD5-889D-4A0B-9715-BD10C66B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543A4-0D4B-4991-8CE6-FF97076A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1660D-A666-4459-8AF1-4AD52B64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D9292-0407-49DD-8888-FD31C4F5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FA235-71ED-4789-AA68-F3CA25DD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F48-CFFE-4CB6-9D33-2A5F243F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5B688-871B-4E78-A1DF-C560CA2A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49B86-CBB8-462F-A98A-49DFECE2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8469C-01C0-4023-BC2A-74909635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2CD7F-7754-4695-80D0-5EDCAD47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F6DE7-E6EE-434E-B5E8-ED2F176D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A1A67-F2F4-463B-B1A6-B7726728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F727C-983A-40C4-9CBB-39943C8E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5CDE6-BDDC-496D-B394-5A1733A9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3F1CC-0EF3-438E-B259-E00A0AC6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7437C-6770-43BC-A88D-ABAC48B4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57B-A560-4C23-AE6E-F98913CD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AC364-F922-4E74-B755-76FC996A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56BF8-12BE-4F86-89C4-2EC0BE33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D29D1-4B4D-4806-8618-0B84F119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26950-8A3F-4E3C-AA72-F589F89B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497BC-61BB-4FFD-B78D-6059CBCB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B611A-872E-4BF2-9774-8EFF7E50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3EB64-5D75-4193-A61F-C54DA360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407BE-3661-436A-BF00-A59F529A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F8BEA-17B4-48CD-94C1-5F9F2103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C18E7-F435-4AE2-978A-507F2EA9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78A-10E2-403F-8EAB-4003D295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328C8-1FEC-451F-97C0-2C9F4DDA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CAB30-26D9-4954-8DAE-BD4952FB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A819D-3BF4-487A-83C9-76F9E216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CEFEC-A941-4B85-A149-125036D9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26328-09F7-4B35-BCB1-355E6959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85C5D-BFD0-4934-AD1E-F22D2F68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A4BB8-0092-4844-88A3-75F2DBD7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CE2C0-9998-47A4-8C88-262004A7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A0A37-14B2-4FCE-899C-E7E8C97A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19493-995A-47A0-B54B-F2D3E316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351A-420A-466C-BF19-E9E4FD98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E4E01-4D92-43B1-8E93-D6AC4808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FD542-A9C9-432F-8AA6-89441629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63842-FAE6-4EEA-99F8-DE5B648A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7427D-FECF-4965-9B4E-E836F7E7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18541-B71C-4FBA-AD82-E220EE93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FAFEB-FE86-4A99-8A1C-13B58D0F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F40A9-070D-4477-84CF-CE04934F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D351F-FEDB-456C-B022-4BA2A868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531BD-DA70-417D-B540-0E147536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BECEA-25BF-4067-BAE7-BF5327F6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C43D-4F1C-4A59-B6B8-8694B319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72C52-7585-4403-BD59-F11639A7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60C0B-2F28-405C-B8C8-4D30344E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9C5E2-6F39-4C40-9075-CA4108C1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1DF95-5449-4B6E-A820-470345EF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AED05-E1B7-4C91-9D14-5E797FF4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F66AA-E404-4167-85B6-C07940A3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2D75F-3EA1-41DF-9085-74955658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54CD7-D9A7-4B3A-BC54-9D5D37D8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9B645-6681-40DA-B760-5F4171FC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6337C-A02C-400D-8940-C8C0B523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FEC-50E6-4D09-89B7-D6218736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11E26-8D22-4CBA-B487-57129A9D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2C2A0-A83C-4A51-980F-3C379F8C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58DA6-69EE-4E56-BA90-102DA43B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79DF7-6F5A-423E-9FBF-28EED0B3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E5B64-BFDF-45B4-8FE0-7457BCDF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043-55D6-491A-8319-83815E1F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DB43-40F0-476C-B02C-46091487C7B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5121-87AE-4FA0-AA5B-3AEC9E25D13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B35B-92AC-4E34-8D71-316337B7AC3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6174-2FF4-4F6F-B040-657D4C4331F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4AB6-DD03-4B58-B22F-D87E6240469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BA0A-300C-4E44-B707-DAD99A8A1DE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5655-3ECB-4F11-BBA3-97DA6A9E88C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sson 2.7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mparison of the Two Model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3" name="Content Placeholder 3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functions increase in both an exponential growth model and a limited growth mode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ut, in a limited growth model, the year to year growth at first increases but than starts to decreas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flection point: where the growth changes from increasing to decreasing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mewor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53520" indent="-29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rbel"/>
              </a:rPr>
              <a:t>Pages 121 – 122</a:t>
            </a:r>
            <a:endParaRPr b="0" lang="en-US" sz="7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rbel"/>
              </a:rPr>
              <a:t>7,8 (part b do P</a:t>
            </a:r>
            <a:r>
              <a:rPr b="1" lang="en-US" sz="7200" spc="-1" strike="noStrike" baseline="-25000">
                <a:solidFill>
                  <a:srgbClr val="ffffff"/>
                </a:solidFill>
                <a:latin typeface="Corbel"/>
              </a:rPr>
              <a:t>3</a:t>
            </a:r>
            <a:r>
              <a:rPr b="1" lang="en-US" sz="7200" spc="-1" strike="noStrike">
                <a:solidFill>
                  <a:srgbClr val="ffffff"/>
                </a:solidFill>
                <a:latin typeface="Corbel"/>
              </a:rPr>
              <a:t>), 9 - 12, 14</a:t>
            </a:r>
            <a:endParaRPr b="0" lang="en-US" sz="7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tra Credit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#13 – on excel  (email  by 8:10 AM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Vocab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quen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nfinite sequence: domain is the interval [k, ∞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nite sequence: closed interval [k, l]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rmula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xplicit :              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= 4n -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cursive: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= 3  ,   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n+1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= 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+ 4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372" name="Straight Arrow Connector 6"/>
          <p:cNvCxnSpPr>
            <a:stCxn id="373" idx="0"/>
          </p:cNvCxnSpPr>
          <p:nvPr/>
        </p:nvCxnSpPr>
        <p:spPr>
          <a:xfrm flipV="1">
            <a:off x="3587760" y="4800240"/>
            <a:ext cx="527760" cy="534240"/>
          </a:xfrm>
          <a:prstGeom prst="straightConnector1">
            <a:avLst/>
          </a:prstGeom>
          <a:ln w="57240">
            <a:solidFill>
              <a:srgbClr val="7fd13b"/>
            </a:solidFill>
            <a:miter/>
            <a:tailEnd len="med" type="arrow" w="med"/>
          </a:ln>
        </p:spPr>
      </p:cxnSp>
      <p:sp>
        <p:nvSpPr>
          <p:cNvPr id="373" name="TextBox 7"/>
          <p:cNvSpPr/>
          <p:nvPr/>
        </p:nvSpPr>
        <p:spPr>
          <a:xfrm>
            <a:off x="2640240" y="533412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Initial Con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4" name="Straight Arrow Connector 10"/>
          <p:cNvCxnSpPr>
            <a:stCxn id="375" idx="0"/>
          </p:cNvCxnSpPr>
          <p:nvPr/>
        </p:nvCxnSpPr>
        <p:spPr>
          <a:xfrm flipH="1" flipV="1">
            <a:off x="5562360" y="4799880"/>
            <a:ext cx="717840" cy="762840"/>
          </a:xfrm>
          <a:prstGeom prst="straightConnector1">
            <a:avLst/>
          </a:prstGeom>
          <a:ln w="57240">
            <a:solidFill>
              <a:srgbClr val="7fd13b"/>
            </a:solidFill>
            <a:miter/>
            <a:tailEnd len="med" type="arrow" w="med"/>
          </a:ln>
        </p:spPr>
      </p:cxnSp>
      <p:sp>
        <p:nvSpPr>
          <p:cNvPr id="375" name="TextBox 11"/>
          <p:cNvSpPr/>
          <p:nvPr/>
        </p:nvSpPr>
        <p:spPr>
          <a:xfrm>
            <a:off x="5132160" y="55627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Recurrence re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nd an explicit formula and a recursive formula for the sequen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, a + r, a + 2r, a + 3r , 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plicit: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a + nr        , where n ≥ 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cursive: 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=a,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+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r +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 2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pair of jeans is originally priced at $75, and the store reduces the price by 20% each day they are not sol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cursive: 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$75,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+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.8 *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re n ≥ 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plicit:  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75 ( .8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orbel"/>
              </a:rPr>
              <a:t>n-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where n ≥ 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gistic Growth Mode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small man-made lake is to be stocked with trout.  With ample food and without fishing or disease, the trout population will grow about 20% each year.  The Game Commission estimates that the lake can support a maximum of about 30,000 trout.  If it is initially stocked with 2000 trout, analyze and model the grow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Chart 3" descr=""/>
          <p:cNvPicPr/>
          <p:nvPr/>
        </p:nvPicPr>
        <p:blipFill>
          <a:blip r:embed="rId1"/>
          <a:stretch/>
        </p:blipFill>
        <p:spPr>
          <a:xfrm>
            <a:off x="1523880" y="1778040"/>
            <a:ext cx="6629400" cy="50799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ponential Growth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+1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= 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+.2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rcRect l="50001" t="21000" r="23126" b="15000"/>
          <a:stretch/>
        </p:blipFill>
        <p:spPr>
          <a:xfrm>
            <a:off x="685800" y="0"/>
            <a:ext cx="723888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gistic Growth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+1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= 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+.2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(1 – 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/30,000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8" name="Content Placeholder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rcRect l="50001" t="22001" r="23126" b="16001"/>
          <a:stretch/>
        </p:blipFill>
        <p:spPr>
          <a:xfrm>
            <a:off x="609480" y="-63360"/>
            <a:ext cx="807732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7:31:17Z</dcterms:created>
  <dc:creator>teacher</dc:creator>
  <dc:description/>
  <dc:language>en-US</dc:language>
  <cp:lastModifiedBy>lockwood laura</cp:lastModifiedBy>
  <dcterms:modified xsi:type="dcterms:W3CDTF">2013-09-24T18:24:31Z</dcterms:modified>
  <cp:revision>6</cp:revision>
  <dc:subject/>
  <dc:title>Sequences and a Limited Growth Model</dc:title>
</cp:coreProperties>
</file>