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5973-969A-4A17-9FDC-5BDA5676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B48F-340F-457E-9AE7-57A55E3E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910C-66BE-47FF-B63A-E6441CD1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FB3A-0F35-4FB2-A5C0-C7ADC5CC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EDF5-7460-44DB-B6B7-E97BDCD4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E4B7-F50E-4D82-BEF4-0427F32E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F7B7-C711-45BF-A3EC-5D1F5D35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B469-7387-44E1-BA06-866BD600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8B67-A669-4472-9905-676EDA1F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4E44-FD93-4E78-B4F6-4BB1FCAA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DEBB-3571-4564-B16F-DE5310F1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8547-733D-4941-A542-7BD41325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A6F1-CEFE-4BF5-AD7D-0A05C154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3033-1992-4112-BA9F-5D617A89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53C9-D955-4CD5-B0BB-CCF3BFDD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99E5-32AF-44D7-BE8B-7E2820BD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9A57-0F73-42D0-9599-C95AB23B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FB10F-958B-493E-B155-F3A1982F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4B640-30A5-4EE1-8DEC-6DA3E3CF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D32D3-E4AE-4002-BA3D-E7A6B714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AD9B6-24E4-4569-8D79-67022BFA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A6883-5D72-4049-93CD-3D027D6D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C1ED-AB3C-491B-84B5-F30BE0C1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1F973-3A98-471B-9A11-1588C11C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87E46-6CBB-4E2E-8792-4BADFABA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067FA-6860-4B69-A9D8-785B3A25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BBF99-3E03-4BE6-B3E6-BDB43811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F8746-D061-48FA-8A13-1CCDCB0D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CBD97-1AB5-4D3B-BD98-F6E1BAB1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3552C-004A-4B87-A3BA-4D725E4E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F9797-6CAF-499F-9EA8-FFDD9722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D23B3-0779-4E9D-9105-FDCCB527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733D5-E155-481A-8E85-357D6637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7DAF-C240-4B17-B735-4527FE97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2A3C6-C997-4A52-877B-A739E108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903A8-950E-4CD7-8DA0-CBE77D1D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4B7CB-0642-4859-84E7-8C8CF1F2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45E5F-6701-4EE5-B801-9CD900EF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48E68-6798-4907-928F-B144CFCB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40FF0-EE6E-49C3-970E-9F6DC9DF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68D55-AE60-4142-BD64-A702A738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F6F8E-E269-413C-A6A7-75379374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3714E-4B35-4458-A06F-BF6B81CB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606CA-60DD-4449-BA91-B12A0A0B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C8B3-15AB-476E-9011-DE1CD145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99B0D-1FD2-4BC3-AD0C-85A56F48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EF71E-9FF7-4E94-AA03-D0DD7185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6E32A-4FB9-461D-B008-D8B81FB5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15AC0-EEE0-4E1A-8823-597C7ADC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8C70C-D3D9-40F8-A4C4-01C2D290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F231C-6D9F-49A2-870F-A4462B54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96493-DC08-4675-886B-BC7BD179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E46D2-761B-40D8-AD20-206C678B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B7FB5-E16E-4F32-B763-77183C0F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CA210-8976-4C9F-881F-C4A8B2C4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262E-E92C-4143-BD1D-8B095F4B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24A7B-FF11-465D-A6DD-6CA624C1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335B-2BF1-4015-B882-D201FE40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BFCC-6572-426B-8419-4F02ED7A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1CBD-8E22-4A56-AC66-2720F16F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7CB8-7F31-43AA-88F4-301AC9CA92D0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038C-EC52-4774-A964-05408B47F9FA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2937-8D7D-4795-ACA9-A2CE6F5FC3F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725D-1C31-4F92-A851-1ECD0AEF268A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865D-0FAA-45E8-93FD-1CF3DB4F9F0A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688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Lesson 8.4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rebuchet MS"/>
              </a:rPr>
              <a:t>Pages 491 – 492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rebuchet MS"/>
              </a:rPr>
              <a:t>5 - 9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Graph r = sin 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and r = sin (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/2).  How is the second graph related to the first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Graph r = (sin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 θ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+ 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/4).  How is this graph related to the graph of sin 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 general, a graph described in a sentence, r = 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φ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rotates the graph counterclockwise by a magnitude </a:t>
            </a:r>
            <a:r>
              <a:rPr b="1" lang="el-GR" sz="2600" spc="-1" strike="noStrike">
                <a:solidFill>
                  <a:srgbClr val="000000"/>
                </a:solidFill>
                <a:latin typeface="Constantia"/>
              </a:rPr>
              <a:t>φ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457200" y="1390680"/>
            <a:ext cx="5467320" cy="546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6400800" y="1676520"/>
          <a:ext cx="2133720" cy="512604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π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π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sp>
        <p:nvSpPr>
          <p:cNvPr id="226" name="TextBox 7"/>
          <p:cNvSpPr/>
          <p:nvPr/>
        </p:nvSpPr>
        <p:spPr>
          <a:xfrm>
            <a:off x="7621560" y="205740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7620120" y="28195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2"/>
          <p:cNvSpPr/>
          <p:nvPr/>
        </p:nvSpPr>
        <p:spPr>
          <a:xfrm>
            <a:off x="7698600" y="327672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7698600" y="4038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4"/>
          <p:cNvSpPr/>
          <p:nvPr/>
        </p:nvSpPr>
        <p:spPr>
          <a:xfrm>
            <a:off x="7697520" y="441972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7"/>
          <p:cNvSpPr/>
          <p:nvPr/>
        </p:nvSpPr>
        <p:spPr>
          <a:xfrm>
            <a:off x="7698600" y="480060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8"/>
          <p:cNvSpPr/>
          <p:nvPr/>
        </p:nvSpPr>
        <p:spPr>
          <a:xfrm>
            <a:off x="7624080" y="52578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8"/>
          <p:cNvSpPr/>
          <p:nvPr/>
        </p:nvSpPr>
        <p:spPr>
          <a:xfrm>
            <a:off x="7543800" y="2438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9"/>
          <p:cNvSpPr/>
          <p:nvPr/>
        </p:nvSpPr>
        <p:spPr>
          <a:xfrm>
            <a:off x="7621560" y="365760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0"/>
          <p:cNvSpPr/>
          <p:nvPr/>
        </p:nvSpPr>
        <p:spPr>
          <a:xfrm>
            <a:off x="7698600" y="5638680"/>
            <a:ext cx="4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1"/>
          <p:cNvSpPr/>
          <p:nvPr/>
        </p:nvSpPr>
        <p:spPr>
          <a:xfrm>
            <a:off x="7697520" y="601992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lowchart: Connector 32"/>
          <p:cNvSpPr/>
          <p:nvPr/>
        </p:nvSpPr>
        <p:spPr>
          <a:xfrm>
            <a:off x="4267080" y="3352680"/>
            <a:ext cx="152640" cy="15264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9"/>
          <p:cNvSpPr/>
          <p:nvPr/>
        </p:nvSpPr>
        <p:spPr>
          <a:xfrm>
            <a:off x="5804280" y="1066680"/>
            <a:ext cx="22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ose Curv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Title 1" descr=""/>
          <p:cNvPicPr/>
          <p:nvPr/>
        </p:nvPicPr>
        <p:blipFill>
          <a:blip r:embed="rId2"/>
          <a:stretch/>
        </p:blipFill>
        <p:spPr>
          <a:xfrm>
            <a:off x="244440" y="-36360"/>
            <a:ext cx="7461360" cy="1188720"/>
          </a:xfrm>
          <a:prstGeom prst="rect">
            <a:avLst/>
          </a:prstGeom>
          <a:ln w="0">
            <a:noFill/>
          </a:ln>
        </p:spPr>
      </p:pic>
      <p:sp>
        <p:nvSpPr>
          <p:cNvPr id="240" name="Flowchart: Connector 45"/>
          <p:cNvSpPr/>
          <p:nvPr/>
        </p:nvSpPr>
        <p:spPr>
          <a:xfrm>
            <a:off x="2438280" y="5257800"/>
            <a:ext cx="152640" cy="15228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lowchart: Connector 47"/>
          <p:cNvSpPr/>
          <p:nvPr/>
        </p:nvSpPr>
        <p:spPr>
          <a:xfrm>
            <a:off x="3124080" y="6781680"/>
            <a:ext cx="152640" cy="15264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lowchart: Connector 50"/>
          <p:cNvSpPr/>
          <p:nvPr/>
        </p:nvSpPr>
        <p:spPr>
          <a:xfrm>
            <a:off x="3809880" y="5257800"/>
            <a:ext cx="152640" cy="15228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lowchart: Connector 51"/>
          <p:cNvSpPr/>
          <p:nvPr/>
        </p:nvSpPr>
        <p:spPr>
          <a:xfrm>
            <a:off x="1981080" y="3352680"/>
            <a:ext cx="152640" cy="15264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lowchart: Connector 52"/>
          <p:cNvSpPr/>
          <p:nvPr/>
        </p:nvSpPr>
        <p:spPr>
          <a:xfrm>
            <a:off x="380880" y="4038480"/>
            <a:ext cx="152640" cy="15264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lowchart: Connector 53"/>
          <p:cNvSpPr/>
          <p:nvPr/>
        </p:nvSpPr>
        <p:spPr>
          <a:xfrm>
            <a:off x="1905120" y="4724280"/>
            <a:ext cx="152280" cy="15264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lowchart: Connector 54"/>
          <p:cNvSpPr/>
          <p:nvPr/>
        </p:nvSpPr>
        <p:spPr>
          <a:xfrm>
            <a:off x="3733920" y="2895480"/>
            <a:ext cx="152280" cy="15264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lowchart: Connector 55"/>
          <p:cNvSpPr/>
          <p:nvPr/>
        </p:nvSpPr>
        <p:spPr>
          <a:xfrm>
            <a:off x="3124080" y="1371600"/>
            <a:ext cx="152640" cy="15228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lowchart: Connector 56"/>
          <p:cNvSpPr/>
          <p:nvPr/>
        </p:nvSpPr>
        <p:spPr>
          <a:xfrm>
            <a:off x="2438280" y="2819520"/>
            <a:ext cx="152640" cy="15228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lowchart: Connector 57"/>
          <p:cNvSpPr/>
          <p:nvPr/>
        </p:nvSpPr>
        <p:spPr>
          <a:xfrm>
            <a:off x="4343400" y="4724280"/>
            <a:ext cx="152280" cy="15264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8"/>
          <p:cNvSpPr/>
          <p:nvPr/>
        </p:nvSpPr>
        <p:spPr>
          <a:xfrm>
            <a:off x="7698600" y="6458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lowchart: Connector 59"/>
          <p:cNvSpPr/>
          <p:nvPr/>
        </p:nvSpPr>
        <p:spPr>
          <a:xfrm>
            <a:off x="5791320" y="4038480"/>
            <a:ext cx="152280" cy="152640"/>
          </a:xfrm>
          <a:prstGeom prst="flowChartConnector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63"/>
          <p:cNvSpPr/>
          <p:nvPr/>
        </p:nvSpPr>
        <p:spPr>
          <a:xfrm>
            <a:off x="374760" y="1469880"/>
            <a:ext cx="5537160" cy="5361120"/>
          </a:xfrm>
          <a:prstGeom prst="pie">
            <a:avLst/>
          </a:prstGeom>
          <a:noFill/>
          <a:ln w="7632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0" y="1609200"/>
            <a:ext cx="7696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R = a cos b </a:t>
            </a:r>
            <a:r>
              <a:rPr b="1" lang="el-GR" sz="4000" spc="-1" strike="noStrike">
                <a:solidFill>
                  <a:srgbClr val="000000"/>
                </a:solidFill>
                <a:latin typeface="Constantia"/>
              </a:rPr>
              <a:t>θ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a, b are integer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a tells us the length of the “petal”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If b is odd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graph has b petal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If b is even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graph has 2b petal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9200"/>
            <a:ext cx="78487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Describe the graph of r = 10 sin 7</a:t>
            </a:r>
            <a:r>
              <a:rPr b="1" lang="el-GR" sz="3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 on the interval [0, 2</a:t>
            </a:r>
            <a:r>
              <a:rPr b="1" lang="el-GR" sz="36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Length of the petals are 10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There are 7 petal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It has 7 fold symmetry about the pole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wo types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iral of Archimedes: Constant distance between spiral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 = a</a:t>
            </a:r>
            <a:r>
              <a:rPr b="1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+ b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garithmic Spiral: Distance gets larger between spiral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 = 2</a:t>
            </a:r>
            <a:r>
              <a:rPr b="1" lang="el-GR" sz="3200" spc="-1" strike="noStrike" baseline="30000">
                <a:solidFill>
                  <a:srgbClr val="000000"/>
                </a:solidFill>
                <a:latin typeface="Trebuchet MS"/>
              </a:rPr>
              <a:t>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2"/>
          <a:stretch/>
        </p:blipFill>
        <p:spPr>
          <a:xfrm>
            <a:off x="838080" y="1506600"/>
            <a:ext cx="670572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Title 1" descr=""/>
          <p:cNvPicPr/>
          <p:nvPr/>
        </p:nvPicPr>
        <p:blipFill>
          <a:blip r:embed="rId1"/>
          <a:stretch/>
        </p:blipFill>
        <p:spPr>
          <a:xfrm>
            <a:off x="212760" y="-648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762120" y="1049400"/>
            <a:ext cx="659448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escribe the graph of r = 2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+ 3 when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0 ≤ 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≤ 2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ppears like the spiral of Archimed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tarts at [3,0]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ontains  [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+ 3, 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/2]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[2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+ 3, 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[3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+ 3, 3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/2]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[4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+ 3, 2</a:t>
            </a:r>
            <a:r>
              <a:rPr b="1" lang="el-GR" sz="28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15:27:41Z</dcterms:created>
  <dc:creator>Laura Helbing</dc:creator>
  <dc:description/>
  <dc:language>en-US</dc:language>
  <cp:lastModifiedBy>Laura Helbing</cp:lastModifiedBy>
  <dcterms:modified xsi:type="dcterms:W3CDTF">2011-02-18T14:34:09Z</dcterms:modified>
  <cp:revision>17</cp:revision>
  <dc:subject/>
  <dc:title>Slide 1</dc:title>
</cp:coreProperties>
</file>