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751-D699-4443-81E2-7B969B92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CBD-E19D-4C9D-A27F-3246DA3D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3F1-3B83-406B-80D6-0C8A7BB7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376-F89D-4B13-9D7E-BEEF8255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93F9-0649-4DF0-93E0-12276EA6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D806-2BEA-402D-8E8C-DE9930E7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669C-FD33-4667-B321-84CE7693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8C57-BD82-4649-96F5-14DE28BA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C058-D660-4952-944B-1A0FCB34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D52F-519B-493A-91E8-3D7A7227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FF44-776F-4306-8AE0-A765993A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9FA-65DF-4489-83F2-7CBE3194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4C81-37C3-4FA4-B84C-A2F921A6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C359-D1A2-41AA-9B38-114866FD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9DB6-A709-4F80-B2D4-DF675E0B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B53B-A9EC-4456-B309-BF23BF0A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0BC4-818F-4269-95D2-C240D940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DCEE-1933-42FA-BBB7-94A574B1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802B-1742-4614-BABD-C7250FDF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F32B-D362-4D3F-88B7-AB5ECEA9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8EE6D-A63F-44B0-9D52-6C23639E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3795-6256-4307-937D-4E4FDE8C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329-A6EB-4C59-9A53-1B3C2CDB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E068-229B-4B78-952A-6D227F4F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B1D99-74C9-4F09-9488-2ADE9AA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9E1A-8D1C-411E-917A-C71F57C9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2670C-8251-4D43-92E2-26349F32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FAE36-302F-439D-B025-4884B7B4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6C9E-97AF-491F-B035-1A8E96AD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CDC68-141B-4C84-91CC-AE449A4D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491A0-FACF-401A-AFF6-E9A51D04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05E55-FEE7-4D74-A9F7-C9E76D87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E6D5A-78F1-4EF1-B163-53B4E0D2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7AB-EB61-41BA-A96D-6FFCEE43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A1331-AA9B-44E9-9E08-93E510C5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7F004-96E3-4444-86FA-A0FE9816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D1E5-BEB6-4885-9102-8A6CAF83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D0152-917E-44A1-9094-924ABF2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1723D-5D6B-4AF2-BFFD-ED2FB064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9C1A5-88F1-41C3-84BB-1EA30351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9C09-87BA-4C63-85D7-C5C7F23C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2423E-E6E8-4393-A751-1426C646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1F3D-D7DA-4113-8CDC-CD23ABFB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024AE-4E4B-4899-85FD-60DA8B31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C5D-C758-4B21-A3BE-03D5F401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06C1B-993B-4699-8FD2-8BC4081B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34098-A982-4DD9-A732-FCA75750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0FD12-BDB8-48BA-BA1F-701C5A75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E5735-16EE-480F-A247-0E19DFCC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96CE8-F9D5-4DFB-A9DC-645A8071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9A9A0-DDDE-46EA-B824-2BA872CE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F7810-E4ED-4708-B2BE-14AD4729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06A06-180D-4F95-854B-98561DB8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E5B93-140F-4E27-BA92-C8660AC0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9668F-F17D-447A-AAF3-605C1154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002-006B-4F40-A2C5-F4123F82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4C6DA-9332-40CA-B2E2-C65515DF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961-883F-4587-9472-AA8FDE32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41C-5DA3-4CD8-888F-FDB0B5C5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735-3324-4496-B963-6A5333BD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A63F-0D35-4496-B8D6-B6F474A3A7D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9537-6DD7-4CD8-BE66-282E61E3648D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97CE-2134-4535-A2EE-926FB114DA4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0A00-FC40-4FD9-8B69-0BF06C2F3E19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475B-F864-4F81-A57C-2017CC3CA2D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8.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rebuchet MS"/>
              </a:rPr>
              <a:t>Pages 491 – 492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rebuchet MS"/>
              </a:rPr>
              <a:t>5 - 9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Graph r = sin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r = sin (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/2).  How is the second graph related to the firs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raph r = (sin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/4).  How is this graph related to the graph of sin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 general, a graph described in a sentence, r =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rotates the graph counterclockwise by a magnitude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φ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1390680"/>
            <a:ext cx="5467320" cy="546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400800" y="1676520"/>
          <a:ext cx="2133720" cy="512604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7"/>
          <p:cNvSpPr/>
          <p:nvPr/>
        </p:nvSpPr>
        <p:spPr>
          <a:xfrm>
            <a:off x="7621560" y="205740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7620120" y="2819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7698600" y="327672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769860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7697520" y="441972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7698600" y="480060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8"/>
          <p:cNvSpPr/>
          <p:nvPr/>
        </p:nvSpPr>
        <p:spPr>
          <a:xfrm>
            <a:off x="7624080" y="52578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8"/>
          <p:cNvSpPr/>
          <p:nvPr/>
        </p:nvSpPr>
        <p:spPr>
          <a:xfrm>
            <a:off x="7543800" y="2438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9"/>
          <p:cNvSpPr/>
          <p:nvPr/>
        </p:nvSpPr>
        <p:spPr>
          <a:xfrm>
            <a:off x="7621560" y="365760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0"/>
          <p:cNvSpPr/>
          <p:nvPr/>
        </p:nvSpPr>
        <p:spPr>
          <a:xfrm>
            <a:off x="7698600" y="563868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1"/>
          <p:cNvSpPr/>
          <p:nvPr/>
        </p:nvSpPr>
        <p:spPr>
          <a:xfrm>
            <a:off x="7697520" y="601992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lowchart: Connector 32"/>
          <p:cNvSpPr/>
          <p:nvPr/>
        </p:nvSpPr>
        <p:spPr>
          <a:xfrm>
            <a:off x="4267080" y="33526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9"/>
          <p:cNvSpPr/>
          <p:nvPr/>
        </p:nvSpPr>
        <p:spPr>
          <a:xfrm>
            <a:off x="5804280" y="106668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ose Cur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Title 1" descr=""/>
          <p:cNvPicPr/>
          <p:nvPr/>
        </p:nvPicPr>
        <p:blipFill>
          <a:blip r:embed="rId2"/>
          <a:stretch/>
        </p:blipFill>
        <p:spPr>
          <a:xfrm>
            <a:off x="244440" y="-36360"/>
            <a:ext cx="7461360" cy="1188720"/>
          </a:xfrm>
          <a:prstGeom prst="rect">
            <a:avLst/>
          </a:prstGeom>
          <a:ln w="0">
            <a:noFill/>
          </a:ln>
        </p:spPr>
      </p:pic>
      <p:sp>
        <p:nvSpPr>
          <p:cNvPr id="240" name="Flowchart: Connector 45"/>
          <p:cNvSpPr/>
          <p:nvPr/>
        </p:nvSpPr>
        <p:spPr>
          <a:xfrm>
            <a:off x="2438280" y="525780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lowchart: Connector 47"/>
          <p:cNvSpPr/>
          <p:nvPr/>
        </p:nvSpPr>
        <p:spPr>
          <a:xfrm>
            <a:off x="3124080" y="67816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owchart: Connector 50"/>
          <p:cNvSpPr/>
          <p:nvPr/>
        </p:nvSpPr>
        <p:spPr>
          <a:xfrm>
            <a:off x="3809880" y="525780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owchart: Connector 51"/>
          <p:cNvSpPr/>
          <p:nvPr/>
        </p:nvSpPr>
        <p:spPr>
          <a:xfrm>
            <a:off x="1981080" y="33526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lowchart: Connector 52"/>
          <p:cNvSpPr/>
          <p:nvPr/>
        </p:nvSpPr>
        <p:spPr>
          <a:xfrm>
            <a:off x="380880" y="40384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lowchart: Connector 53"/>
          <p:cNvSpPr/>
          <p:nvPr/>
        </p:nvSpPr>
        <p:spPr>
          <a:xfrm>
            <a:off x="1905120" y="47242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owchart: Connector 54"/>
          <p:cNvSpPr/>
          <p:nvPr/>
        </p:nvSpPr>
        <p:spPr>
          <a:xfrm>
            <a:off x="3733920" y="28954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owchart: Connector 55"/>
          <p:cNvSpPr/>
          <p:nvPr/>
        </p:nvSpPr>
        <p:spPr>
          <a:xfrm>
            <a:off x="3124080" y="137160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lowchart: Connector 56"/>
          <p:cNvSpPr/>
          <p:nvPr/>
        </p:nvSpPr>
        <p:spPr>
          <a:xfrm>
            <a:off x="2438280" y="281952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lowchart: Connector 57"/>
          <p:cNvSpPr/>
          <p:nvPr/>
        </p:nvSpPr>
        <p:spPr>
          <a:xfrm>
            <a:off x="4343400" y="47242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8"/>
          <p:cNvSpPr/>
          <p:nvPr/>
        </p:nvSpPr>
        <p:spPr>
          <a:xfrm>
            <a:off x="7698600" y="645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owchart: Connector 59"/>
          <p:cNvSpPr/>
          <p:nvPr/>
        </p:nvSpPr>
        <p:spPr>
          <a:xfrm>
            <a:off x="5791320" y="40384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63"/>
          <p:cNvSpPr/>
          <p:nvPr/>
        </p:nvSpPr>
        <p:spPr>
          <a:xfrm>
            <a:off x="374760" y="1469880"/>
            <a:ext cx="5537160" cy="5361120"/>
          </a:xfrm>
          <a:prstGeom prst="pie">
            <a:avLst/>
          </a:prstGeom>
          <a:noFill/>
          <a:ln w="7632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R = a cos b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, b are integer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 tells us the length of the “petal”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f b is odd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graph has b pet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f b is even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graph has 2b pet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848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escribe the graph of r = 10 sin 7</a:t>
            </a:r>
            <a:r>
              <a:rPr b="1" lang="el-GR" sz="3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on the interval [0, 2</a:t>
            </a:r>
            <a:r>
              <a:rPr b="1" lang="el-GR" sz="3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ength of the petals are 10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here are 7 pet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t has 7 fold symmetry about the pol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wo types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iral of Archimedes: Constant distance between spir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 = a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+ 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garithmic Spiral: Distance gets larger between spir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 = 2</a:t>
            </a:r>
            <a:r>
              <a:rPr b="1" lang="el-GR" sz="3200" spc="-1" strike="noStrike" baseline="30000">
                <a:solidFill>
                  <a:srgbClr val="000000"/>
                </a:solidFill>
                <a:latin typeface="Trebuchet MS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838080" y="1506600"/>
            <a:ext cx="670572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762120" y="1049400"/>
            <a:ext cx="659448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scribe the graph of r = 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 whe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0 ≤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≤ 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ppears like the spiral of Archimed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rts at [3,0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ontains  [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,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/2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,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3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, 3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/2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4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+ 3, 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5:27:41Z</dcterms:created>
  <dc:creator>Laura Helbing</dc:creator>
  <dc:description/>
  <dc:language>en-US</dc:language>
  <cp:lastModifiedBy>Laura Helbing</cp:lastModifiedBy>
  <dcterms:modified xsi:type="dcterms:W3CDTF">2011-02-18T14:34:09Z</dcterms:modified>
  <cp:revision>17</cp:revision>
  <dc:subject/>
  <dc:title>Slide 1</dc:title>
</cp:coreProperties>
</file>