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354-6E45-42DE-8D60-DC1D8D14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4B0-40F4-4B67-8244-A5CC32EA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4695-ED3E-4ECA-919F-DF3CAE6B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D4F-9CC5-4894-9B7A-C9F8932D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5818-0217-46AE-8D54-D2F95C82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3DA6-249D-4074-AB78-B99A234D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FC6A-0AC3-4700-A22F-1582CE8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8531-C7E0-4FF2-AAB4-20063A72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4A3-3AFE-43BF-93C9-8F6474D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18F3-133C-4A41-BB0B-8AED522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5C9C-2CD9-4F32-A4A7-EFBF880A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A34F-EB7F-4F1B-B839-60E6AFD7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D842-809F-4C47-953D-CDF23B9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8AA6-88E9-47DF-97FB-2E41F9E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BE5E-74CE-4176-BE7B-F5E81F1E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3AA-1800-44F2-A43E-829A747D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0244-BAF7-42C2-ADB7-935B05FF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6F74-D521-411B-BF67-B848CE57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19502-E750-454A-96BC-4F8CC9A0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C060-2AFF-43D7-AC64-9716CD26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844A6-8056-436A-BBFA-6153F94E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1A0D-D4F0-4BA3-B8A8-3820E17E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CA1-1862-4781-A30D-983734F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7A5DE-A417-453C-94F6-099B80C9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1621A-1EE1-4237-A75F-D6751D9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B73D-7C99-40FC-86F4-82B7D183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12A82-1F1B-4670-A359-61FB2E5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C6D4-F310-4851-A7FB-AF46BA7C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7486-03F0-4B11-B22E-7BF18D7D9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CAFB-CF0B-4A27-A3EC-F5403D43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15AE4-88E2-4549-9CAC-4A3B3D1E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D9FD-4975-4880-A5A6-42A368B2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6530-0284-4071-BE14-72542106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F79-9DCD-4ED9-B3BA-50FEFDB6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9EFBD-1DEC-4DC0-8935-F83967D9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9C3F-BA5E-4442-879C-0FAE4CF3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F6B9A-F9F2-4539-8D35-823282C0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86FC5-35CD-418E-87A2-B9F724B9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16D6-FC4E-44DE-9C97-8DFF8E5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4D6E-07DA-4336-9498-01EAA63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E232-25D3-4CDC-B891-CF07F08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0238-3041-4FFD-8CE0-34EEB763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37318-DD5B-4500-BEC8-EA0DAECE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622C8-827B-44AB-92C7-6B61D92C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2969-70E9-4542-805F-BA2F87C7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D0789-8C63-4754-98A8-915701E6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ECCD-7994-407A-A7BD-CB971FF5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0863-7920-4A3D-8E7F-93B5C0F9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26A40-494D-4E8B-B203-6EFC17E1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196D-A47D-4BF7-8429-B7B0462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7B69-5737-41CD-800B-AB222D1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F948-2785-4643-ACCE-1B931BA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0B01-1E34-4209-9397-387CA3D4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EA578-76AA-49D5-A9B7-EE7A7FAA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946F8-9897-420B-870D-5B780073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F0F-D1AA-4B5B-9D54-5FA0F7D7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5EC7-AB1D-4842-A92E-F0779986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E95-C86D-4584-9F13-4FF8B5D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7C0-B783-4DA3-8E02-09225A9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945-1050-4F0C-985B-7F40F4D9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DE9E-1F67-4BAE-9285-0C8CC8CCA54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881-EF4D-43CE-9D3A-3B4C3A1218D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08AB-2A4E-403A-A7F7-D020968BE44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E41-4A1E-4AD6-AC01-48DFACFAD897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582-9705-4AD1-ABC8-D4868CA046C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8.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Pages 491 – 492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5 - 9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raph r =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r = sin (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2).  How is the second graph related to the fir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aph r = (sin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4).  How is this graph related to the graph of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general, a graph described in a sentence, r =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rotates the graph counterclockwise by a magnitude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1390680"/>
            <a:ext cx="5467320" cy="546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400800" y="1676520"/>
          <a:ext cx="2133720" cy="512604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7"/>
          <p:cNvSpPr/>
          <p:nvPr/>
        </p:nvSpPr>
        <p:spPr>
          <a:xfrm>
            <a:off x="7621560" y="20574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6201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7698600" y="32767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7697520" y="44197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7698600" y="48006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762408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8"/>
          <p:cNvSpPr/>
          <p:nvPr/>
        </p:nvSpPr>
        <p:spPr>
          <a:xfrm>
            <a:off x="75438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9"/>
          <p:cNvSpPr/>
          <p:nvPr/>
        </p:nvSpPr>
        <p:spPr>
          <a:xfrm>
            <a:off x="7621560" y="36576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7698600" y="563868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697520" y="60199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Connector 32"/>
          <p:cNvSpPr/>
          <p:nvPr/>
        </p:nvSpPr>
        <p:spPr>
          <a:xfrm>
            <a:off x="4267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9"/>
          <p:cNvSpPr/>
          <p:nvPr/>
        </p:nvSpPr>
        <p:spPr>
          <a:xfrm>
            <a:off x="5804280" y="106668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ose Cur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Title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7461360" cy="1188720"/>
          </a:xfrm>
          <a:prstGeom prst="rect">
            <a:avLst/>
          </a:prstGeom>
          <a:ln w="0">
            <a:noFill/>
          </a:ln>
        </p:spPr>
      </p:pic>
      <p:sp>
        <p:nvSpPr>
          <p:cNvPr id="240" name="Flowchart: Connector 45"/>
          <p:cNvSpPr/>
          <p:nvPr/>
        </p:nvSpPr>
        <p:spPr>
          <a:xfrm>
            <a:off x="24382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Connector 47"/>
          <p:cNvSpPr/>
          <p:nvPr/>
        </p:nvSpPr>
        <p:spPr>
          <a:xfrm>
            <a:off x="3124080" y="6781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Connector 50"/>
          <p:cNvSpPr/>
          <p:nvPr/>
        </p:nvSpPr>
        <p:spPr>
          <a:xfrm>
            <a:off x="38098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Connector 51"/>
          <p:cNvSpPr/>
          <p:nvPr/>
        </p:nvSpPr>
        <p:spPr>
          <a:xfrm>
            <a:off x="1981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owchart: Connector 52"/>
          <p:cNvSpPr/>
          <p:nvPr/>
        </p:nvSpPr>
        <p:spPr>
          <a:xfrm>
            <a:off x="380880" y="40384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53"/>
          <p:cNvSpPr/>
          <p:nvPr/>
        </p:nvSpPr>
        <p:spPr>
          <a:xfrm>
            <a:off x="190512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54"/>
          <p:cNvSpPr/>
          <p:nvPr/>
        </p:nvSpPr>
        <p:spPr>
          <a:xfrm>
            <a:off x="3733920" y="2895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55"/>
          <p:cNvSpPr/>
          <p:nvPr/>
        </p:nvSpPr>
        <p:spPr>
          <a:xfrm>
            <a:off x="3124080" y="13716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Connector 56"/>
          <p:cNvSpPr/>
          <p:nvPr/>
        </p:nvSpPr>
        <p:spPr>
          <a:xfrm>
            <a:off x="2438280" y="281952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Connector 57"/>
          <p:cNvSpPr/>
          <p:nvPr/>
        </p:nvSpPr>
        <p:spPr>
          <a:xfrm>
            <a:off x="434340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8"/>
          <p:cNvSpPr/>
          <p:nvPr/>
        </p:nvSpPr>
        <p:spPr>
          <a:xfrm>
            <a:off x="7698600" y="645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Connector 59"/>
          <p:cNvSpPr/>
          <p:nvPr/>
        </p:nvSpPr>
        <p:spPr>
          <a:xfrm>
            <a:off x="5791320" y="4038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3"/>
          <p:cNvSpPr/>
          <p:nvPr/>
        </p:nvSpPr>
        <p:spPr>
          <a:xfrm>
            <a:off x="374760" y="1469880"/>
            <a:ext cx="5537160" cy="5361120"/>
          </a:xfrm>
          <a:prstGeom prst="pie">
            <a:avLst/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 = a cos b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, b are intege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 tells us the length of the “petal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odd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even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2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escribe the graph of r = 10 sin 7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on the interval [0, 2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ength of the petals are 10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re are 7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t has 7 fold symmetry about the pol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wo types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iral of Archimedes: Constant distance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a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garithmic Spiral: Distance gets larger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2</a:t>
            </a:r>
            <a:r>
              <a:rPr b="1" lang="el-GR" sz="3200" spc="-1" strike="noStrike" baseline="30000">
                <a:solidFill>
                  <a:srgbClr val="000000"/>
                </a:solidFill>
                <a:latin typeface="Trebuchet MS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838080" y="1506600"/>
            <a:ext cx="67057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62120" y="1049400"/>
            <a:ext cx="65944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cribe the graph of r =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 whe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0 ≤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≤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ppears like the spiral of Archime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rts at [3,0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tains  [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4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+ 3,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5:27:41Z</dcterms:created>
  <dc:creator>Laura Helbing</dc:creator>
  <dc:description/>
  <dc:language>en-US</dc:language>
  <cp:lastModifiedBy>Laura Helbing</cp:lastModifiedBy>
  <dcterms:modified xsi:type="dcterms:W3CDTF">2011-02-18T14:34:09Z</dcterms:modified>
  <cp:revision>17</cp:revision>
  <dc:subject/>
  <dc:title>Slide 1</dc:title>
</cp:coreProperties>
</file>