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29D-3630-4F66-9983-4604BCC6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D6E-128C-4DE0-A57E-073C7E5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7C8-9F0C-4B07-BED1-CEF43586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E03-3857-4392-ACC9-720B895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1228-D8A2-4B95-B304-EA7CB907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1D2-BE58-47A6-85B7-BB0F078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D43-AB6C-4A21-9545-28D93F8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82E1-0F6F-41EB-AD59-621CBB7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CA2-D0B6-4E07-9B00-A4793A8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8B95-CBBC-4425-94EA-AE86A2D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059-9B6A-4E5D-8472-D72378B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51F-A4AD-4CEE-AE1F-285D5DA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8B74-5C2B-481C-9E18-61D7FC8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9CD-A5D0-4822-BC99-68EC4B4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A01E-42BC-464E-837D-EC5964C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569-9B78-4E4A-92E7-8BACC826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EF41-E3F1-46EB-A64D-2BD9ED75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EFE2-DE1C-4CB0-B6B3-22FD196C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4129-2F17-459E-925C-9623887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1143-729B-41E5-81F5-34F09533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8345-BDA3-458A-8B80-A2520B2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AF45-369C-46DF-92CF-AD95295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B9D-5DF6-4B0F-9B1B-2F04C09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BAB3-9499-432F-9912-A819CF1B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A632-F0FF-4D4E-B0A9-3921E98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582C-D051-4BAF-A566-D4BD7D1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ECD0-E5B3-4710-911D-A67BE07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73BE-CB04-41D9-8D18-2E80D86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689E-D1DC-48FF-B0B4-FEB4FC5C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92B4-4D16-4678-8939-4460E660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4D0C-CC12-48EF-8936-59166B1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7931-F533-4EF0-AECB-45B2BF39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E8B1-0AB0-4A63-B3DF-13E2F0A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2B0-30D1-42A9-BE66-9731C2D0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6C86-2673-4C1E-B6C6-12C203B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28E7-4EC5-4AA0-BCB7-CFEDF647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C8DE-1C65-40FA-81BA-DDE5E90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1C8F-A5FF-4A92-BA87-2F74862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471A-7373-4806-957B-2108082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CC7B-7C23-4DDD-9436-53CE4C4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3365-28A7-4BF1-8B36-5F366CFC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0A78-2AC0-4DD2-9CD4-3E942913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CDBA-8369-4F81-A938-FFB9B29C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654A-A778-4534-8E9D-48BA50A5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1C9-D375-4EE2-A4A7-8B3067B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D586-4D3C-4E8E-AB88-C20BB1AB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19EA-EA89-4094-88C7-0AF47AA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35A0-81F7-400F-A740-AB494F6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1BE9-9F4B-4951-BD59-428A60E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D4B2-DDC7-4480-942A-18040066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0FB7-627A-427A-B1D2-27513A2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C77E2-3DA0-4413-A4BC-0C711B5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9432-DFD8-476B-8A83-100EE25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4026-9A4F-465E-B6D1-E589E6A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A08B-8535-47E3-A265-E5A46A33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F35-C1E0-45A0-9C67-7E04FFB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041B-03C9-474E-A50A-118EC6D3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9A8-D72B-4523-B7B8-CC80E55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F5F-6173-4D5E-9F18-128D466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545-22A7-4B74-8828-49C5394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ABB-8FF7-40BF-8127-C7F40F1E78D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41C-E93E-4D4B-BF72-9AE0C89EA8B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456A-738E-4680-9FAF-5F428C31621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468-9911-4B84-A258-DB65C0BCBC35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82B6-56ED-4BFC-8A61-4B54B81B538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8.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Pages 491 – 492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5 - 9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raph r =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r = sin (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2).  How is the second graph related to the fir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aph r = (sin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4).  How is this graph related to the graph of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general, a graph described in a sentence, r =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rotates the graph counterclockwise by a magnitude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5467320" cy="54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400800" y="1676520"/>
          <a:ext cx="2133720" cy="5126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7"/>
          <p:cNvSpPr/>
          <p:nvPr/>
        </p:nvSpPr>
        <p:spPr>
          <a:xfrm>
            <a:off x="7621560" y="20574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201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7698600" y="32767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7697520" y="44197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7698600" y="48006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2408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8"/>
          <p:cNvSpPr/>
          <p:nvPr/>
        </p:nvSpPr>
        <p:spPr>
          <a:xfrm>
            <a:off x="7543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7621560" y="36576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7698600" y="563868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697520" y="6019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32"/>
          <p:cNvSpPr/>
          <p:nvPr/>
        </p:nvSpPr>
        <p:spPr>
          <a:xfrm>
            <a:off x="4267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9"/>
          <p:cNvSpPr/>
          <p:nvPr/>
        </p:nvSpPr>
        <p:spPr>
          <a:xfrm>
            <a:off x="5804280" y="106668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ose Cur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Title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7461360" cy="1188720"/>
          </a:xfrm>
          <a:prstGeom prst="rect">
            <a:avLst/>
          </a:prstGeom>
          <a:ln w="0">
            <a:noFill/>
          </a:ln>
        </p:spPr>
      </p:pic>
      <p:sp>
        <p:nvSpPr>
          <p:cNvPr id="240" name="Flowchart: Connector 45"/>
          <p:cNvSpPr/>
          <p:nvPr/>
        </p:nvSpPr>
        <p:spPr>
          <a:xfrm>
            <a:off x="24382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47"/>
          <p:cNvSpPr/>
          <p:nvPr/>
        </p:nvSpPr>
        <p:spPr>
          <a:xfrm>
            <a:off x="3124080" y="6781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50"/>
          <p:cNvSpPr/>
          <p:nvPr/>
        </p:nvSpPr>
        <p:spPr>
          <a:xfrm>
            <a:off x="38098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51"/>
          <p:cNvSpPr/>
          <p:nvPr/>
        </p:nvSpPr>
        <p:spPr>
          <a:xfrm>
            <a:off x="1981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52"/>
          <p:cNvSpPr/>
          <p:nvPr/>
        </p:nvSpPr>
        <p:spPr>
          <a:xfrm>
            <a:off x="380880" y="40384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53"/>
          <p:cNvSpPr/>
          <p:nvPr/>
        </p:nvSpPr>
        <p:spPr>
          <a:xfrm>
            <a:off x="190512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54"/>
          <p:cNvSpPr/>
          <p:nvPr/>
        </p:nvSpPr>
        <p:spPr>
          <a:xfrm>
            <a:off x="3733920" y="2895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55"/>
          <p:cNvSpPr/>
          <p:nvPr/>
        </p:nvSpPr>
        <p:spPr>
          <a:xfrm>
            <a:off x="3124080" y="13716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56"/>
          <p:cNvSpPr/>
          <p:nvPr/>
        </p:nvSpPr>
        <p:spPr>
          <a:xfrm>
            <a:off x="2438280" y="281952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57"/>
          <p:cNvSpPr/>
          <p:nvPr/>
        </p:nvSpPr>
        <p:spPr>
          <a:xfrm>
            <a:off x="434340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8"/>
          <p:cNvSpPr/>
          <p:nvPr/>
        </p:nvSpPr>
        <p:spPr>
          <a:xfrm>
            <a:off x="7698600" y="645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Connector 59"/>
          <p:cNvSpPr/>
          <p:nvPr/>
        </p:nvSpPr>
        <p:spPr>
          <a:xfrm>
            <a:off x="5791320" y="4038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3"/>
          <p:cNvSpPr/>
          <p:nvPr/>
        </p:nvSpPr>
        <p:spPr>
          <a:xfrm>
            <a:off x="374760" y="1469880"/>
            <a:ext cx="5537160" cy="5361120"/>
          </a:xfrm>
          <a:prstGeom prst="pie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 = a cos b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, b are intege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 tells us the length of the “petal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od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even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2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escribe the graph of r = 10 sin 7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on the interval [0, 2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ength of the petals are 10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re are 7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t has 7 fold symmetry about the pol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iral of Archimedes: Constant distance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a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garithmic Spiral: Distance gets larger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2</a:t>
            </a:r>
            <a:r>
              <a:rPr b="1" lang="el-GR" sz="3200" spc="-1" strike="noStrike" baseline="30000">
                <a:solidFill>
                  <a:srgbClr val="000000"/>
                </a:solidFill>
                <a:latin typeface="Trebuchet MS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38080" y="1506600"/>
            <a:ext cx="67057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2120" y="1049400"/>
            <a:ext cx="659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cribe the graph of r =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 wh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0 ≤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≤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ppears like the spiral of Archim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rts at [3,0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ains  [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4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+ 3,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5:27:41Z</dcterms:created>
  <dc:creator>Laura Helbing</dc:creator>
  <dc:description/>
  <dc:language>en-US</dc:language>
  <cp:lastModifiedBy>Laura Helbing</cp:lastModifiedBy>
  <dcterms:modified xsi:type="dcterms:W3CDTF">2011-02-18T14:34:09Z</dcterms:modified>
  <cp:revision>17</cp:revision>
  <dc:subject/>
  <dc:title>Slide 1</dc:title>
</cp:coreProperties>
</file>