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0E4-0A68-483A-A125-A6F11C39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7F1-1AAA-4AD4-B153-E0209920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F03-EF35-40B1-9138-6BFBAF7E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F24-8B2E-46FA-B4E1-88603751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9EF-145C-4E41-887A-07FF29A8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C5C-20C0-4E3C-8ADD-DFED4089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59C-CFBF-42F6-B39E-66B4495E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17A-F2E3-4E41-A98F-1AE85BCF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59D-2EBA-4297-AAB9-DE8F3492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E23-0582-44F8-8559-A8EB9EF8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13B-395C-4388-BAFA-D228C483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94F-5C61-4D75-8F8C-5BC78A4D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C10E-2F5E-4D1D-A120-42AEBEB83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04040"/>
                </a:solidFill>
                <a:latin typeface="Calibri"/>
              </a:rPr>
              <a:t>Roots of Complex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046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Section 9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404040"/>
                </a:solidFill>
                <a:latin typeface="Calibri"/>
              </a:rPr>
              <a:t>Pages 539 – 54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404040"/>
                </a:solidFill>
                <a:latin typeface="Calibri"/>
              </a:rPr>
              <a:t>2, 4 – 10, 1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n</a:t>
            </a:r>
            <a:r>
              <a:rPr b="0" lang="fr-CA" sz="44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 r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71840" y="1600200"/>
            <a:ext cx="611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If z and w are complex numbers and if n ≥ 2 is an integer, then z is an nth root of w iff z</a:t>
            </a:r>
            <a:r>
              <a:rPr b="1" lang="fr-FR" sz="4400" spc="-1" strike="noStrike" baseline="30000">
                <a:solidFill>
                  <a:srgbClr val="404040"/>
                </a:solidFill>
                <a:latin typeface="Calibri"/>
              </a:rPr>
              <a:t>n </a:t>
            </a: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= 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rite the 3 cube roots of 1331 in trigonometric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irst, z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133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z = [r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by De Moivre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[r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3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 = [1331, 0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1331      so, r =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0 + 2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or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0 + 2/3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0 + 2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or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0 + 2/3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o, we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11, 0]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11 (cos (0) + isin (o))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 11, 2/3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11 (cos (2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3)+ isin (2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3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11, 4/3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11 (cos (4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3)+ isin (4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3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n</a:t>
            </a:r>
            <a:r>
              <a:rPr b="0" lang="fr-CA" sz="40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 root of complex numbers theor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71840" y="1599840"/>
            <a:ext cx="611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404040"/>
                </a:solidFill>
                <a:latin typeface="Calibri"/>
              </a:rPr>
              <a:t>The n nth roots of [r, </a:t>
            </a:r>
            <a:r>
              <a:rPr b="0" lang="el-GR" sz="3000" spc="-1" strike="noStrike">
                <a:solidFill>
                  <a:srgbClr val="404040"/>
                </a:solidFill>
                <a:latin typeface="Constantia"/>
              </a:rPr>
              <a:t>θ</a:t>
            </a: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] ar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where k = 0, 1, 2, .., n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The n nth roots of r(cos </a:t>
            </a:r>
            <a:r>
              <a:rPr b="0" lang="el-GR" sz="3000" spc="-1" strike="noStrike">
                <a:solidFill>
                  <a:srgbClr val="404040"/>
                </a:solidFill>
                <a:latin typeface="Constantia"/>
              </a:rPr>
              <a:t>θ</a:t>
            </a: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 + isin </a:t>
            </a:r>
            <a:r>
              <a:rPr b="0" lang="el-GR" sz="3000" spc="-1" strike="noStrike">
                <a:solidFill>
                  <a:srgbClr val="404040"/>
                </a:solidFill>
                <a:latin typeface="Constantia"/>
              </a:rPr>
              <a:t>θ</a:t>
            </a: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Where k = 0, 1, 2, …, n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3657600" y="2133720"/>
                <a:ext cx="31352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r</m:t>
                        </m:r>
                      </m:e>
                    </m:rad>
                    <m:r>
                      <m:t xml:space="preserve">,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3"/>
              <p:cNvSpPr txBox="1"/>
              <p:nvPr/>
            </p:nvSpPr>
            <p:spPr>
              <a:xfrm>
                <a:off x="2819520" y="4648320"/>
                <a:ext cx="5398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r</m:t>
                        </m:r>
                      </m:e>
                    </m:ra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90360"/>
            <a:ext cx="822960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the sixth roots of [729, 60˚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th roots of complex numbers the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3, 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˚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2133720" y="2819520"/>
                <a:ext cx="39686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729</m:t>
                        </m:r>
                      </m:e>
                    </m:rad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Box 7"/>
          <p:cNvSpPr/>
          <p:nvPr/>
        </p:nvSpPr>
        <p:spPr>
          <a:xfrm>
            <a:off x="1828800" y="4495680"/>
            <a:ext cx="152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7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905120" y="593424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25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3733920" y="449568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13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638680" y="464832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19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4648320" y="593424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3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xpress the square roots of i in polar, trigonometric, and binom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ectangular:  (0,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olar: [1,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2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quare roots in pola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4343400" y="3733920"/>
                <a:ext cx="36511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,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1611360" y="4876920"/>
                <a:ext cx="11905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276720" y="5029200"/>
                <a:ext cx="14284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trigonometri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binomia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trigonometri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binomi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8"/>
              <p:cNvSpPr txBox="1"/>
              <p:nvPr/>
            </p:nvSpPr>
            <p:spPr>
              <a:xfrm>
                <a:off x="228600" y="1447920"/>
                <a:ext cx="11905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0"/>
              <p:cNvSpPr txBox="1"/>
              <p:nvPr/>
            </p:nvSpPr>
            <p:spPr>
              <a:xfrm>
                <a:off x="0" y="3809880"/>
                <a:ext cx="14288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4495680" y="1371600"/>
                <a:ext cx="421344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2666880" y="2666880"/>
                <a:ext cx="214632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4343400" y="3886200"/>
                <a:ext cx="468144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2511360" y="5334120"/>
                <a:ext cx="245916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ere are exactly two real nth roots of a positive number if n is even and exactly one real nth root if n is odd.  The other nth roots are vertices of a regular n-gon centered at the orig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: z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51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at figure does this m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ow many real and nonreal solutions does this m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3145680" y="3505320"/>
            <a:ext cx="40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pent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3898800" y="548640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real: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1914480" y="556272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l: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1:41:48Z</dcterms:created>
  <dc:creator>Laura Helbing</dc:creator>
  <dc:description/>
  <dc:language>en-US</dc:language>
  <cp:lastModifiedBy>Laura Helbing</cp:lastModifiedBy>
  <dcterms:modified xsi:type="dcterms:W3CDTF">2011-03-25T12:57:41Z</dcterms:modified>
  <cp:revision>34</cp:revision>
  <dc:subject/>
  <dc:title>Roots of Complex Numbers</dc:title>
</cp:coreProperties>
</file>