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E910-AE1F-4E76-9250-6831A90F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9E8-77C0-4FC7-A0A9-DFEE88D0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814-80A3-4AC5-8D0D-DF6120B9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C35-DB3B-461E-B45B-7325168A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10B-21A1-4076-ABCC-C8D2AD8A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E5D-D186-4040-B461-3B2E5279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0E8-8C09-4D88-9EFE-A672A48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614-F720-40E1-9DBF-47C6CB20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48A-CC47-4063-8044-82FFC648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24C-7078-47FD-9EBD-4CE429C5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EAC-DD90-4323-9BD7-08F344C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92E-08CB-4091-A2B3-74B5F92F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99AA-5B79-47DF-BE42-D23C571C7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404040"/>
                </a:solidFill>
                <a:latin typeface="Calibri"/>
              </a:rPr>
              <a:t>Roots of Complex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04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Section 9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404040"/>
                </a:solidFill>
                <a:latin typeface="Calibri"/>
              </a:rPr>
              <a:t>Pages 539 – 540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404040"/>
                </a:solidFill>
                <a:latin typeface="Calibri"/>
              </a:rPr>
              <a:t>2, 4 – 10, 1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 r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71840" y="1600200"/>
            <a:ext cx="611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If z and w are complex numbers and if n ≥ 2 is an integer, then z is an nth root of w iff z</a:t>
            </a:r>
            <a:r>
              <a:rPr b="1" lang="fr-FR" sz="4400" spc="-1" strike="noStrike" baseline="30000">
                <a:solidFill>
                  <a:srgbClr val="404040"/>
                </a:solidFill>
                <a:latin typeface="Calibri"/>
              </a:rPr>
              <a:t>n </a:t>
            </a:r>
            <a:r>
              <a:rPr b="1" lang="fr-FR" sz="4400" spc="-1" strike="noStrike">
                <a:solidFill>
                  <a:srgbClr val="404040"/>
                </a:solidFill>
                <a:latin typeface="Calibri"/>
              </a:rPr>
              <a:t>= 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rite the 3 cube roots of 1331 in trigonometric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irst, 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133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z = [r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by De Moivre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[r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 = [1331, 0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1331      so, r =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or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/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     or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= 0 + 2/3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o, we h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11, 0]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 11 (cos (0) + isin (o))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 11, 2/3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 (cos (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+ isin (2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11, 4/3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11 (cos (4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+ isin (4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3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n</a:t>
            </a:r>
            <a:r>
              <a:rPr b="0" lang="fr-CA" sz="4000" spc="-1" strike="noStrike" baseline="30000">
                <a:solidFill>
                  <a:srgbClr val="404040"/>
                </a:solidFill>
                <a:latin typeface="Calibri"/>
              </a:rPr>
              <a:t>th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 root of complex numbers theor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71840" y="1599840"/>
            <a:ext cx="6114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404040"/>
                </a:solidFill>
                <a:latin typeface="Calibri"/>
              </a:rPr>
              <a:t>The n nth roots of [r,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] ar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where k = 0, 1, 2, .., n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The n nth roots of r(cos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 + isin </a:t>
            </a:r>
            <a:r>
              <a:rPr b="0" lang="el-GR" sz="3000" spc="-1" strike="noStrike">
                <a:solidFill>
                  <a:srgbClr val="404040"/>
                </a:solidFill>
                <a:latin typeface="Constantia"/>
              </a:rPr>
              <a:t>θ</a:t>
            </a: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Where k = 0, 1, 2, …, n-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3657600" y="2133720"/>
                <a:ext cx="31352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2819520" y="4648320"/>
                <a:ext cx="5398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r</m:t>
                        </m:r>
                      </m:e>
                    </m:ra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9036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the sixth roots of [729, 60˚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th roots of complex numbers the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[3, 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˚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2133720" y="2819520"/>
                <a:ext cx="39686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6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729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Box 7"/>
          <p:cNvSpPr/>
          <p:nvPr/>
        </p:nvSpPr>
        <p:spPr>
          <a:xfrm>
            <a:off x="1828800" y="4495680"/>
            <a:ext cx="152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7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1905120" y="59342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25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733920" y="449568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13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638680" y="46483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19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4648320" y="593424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[3, 3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˚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xpress the square roots of i in polar, trigonometric, and binom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ectangular:  (0,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lar: [1,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quare roots in pol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4343400" y="3733920"/>
                <a:ext cx="36511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ad>
                      <m:deg>
                        <m:r>
                          <m:t xml:space="preserve">2</m:t>
                        </m:r>
                      </m:deg>
                      <m:e>
                        <m:r>
                          <m:t xml:space="preserve">1</m:t>
                        </m:r>
                      </m:e>
                    </m:rad>
                    <m:r>
                      <m:t xml:space="preserve">,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1611360" y="4876920"/>
                <a:ext cx="11905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3276720" y="5029200"/>
                <a:ext cx="14284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trigono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binomia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trigonometri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 binomial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228600" y="1447920"/>
                <a:ext cx="119052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0" y="3809880"/>
                <a:ext cx="14288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4495680" y="1371600"/>
                <a:ext cx="42134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666880" y="2666880"/>
                <a:ext cx="21463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4343400" y="3886200"/>
                <a:ext cx="46814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2511360" y="5334120"/>
                <a:ext cx="245916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i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ere are exactly two real nth roots of a positive number if n is even and exactly one real nth root if n is odd.  The other nth roots are vertices of a regular n-gon centered at the orig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: z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= 51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at figure does this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ow many real and nonreal solutions does this m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3145680" y="3505320"/>
            <a:ext cx="40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r pent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3898800" y="548640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real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914480" y="556272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: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1:41:48Z</dcterms:created>
  <dc:creator>Laura Helbing</dc:creator>
  <dc:description/>
  <dc:language>en-US</dc:language>
  <cp:lastModifiedBy>Laura Helbing</cp:lastModifiedBy>
  <dcterms:modified xsi:type="dcterms:W3CDTF">2011-03-25T12:57:41Z</dcterms:modified>
  <cp:revision>34</cp:revision>
  <dc:subject/>
  <dc:title>Roots of Complex Numbers</dc:title>
</cp:coreProperties>
</file>