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ADF-D1D4-44EE-9BF5-B7DAFE22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50A-8D58-43F1-B9E4-3F7B6612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428-4731-4DE9-838E-786B0664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6A9-C3E8-4B02-ABAB-19D7D972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09D-F093-492E-B914-79FCD42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656-F759-4288-95BC-869B0F67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6DB-7EB0-47ED-ADC8-EF5EE4C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947-0E59-4D2B-B28C-02E3BD9C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170-457A-4CE7-A809-5D359076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79B-83BF-4571-BF90-CB2AFC8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2C3-AD37-4399-B070-61AC4AE2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80D-7C9B-4B2A-98CF-32089F9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6465-D445-4FEC-952C-65739BF80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Roots of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Section 9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Pages 539 – 54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2, 4 – 10,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 r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If z and w are complex numbers and if n ≥ 2 is an integer, then z is an nth root of w iff z</a:t>
            </a:r>
            <a:r>
              <a:rPr b="1" lang="fr-FR" sz="4400" spc="-1" strike="noStrike" baseline="30000">
                <a:solidFill>
                  <a:srgbClr val="404040"/>
                </a:solidFill>
                <a:latin typeface="Calibri"/>
              </a:rPr>
              <a:t>n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= 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rite the 3 cube roots of 1331 in trigonometric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rst,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13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 = [r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y De Moivre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[r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= [1331, 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331      so, r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, 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0]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11 (cos (0) + isin (o))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 11, 2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4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0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 root of complex numbers theor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840" y="1599840"/>
            <a:ext cx="611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04040"/>
                </a:solidFill>
                <a:latin typeface="Calibri"/>
              </a:rPr>
              <a:t>The n nth roots of [r,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]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..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The n nth roots of r(cos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+ isin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…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657600" y="2133720"/>
                <a:ext cx="31352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2819520" y="4648320"/>
                <a:ext cx="539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9036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he sixth roots of [729, 60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th roots of complex numbers the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3, 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2133720" y="2819520"/>
                <a:ext cx="3968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7"/>
          <p:cNvSpPr/>
          <p:nvPr/>
        </p:nvSpPr>
        <p:spPr>
          <a:xfrm>
            <a:off x="1828800" y="449568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5120" y="59342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2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733920" y="44956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638680" y="46483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9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48320" y="59342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3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ress the square roots of i in polar, trigonometric, and binom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ctangular:  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lar: [1,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quare roots in po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343400" y="3733920"/>
                <a:ext cx="3651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611360" y="4876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276720" y="5029200"/>
                <a:ext cx="14284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228600" y="1447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0" y="3809880"/>
                <a:ext cx="1428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495680" y="1371600"/>
                <a:ext cx="4213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666880" y="2666880"/>
                <a:ext cx="2146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4343400" y="3886200"/>
                <a:ext cx="4681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2511360" y="5334120"/>
                <a:ext cx="2459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are exactly two real nth roots of a positive number if n is even and exactly one real nth root if n is odd.  The other nth roots are vertices of a regular n-gon centered at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: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51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figure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many real and nonreal solutions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145680" y="350532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pent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898800" y="54864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real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914480" y="5562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: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1:48Z</dcterms:created>
  <dc:creator>Laura Helbing</dc:creator>
  <dc:description/>
  <dc:language>en-US</dc:language>
  <cp:lastModifiedBy>Laura Helbing</cp:lastModifiedBy>
  <dcterms:modified xsi:type="dcterms:W3CDTF">2011-03-25T12:57:41Z</dcterms:modified>
  <cp:revision>34</cp:revision>
  <dc:subject/>
  <dc:title>Roots of Complex Numbers</dc:title>
</cp:coreProperties>
</file>