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1F9-BF2F-415E-AC05-80460744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57E-94C7-496A-9F7B-35B10EF9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EB69-9524-4686-A4FA-BC766E1C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5296-1003-4C0C-9978-1379A0C6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9526-A4B9-446F-B5E5-3AACEBBE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B097-442C-493F-B9D7-EF687E7F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7C3B-31B1-4C1D-9B7A-178730A6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CBA4-4A6C-426D-B1E2-53D2D1BF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74C2-3DA2-4690-90F3-DD9DCD10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E13A-881A-4D43-A557-B5F5944A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C009-AF47-4D68-9FC1-CDDCDC45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904-B23D-468B-87FC-6494F95E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86C2-8567-4353-B274-93391625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DE9F-8AAB-46FD-B8A6-7E47BED5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FB29-CD01-463A-8E44-BD9F764A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82F4-0B3C-4CB7-9ECA-991CFCC9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0CD5-1CE3-4049-8354-BE14B6E3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1C6F7-7682-4C39-B54E-7677C3D2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76379-14AA-4B04-9DFF-36A3E699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4A9EA-536A-4355-97E4-DFABCE07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B8151-46A0-4DC2-9084-E7CC9435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119D1-5DE6-4E21-8AC6-7525C6B6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0B4-6CC3-4687-A171-A3903523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5A8FB-AE06-40F3-80B5-75ECAF92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3EB5B-67EE-4952-BD26-90A08560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79EB7-2080-4FA1-92DC-F39A2D65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C79A8-9BBA-49E1-94EE-975FBA37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15079-EBCF-4674-89E8-09250F97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D1006-DB90-4C36-8C9B-CAC185FB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A06AE-6B44-4102-975F-D411312F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F15D7-CE27-4EA5-8922-9D0BA068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F82A0-C2D8-4BAF-865A-0C4A00F6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EE66D-5258-425B-8C7F-81DB9B8B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355B-0F99-4D85-9836-2CC2EED1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26367-CBB0-4015-B542-26A02F74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A17F9-20C9-4B4D-93EC-EEE1E4EC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3933C-E6E9-4ED3-92F4-55F77733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94AAF-FF5F-4453-A3FA-0A7BBCEE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FCDB1-B1A0-4364-99B0-B1FEE5C0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28379-D3B9-421B-9EDB-5FC7BDEA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558E5-D17F-4B84-A922-BB15320D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357DD-CA1B-4A80-9C74-02734835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166BC-E2B8-463C-AA1E-0A7CC6E5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8DA74-2F55-4499-B623-29231AA4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C83-D6C9-4B49-844D-FB4F93C9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0BE8C-B435-40F4-BD38-F4396846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3CC06-2B2F-429D-BA37-CAF5D7FE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E5932-161D-4100-B32C-8753DBEA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CE637-666A-4163-A9A9-0629562B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61E12-8393-40E8-BF34-01D24D5C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DC555-9621-4200-9953-56CCE8FF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8AB14-65EA-4791-943B-28847CCF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EC4FA-D9BA-4046-B0B0-34D5EB70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FC405-4FA5-4DCE-B93F-2ACAAD30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4E84F-1A49-4096-8043-40E806F7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150A-F114-4BDB-9AD7-12704FD6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CC588-93CC-49D3-8654-1EE9C419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2CBA-2305-44F3-A190-9E681B0A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9D97-AD5C-4800-AB89-C91FA36E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954-D391-4CE8-BFE8-63B3FA93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ED7C-0691-4E54-B078-6FCB83BB00D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5400-5A0A-40F8-96AF-38502BD0F83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3B1C-A227-4820-8951-729016BF705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1D91-B396-4B69-A88E-B32CF029601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7cca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abbd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0bd0d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0bd0d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17b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17b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0170-97BB-45C9-BA75-5012A061B6E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Perpetua"/>
              </a:rPr>
              <a:t>Lesson 8.5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Rectangular and Polar Equations for the same Curve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Polar Equation for a Line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he line that is the graph of ax + by = c has the polar equation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emember –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x = r cos </a:t>
            </a: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y = r sin </a:t>
            </a: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362320" y="2666880"/>
                <a:ext cx="50799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Example 1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nd a rectangular equation for the polar graph of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 = 3 + 4 sin 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ultiply r through proble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= 3r + 4r sin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5717880" y="2362320"/>
            <a:ext cx="20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y = r sin </a:t>
            </a: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5922000" y="1905120"/>
            <a:ext cx="21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+ 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= 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685800" y="3352680"/>
                <a:ext cx="6921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762120" y="4343400"/>
                <a:ext cx="6921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785880" y="5583240"/>
                <a:ext cx="68724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Example 2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nd a rectangular equation for the polar graph of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2"/>
              <p:cNvSpPr txBox="1"/>
              <p:nvPr/>
            </p:nvSpPr>
            <p:spPr>
              <a:xfrm>
                <a:off x="2286000" y="1828800"/>
                <a:ext cx="36180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1981080" y="3505320"/>
                <a:ext cx="4065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017800" y="4456080"/>
                <a:ext cx="39909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5"/>
              <p:cNvSpPr txBox="1"/>
              <p:nvPr/>
            </p:nvSpPr>
            <p:spPr>
              <a:xfrm>
                <a:off x="3086280" y="5221440"/>
                <a:ext cx="2236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Franklin Gothic Book"/>
              </a:rPr>
              <a:t>Example 3</a:t>
            </a:r>
            <a:endParaRPr b="0" lang="en-US" sz="36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1920" y="7617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ind a polar equation for the rectangular graph of y =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sin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= (rcos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0 = 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s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– rsin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0 = r(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s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– sin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 = 0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s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 baseline="30000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– sin</a:t>
            </a:r>
            <a:r>
              <a:rPr b="1" lang="el-GR" sz="3200" spc="-1" strike="noStrike">
                <a:solidFill>
                  <a:srgbClr val="000000"/>
                </a:solidFill>
                <a:latin typeface="Cambria"/>
              </a:rPr>
              <a:t>θ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990720" y="4114800"/>
                <a:ext cx="281448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t xml:space="preserve">θ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3962520" y="4038480"/>
                <a:ext cx="434160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1847880" y="6046920"/>
                <a:ext cx="548640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Franklin Gothic Book"/>
              </a:rPr>
              <a:t>Homework</a:t>
            </a:r>
            <a:endParaRPr b="0" lang="en-US" sz="4000" spc="-1" strike="noStrike">
              <a:solidFill>
                <a:srgbClr val="04617b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Perpetua"/>
              </a:rPr>
              <a:t>Pages 496 – 497</a:t>
            </a:r>
            <a:endParaRPr b="0" lang="en-US" sz="8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Perpetua"/>
              </a:rPr>
              <a:t>2 – 9, </a:t>
            </a:r>
            <a:endParaRPr b="0" lang="en-US" sz="8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Perpetua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7:32:40Z</dcterms:created>
  <dc:creator>Laura Helbing</dc:creator>
  <dc:description/>
  <dc:language>en-US</dc:language>
  <cp:lastModifiedBy>Laura Helbing</cp:lastModifiedBy>
  <dcterms:modified xsi:type="dcterms:W3CDTF">2011-02-22T14:26:09Z</dcterms:modified>
  <cp:revision>11</cp:revision>
  <dc:subject/>
  <dc:title>Rectangular and Polar Equations for the same Curve</dc:title>
</cp:coreProperties>
</file>