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82C0-238F-4B9A-860F-7F09C79DB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FF69-BADC-4395-A59E-9C6A73AE6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CBE3-BFE1-42D2-8842-98B419325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432C-909E-4A4F-B018-4AC28D6F2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E2C7D-1DB8-45E3-97BE-E76B744F9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27EA5-2B92-4336-ADDE-4DF620AAB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BA236-6998-4CE4-966F-EC3323B88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C6C88-AF4E-413A-BB31-462EDC526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E0C99-7D61-4F2B-A249-F70F36836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B5599-E9AA-4756-AFB3-C92A13765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26E57-1112-4880-8BEF-339A89BD0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9F3B-86D1-4A21-87E7-C38F6E2DF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A52DC-334A-4781-95B4-2C2338CCF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3CC71-C073-4151-984C-9698B20EF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DDD54-0E66-4AFA-A1B0-DFF1A74FA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46B56-1A2A-4C4D-8069-50E5CF226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0DE8D-BD1B-4C16-A2E8-46FC46CB4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14E17-2781-4B40-809D-E79F512C2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9065C-B12A-4FE8-9282-1787285E7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F5999-B56C-4315-A358-34CA84F3D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849B5-F074-47C0-A40C-382926E7D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8DC68-C19C-49CA-90A0-C0C8AC36B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D7EF-C491-4C02-99A3-B12629900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56902-6ADB-4824-931C-67958D672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A0E0B-59BF-4FD1-AC4D-3A0347C52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E625C-9B3F-4DC9-A3CC-2E3D3A78C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3C53B-EE1A-4BCC-AA98-5D161925E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0CEF8-ACFF-4408-A73F-C76E57C44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72A36-2B3D-40BF-BD14-1EACCEF0D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A5A49-0698-4EBF-BF31-3FB6D1A6A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BD963-9A8D-4780-A030-1490DFDCE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5B00D-569C-40CB-9984-9BF2A60C9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6D05C-8556-453B-97F0-C8BB552AB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F4AF-6711-4175-BF0E-9C1C07C0F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AF2AF-DF2E-407D-8051-2A0EACAA5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95EFD-52B6-4A0D-9286-28D7B6A04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38A21-49D0-415D-B397-80E78D697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69416-C3DC-4B6E-AD97-8726F2066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B5037-46A8-456A-BE71-5E4703823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B4391-3064-4436-BDE2-AEF091A7C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3407A-B8A3-433E-9C83-162674BAE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12D95-DE0C-4134-B90B-9B2DD8A14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B98B2-68E0-4D94-9E21-E55CC9F9D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7A2826-DE61-4536-BB7F-70456ACFE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039F-79D5-4B5F-90FC-6FFEFB429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1FC764-C3E1-4825-B9F4-A812472DF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4DA95F-4985-40C2-9D71-E319F42EE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02D21A-0293-4A76-9ABE-9B1CC32E2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90312B-8677-48FD-98AE-55C0205B5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382A8D-8A9C-4B19-8388-19F0C4FBD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CDD0AB-D718-40AB-9952-BAD19B960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2C2D45-E868-40C0-8442-A3906D3AE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A55A40-1DE8-4EAB-AC40-5E0761D43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ECBFDC-E728-4FD4-9A17-025E5108A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20BD85-0F07-47AC-A8D6-197DD5E7F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A0B8-2C09-4429-8907-E009512B9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68DE21-4FE7-4672-8980-9B4A42370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0EE0-156F-4287-872C-FD96C9121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FF19-A416-4290-87B0-E61A6DD31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0A3D-9F0B-4233-AB93-996134AC7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aabbd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0bd0d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0bd0d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17b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4617b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D38CB-53BB-4A0B-A5AF-3CA931A9261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aab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7cca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aabbd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0bd0d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0bd0d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17b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4617b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7D185-7CB3-4722-BE4F-D593AD61691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aab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7cca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aabbd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0bd0d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0bd0d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17b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4617b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0B25B-E14B-4A08-B160-CEA3291642D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aabbd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0bd0d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0bd0d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17b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4617b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82031-F03B-4DDF-A5C1-33BCE5BE981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aab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7cca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aabbd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0bd0d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0bd0d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17b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4617b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1E034-DEEE-4363-BDA6-8DEEC63EFCF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17b"/>
                </a:solidFill>
                <a:latin typeface="Perpetua"/>
              </a:rPr>
              <a:t>Lesson 8.5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Rectangular and Polar Equations for the same Curve</a:t>
            </a: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Franklin Gothic Book"/>
              </a:rPr>
              <a:t>Polar Equation for a Line</a:t>
            </a: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The line that is the graph of ax + by = c has the polar equation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Remember –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x = r cos </a:t>
            </a:r>
            <a:r>
              <a:rPr b="1" lang="el-GR" sz="3200" spc="-1" strike="noStrike">
                <a:solidFill>
                  <a:srgbClr val="000000"/>
                </a:solidFill>
                <a:latin typeface="Constantia"/>
              </a:rPr>
              <a:t>θ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y = r sin </a:t>
            </a:r>
            <a:r>
              <a:rPr b="1" lang="el-GR" sz="3200" spc="-1" strike="noStrike">
                <a:solidFill>
                  <a:srgbClr val="000000"/>
                </a:solidFill>
                <a:latin typeface="Constantia"/>
              </a:rPr>
              <a:t>θ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Object 2"/>
              <p:cNvSpPr txBox="1"/>
              <p:nvPr/>
            </p:nvSpPr>
            <p:spPr>
              <a:xfrm>
                <a:off x="2362320" y="2666880"/>
                <a:ext cx="507996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Franklin Gothic Book"/>
              </a:rPr>
              <a:t>Example 1</a:t>
            </a: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nd a rectangular equation for the polar graph of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 = 3 + 4 sin  </a:t>
            </a: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θ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ultiply r through problem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= 3r + 4r sin </a:t>
            </a: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θ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5" name="TextBox 3"/>
          <p:cNvSpPr/>
          <p:nvPr/>
        </p:nvSpPr>
        <p:spPr>
          <a:xfrm>
            <a:off x="5717880" y="2362320"/>
            <a:ext cx="20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y = r sin </a:t>
            </a:r>
            <a:r>
              <a:rPr b="1" lang="el-GR" sz="3200" spc="-1" strike="noStrike">
                <a:solidFill>
                  <a:srgbClr val="000000"/>
                </a:solidFill>
                <a:latin typeface="Constantia"/>
              </a:rPr>
              <a:t>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4"/>
          <p:cNvSpPr/>
          <p:nvPr/>
        </p:nvSpPr>
        <p:spPr>
          <a:xfrm>
            <a:off x="5922000" y="1905120"/>
            <a:ext cx="212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Perpetu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 + y</a:t>
            </a:r>
            <a:r>
              <a:rPr b="1" lang="en-US" sz="3200" spc="-1" strike="noStrike" baseline="30000">
                <a:solidFill>
                  <a:srgbClr val="000000"/>
                </a:solidFill>
                <a:latin typeface="Perpetu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 = r</a:t>
            </a:r>
            <a:r>
              <a:rPr b="1" lang="en-US" sz="3200" spc="-1" strike="noStrike" baseline="30000">
                <a:solidFill>
                  <a:srgbClr val="000000"/>
                </a:solidFill>
                <a:latin typeface="Perpetu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Object 2"/>
              <p:cNvSpPr txBox="1"/>
              <p:nvPr/>
            </p:nvSpPr>
            <p:spPr>
              <a:xfrm>
                <a:off x="685800" y="3352680"/>
                <a:ext cx="692136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±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Object 3"/>
              <p:cNvSpPr txBox="1"/>
              <p:nvPr/>
            </p:nvSpPr>
            <p:spPr>
              <a:xfrm>
                <a:off x="762120" y="4343400"/>
                <a:ext cx="692136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±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4"/>
              <p:cNvSpPr txBox="1"/>
              <p:nvPr/>
            </p:nvSpPr>
            <p:spPr>
              <a:xfrm>
                <a:off x="785880" y="5583240"/>
                <a:ext cx="687240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y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Franklin Gothic Book"/>
              </a:rPr>
              <a:t>Example 2</a:t>
            </a: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nd a rectangular equation for the polar graph of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2"/>
              <p:cNvSpPr txBox="1"/>
              <p:nvPr/>
            </p:nvSpPr>
            <p:spPr>
              <a:xfrm>
                <a:off x="2286000" y="1828800"/>
                <a:ext cx="3618000" cy="11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3"/>
              <p:cNvSpPr txBox="1"/>
              <p:nvPr/>
            </p:nvSpPr>
            <p:spPr>
              <a:xfrm>
                <a:off x="1981080" y="3505320"/>
                <a:ext cx="40658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4"/>
              <p:cNvSpPr txBox="1"/>
              <p:nvPr/>
            </p:nvSpPr>
            <p:spPr>
              <a:xfrm>
                <a:off x="2017800" y="4456080"/>
                <a:ext cx="399096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Object 5"/>
              <p:cNvSpPr txBox="1"/>
              <p:nvPr/>
            </p:nvSpPr>
            <p:spPr>
              <a:xfrm>
                <a:off x="3086280" y="5221440"/>
                <a:ext cx="22366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Book"/>
              </a:rPr>
              <a:t>Example 3</a:t>
            </a:r>
            <a:endParaRPr b="0" lang="en-US" sz="36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51920" y="761760"/>
            <a:ext cx="89917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Find a polar equation for the rectangular graph of y = 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Perpetu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rsin</a:t>
            </a:r>
            <a:r>
              <a:rPr b="1" lang="el-GR" sz="3200" spc="-1" strike="noStrike">
                <a:solidFill>
                  <a:srgbClr val="000000"/>
                </a:solidFill>
                <a:latin typeface="Cambria"/>
              </a:rPr>
              <a:t>θ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 = (rcos</a:t>
            </a:r>
            <a:r>
              <a:rPr b="1" lang="el-GR" sz="3200" spc="-1" strike="noStrike">
                <a:solidFill>
                  <a:srgbClr val="000000"/>
                </a:solidFill>
                <a:latin typeface="Cambria"/>
              </a:rPr>
              <a:t>θ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)</a:t>
            </a:r>
            <a:r>
              <a:rPr b="1" lang="en-US" sz="3200" spc="-1" strike="noStrike" baseline="30000">
                <a:solidFill>
                  <a:srgbClr val="000000"/>
                </a:solidFill>
                <a:latin typeface="Perpetu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0 = r</a:t>
            </a:r>
            <a:r>
              <a:rPr b="1" lang="en-US" sz="3200" spc="-1" strike="noStrike" baseline="30000">
                <a:solidFill>
                  <a:srgbClr val="000000"/>
                </a:solidFill>
                <a:latin typeface="Perpetua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cos</a:t>
            </a:r>
            <a:r>
              <a:rPr b="1" lang="el-GR" sz="3200" spc="-1" strike="noStrike">
                <a:solidFill>
                  <a:srgbClr val="000000"/>
                </a:solidFill>
                <a:latin typeface="Cambria"/>
              </a:rPr>
              <a:t>θ</a:t>
            </a:r>
            <a:r>
              <a:rPr b="1" lang="en-US" sz="3200" spc="-1" strike="noStrike" baseline="30000">
                <a:solidFill>
                  <a:srgbClr val="000000"/>
                </a:solidFill>
                <a:latin typeface="Perpetua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 – rsin</a:t>
            </a:r>
            <a:r>
              <a:rPr b="1" lang="el-GR" sz="3200" spc="-1" strike="noStrike">
                <a:solidFill>
                  <a:srgbClr val="000000"/>
                </a:solidFill>
                <a:latin typeface="Cambria"/>
              </a:rPr>
              <a:t>θ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0 = r(r</a:t>
            </a:r>
            <a:r>
              <a:rPr b="1" lang="en-US" sz="3200" spc="-1" strike="noStrike" baseline="30000">
                <a:solidFill>
                  <a:srgbClr val="000000"/>
                </a:solidFill>
                <a:latin typeface="Perpetu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cos</a:t>
            </a:r>
            <a:r>
              <a:rPr b="1" lang="el-GR" sz="3200" spc="-1" strike="noStrike">
                <a:solidFill>
                  <a:srgbClr val="000000"/>
                </a:solidFill>
                <a:latin typeface="Cambria"/>
              </a:rPr>
              <a:t>θ</a:t>
            </a:r>
            <a:r>
              <a:rPr b="1" lang="en-US" sz="3200" spc="-1" strike="noStrike" baseline="30000">
                <a:solidFill>
                  <a:srgbClr val="000000"/>
                </a:solidFill>
                <a:latin typeface="Perpetua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 – sin</a:t>
            </a:r>
            <a:r>
              <a:rPr b="1" lang="el-GR" sz="3200" spc="-1" strike="noStrike">
                <a:solidFill>
                  <a:srgbClr val="000000"/>
                </a:solidFill>
                <a:latin typeface="Cambria"/>
              </a:rPr>
              <a:t>θ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r = 0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or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r</a:t>
            </a:r>
            <a:r>
              <a:rPr b="1" lang="en-US" sz="3200" spc="-1" strike="noStrike" baseline="30000">
                <a:solidFill>
                  <a:srgbClr val="000000"/>
                </a:solidFill>
                <a:latin typeface="Perpetu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cos</a:t>
            </a:r>
            <a:r>
              <a:rPr b="1" lang="el-GR" sz="3200" spc="-1" strike="noStrike">
                <a:solidFill>
                  <a:srgbClr val="000000"/>
                </a:solidFill>
                <a:latin typeface="Cambria"/>
              </a:rPr>
              <a:t>θ</a:t>
            </a:r>
            <a:r>
              <a:rPr b="1" lang="en-US" sz="3200" spc="-1" strike="noStrike" baseline="30000">
                <a:solidFill>
                  <a:srgbClr val="000000"/>
                </a:solidFill>
                <a:latin typeface="Perpetua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 – sin</a:t>
            </a:r>
            <a:r>
              <a:rPr b="1" lang="el-GR" sz="3200" spc="-1" strike="noStrike">
                <a:solidFill>
                  <a:srgbClr val="000000"/>
                </a:solidFill>
                <a:latin typeface="Cambria"/>
              </a:rPr>
              <a:t>θ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 = 0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3"/>
              <p:cNvSpPr txBox="1"/>
              <p:nvPr/>
            </p:nvSpPr>
            <p:spPr>
              <a:xfrm>
                <a:off x="990720" y="4114800"/>
                <a:ext cx="2814480" cy="15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p>
                          <m:e>
                            <m:r>
                              <m:t xml:space="preserve">θ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5"/>
              <p:cNvSpPr txBox="1"/>
              <p:nvPr/>
            </p:nvSpPr>
            <p:spPr>
              <a:xfrm>
                <a:off x="3962520" y="4038480"/>
                <a:ext cx="4341600" cy="15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θ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Object 6"/>
              <p:cNvSpPr txBox="1"/>
              <p:nvPr/>
            </p:nvSpPr>
            <p:spPr>
              <a:xfrm>
                <a:off x="1847880" y="6046920"/>
                <a:ext cx="5486400" cy="85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θ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e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θ</m:t>
                    </m:r>
                    <m:r>
                      <m:t xml:space="preserve">,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Franklin Gothic Book"/>
              </a:rPr>
              <a:t>Homework</a:t>
            </a: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Perpetua"/>
              </a:rPr>
              <a:t>Pages 496 – 497</a:t>
            </a:r>
            <a:endParaRPr b="0" lang="en-US" sz="88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Perpetua"/>
              </a:rPr>
              <a:t>2 – 9, </a:t>
            </a:r>
            <a:endParaRPr b="0" lang="en-US" sz="88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Perpetua"/>
              </a:rPr>
              <a:t>16</a:t>
            </a:r>
            <a:endParaRPr b="0" lang="en-US" sz="8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2T17:32:40Z</dcterms:created>
  <dc:creator>Laura Helbing</dc:creator>
  <dc:description/>
  <dc:language>en-US</dc:language>
  <cp:lastModifiedBy>Laura Helbing</cp:lastModifiedBy>
  <dcterms:modified xsi:type="dcterms:W3CDTF">2011-02-22T14:26:09Z</dcterms:modified>
  <cp:revision>11</cp:revision>
  <dc:subject/>
  <dc:title>Rectangular and Polar Equations for the same Curve</dc:title>
</cp:coreProperties>
</file>