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F6C-69D8-4C00-BA8C-3430E6C9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9A5-DA19-4DDC-9A89-127FD411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1E9-52D4-4E08-A58C-DEF431E5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92B-C292-4047-AD4C-63DE1C58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6443-7184-4E60-82CE-B69DE2CD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01A1-CB63-4871-BFB2-8A5A97F2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C553-761A-4590-8565-5D512C75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B653-5642-4620-8304-5C6E83C2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5CEC-B3CE-4326-8854-1E77C39D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09C9-B45F-4883-AC3F-C9DE7A9B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08E-2D3A-4C8B-BE38-83A1F1CF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E0B-D382-4AA9-B569-94ED5001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0DB3-6B6A-454A-9A19-5221A2D2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7C5C-42BD-4D74-85A1-F12D3A53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ACA0-317F-463E-97B2-9C12AFC5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06CF-6632-4B7D-9B07-E2CAD559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5F19-AEE2-4CD3-ADFC-FD9A24FC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68E9-88C6-4534-8C5E-4C0A430C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918D-99CB-4FC2-834D-816D6D6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A063-D163-4B7D-8B1B-25717FB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FDB1-8AB4-4C76-ADB4-A644202B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F391-0CD9-4612-A419-0FDDCC80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72B-3823-4358-8DDB-B61C3F54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2AD3-93D2-4D58-A482-99BF3D05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B315-8532-4A46-A4F6-B2D6E292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F724-AA24-4988-89B9-88CB3EF2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3BC0-D287-423E-99CF-FBC8927A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4775-EE6D-4339-AA7F-7AE1F298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5B10-6135-43F3-9E37-CB9CCBBE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58A2-EFFA-4DEF-8CD6-018E723B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B4E0-ADC4-402A-8E71-09E91F4A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9446-394E-49C5-B477-529C5DF4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E221-9F1E-44E4-AB5B-D5F33024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E97-1F31-47E1-9BAD-2FD84E8D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16D7-4CC6-4AEE-BD1F-274354FB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0BE1-EA5C-472D-A57D-73047067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FB6F-33AC-43B0-BFA1-3CBAEDA1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05D2-A79E-4417-AA3B-CD31ECF4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F720-448A-4EB0-BA23-9D2B628B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8AA8-7D91-4816-9907-A633404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60DC-CDDF-44E9-9666-EF8A957E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C948C-44CE-4879-9383-B179BA09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7EB0-2B8D-48AE-9E46-CFD100A4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377D-4692-47EA-BA0C-0A483999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845-4CA2-4CE6-ABCB-C4750346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FDAB-E876-4837-8992-1555DECD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9FFB7-340B-48D9-8765-EA377C3F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BF16-EF94-4984-93C5-6EC75841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86CB-674E-44DD-B4C2-BB4CEA47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E924E-9133-4187-9649-15B1E009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C21E-1C06-4345-804F-45FB5914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8B5D-C1DA-4E28-ABE7-0052F84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E475-F830-485F-9F7F-0B98FAC1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5019-5532-4F90-B589-A336A5F7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E5AD-7A71-4227-AAA4-03A587BF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582-FE72-4EB1-928D-2973DF9E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5A7F3-92B1-418B-AF81-2A4D9DDB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CF3-6D4A-43BD-BE18-BA6F7663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7E0-7EF6-465E-9592-BDEB062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B3F-E65F-4BCF-AFA2-E3DD125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1E3E-054B-4D33-AFE2-45537D7E4F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6E61-0247-4973-B657-ADEB311EECE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E5FB-A4EB-4053-8174-47B488065EC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2270-3080-42D2-8DC3-1EE0C060FF7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D410-E55F-4292-9DD0-85BFE05A783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Perpetua"/>
              </a:rPr>
              <a:t>Lesson 8.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Rectangular and Polar Equations for the same Curv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Polar Equation for a Lin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he line that is the graph of ax + by = c has the polar equation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member –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x = r cos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y = r sin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362320" y="2666880"/>
                <a:ext cx="50799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Example 1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d a rectangular equation for the polar graph of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 = 3 + 4 sin 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ply r through probl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3r + 4r sin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5717880" y="236232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y = r sin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5922000" y="190512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+ 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5800" y="3352680"/>
                <a:ext cx="6921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762120" y="4343400"/>
                <a:ext cx="6921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85880" y="5583240"/>
                <a:ext cx="6872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Example 2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d a rectangular equation for the polar graph of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2286000" y="1828800"/>
                <a:ext cx="3618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1981080" y="3505320"/>
                <a:ext cx="406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017800" y="4456080"/>
                <a:ext cx="3990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3086280" y="5221440"/>
                <a:ext cx="22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Book"/>
              </a:rPr>
              <a:t>Example 3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ind a polar equation for the rectangular graph of y =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(r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0 =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r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0 = r(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 = 0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990720" y="4114800"/>
                <a:ext cx="28144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3962520" y="4038480"/>
                <a:ext cx="43416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847880" y="6046920"/>
                <a:ext cx="5486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Homework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Pages 496 – 497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2 – 9, 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32:40Z</dcterms:created>
  <dc:creator>Laura Helbing</dc:creator>
  <dc:description/>
  <dc:language>en-US</dc:language>
  <cp:lastModifiedBy>Laura Helbing</cp:lastModifiedBy>
  <dcterms:modified xsi:type="dcterms:W3CDTF">2011-02-22T14:26:09Z</dcterms:modified>
  <cp:revision>11</cp:revision>
  <dc:subject/>
  <dc:title>Rectangular and Polar Equations for the same Curve</dc:title>
</cp:coreProperties>
</file>