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F4E6-B024-49ED-B5CB-FF113C36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AE3-9E23-459C-97EB-4179544C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82B-1F52-435E-93A0-BDBCA7A7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258-B6C5-45AB-A486-BAD7E2F8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A690-C33B-4E93-A851-EBACAB33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B3C3-03C8-491A-8F43-EF364B0C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FB17-DD00-4C1E-8E9F-3348E3DF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867F-A241-4FE1-A0A9-6E8B28A7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6707-AA86-4165-9345-120A2934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4A25-4D2F-43A0-8B22-09D03DFD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01FD-C307-486B-B626-FC0F10E5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3BD-7273-4CCE-B36A-631A28EB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A286-AAA3-45FB-97BB-70EA8891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426B-774B-4E4F-9580-8303BC4D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D8CA-D7EE-40FA-A5C3-69E167B8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90B9-103E-4086-A742-E63603EA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3955-0AF9-4EA3-909E-143A919A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A5E2E-CF5F-4E5C-956F-E56EA302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15CBC-D36E-4F1B-A78F-01D5431F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43BBB-BEA0-42FA-A7BD-E8350931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D8453-9360-43BA-9F80-53670E8F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8CB0D-35D0-4CE6-B0F5-09445573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FD6-6953-4811-8C09-3906CCAD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0426-35D4-4DE7-80A9-568D5A96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344C-BD0C-4B5D-9914-7045310B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6686-28D4-4710-BF66-632E4EDD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38392-662F-4786-BBDD-AA9CB66F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72303-F7FF-469F-96BE-221F6621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FB9A-B9A8-4FA6-8064-3275384D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53439-7D72-4E08-9255-0DA8ADA2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CD78C-B9CE-448A-B6CE-CB2D545F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68612-27C0-40B4-9728-2CBF2025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CF912-51DD-45B5-868E-88103E94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28D-F33E-440D-AEB6-6E0AD0C7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A26AC-2F98-4867-9977-B042FBE4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056C6-11DB-4535-BBD3-7AF1195F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9945-D969-4E16-BA34-B0A98E8D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66264-F794-4F66-BC71-96A4BC6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30BA6-8539-474C-9166-1D1FB2DE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88B9B-674F-4EE9-BB26-74870650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6C045-87E6-4EF0-B326-A60F5577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E1234-5B04-431C-9D40-01BC2534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B7931-7BD9-43F7-9AA5-AAD34C0F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7C7FB-71B6-42C7-AD8D-34EEC6B4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087-43ED-46DF-AC31-EA19DE07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2CBC7-8A16-404E-A3B5-62A0F081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2DC41-9D08-44DA-9ECA-3A7254A3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E92B7-479C-4BCD-876F-7A9B663E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89075-9D49-48D7-BC80-1B4EB7CB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4E6B1-D4DD-4D5D-9C2A-B3B2687D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7FB99-E575-41E3-A3D1-C1CB803B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93808-8826-47BF-8D39-4EA3455E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515AF-6920-40CD-B2AD-F0E9DDC8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54BAD-7F9D-450B-83FC-B8CC6F3D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1A0C8-A1C6-41CE-8479-B7E28529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2E5-FE8A-4DE6-BBEA-2E21CDC5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18179-3FBD-4315-8359-6235E9F8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F37-C5D9-453C-A82D-07029BF7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8AB-B03B-4F7F-B37E-E432B204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9BA-60C4-4EE6-8BA9-621AABAE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A0BB-1337-4788-9E9C-D13B8B468A1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0785-E49F-4252-B567-4F6ADFFD5BD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82B4-769C-48E5-8FFD-D67FFC57949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7811-06F2-49BC-B6D8-70C35DFEBA9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D5C2-BA30-4E77-8DC8-0298BAAAFFD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Perpetua"/>
              </a:rPr>
              <a:t>Lesson 8.5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Rectangular and Polar Equations for the same Curve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Polar Equation for a Line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he line that is the graph of ax + by = c has the polar equation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emember –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x = r cos 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y = r sin 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362320" y="2666880"/>
                <a:ext cx="50799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Example 1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nd a rectangular equation for the polar graph of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 = 3 + 4 sin 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ltiply r through probl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= 3r + 4r sin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5717880" y="2362320"/>
            <a:ext cx="20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y = r sin 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5922000" y="1905120"/>
            <a:ext cx="21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+ 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= 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85800" y="3352680"/>
                <a:ext cx="6921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762120" y="4343400"/>
                <a:ext cx="6921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785880" y="5583240"/>
                <a:ext cx="68724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Example 2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nd a rectangular equation for the polar graph of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2286000" y="1828800"/>
                <a:ext cx="3618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1981080" y="3505320"/>
                <a:ext cx="4065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017800" y="4456080"/>
                <a:ext cx="39909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3086280" y="5221440"/>
                <a:ext cx="2236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Book"/>
              </a:rPr>
              <a:t>Example 3</a:t>
            </a:r>
            <a:endParaRPr b="0" lang="en-US" sz="3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1920" y="7617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ind a polar equation for the rectangular graph of y =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sin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= (rcos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0 = 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s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– rsin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0 = r(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s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– sin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 = 0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s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– sin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990720" y="4114800"/>
                <a:ext cx="281448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3962520" y="4038480"/>
                <a:ext cx="434160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1847880" y="6046920"/>
                <a:ext cx="54864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Homework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Perpetua"/>
              </a:rPr>
              <a:t>Pages 496 – 497</a:t>
            </a:r>
            <a:endParaRPr b="0" lang="en-US" sz="8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Perpetua"/>
              </a:rPr>
              <a:t>2 – 9, </a:t>
            </a:r>
            <a:endParaRPr b="0" lang="en-US" sz="8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Perpetu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7:32:40Z</dcterms:created>
  <dc:creator>Laura Helbing</dc:creator>
  <dc:description/>
  <dc:language>en-US</dc:language>
  <cp:lastModifiedBy>Laura Helbing</cp:lastModifiedBy>
  <dcterms:modified xsi:type="dcterms:W3CDTF">2011-02-22T14:26:09Z</dcterms:modified>
  <cp:revision>11</cp:revision>
  <dc:subject/>
  <dc:title>Rectangular and Polar Equations for the same Curve</dc:title>
</cp:coreProperties>
</file>