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C4D-68BF-4295-BB49-D2C14E67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B57F-A143-4A7B-A499-4E594CC9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B60-5BE1-4554-A423-F0EB9CDE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F72-BF83-4923-B644-E6ADD39B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5E74-5774-46B7-8E25-C5258D4F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28E-9252-4B29-BC5D-78FA3DAC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299-AEE7-40F1-9422-D43EB4CC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BC3-EBBE-4BFC-8E14-DA4A140C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060-9574-4160-9918-32A035EC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ED4-A604-4C54-B540-DC5A872C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A31-A4E1-42CF-93A9-8008DD20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90C-0494-4498-BDB4-26867DC7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7A92-D4A6-4846-94CC-E3E4254ACB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662292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808080"/>
                </a:solidFill>
                <a:latin typeface="Arial"/>
              </a:rPr>
              <a:t>Proving Id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122184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8080"/>
                </a:solidFill>
                <a:latin typeface="Arial"/>
              </a:rPr>
              <a:t>section 5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Remem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571680" y="214308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642960" y="385776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857840" y="1643040"/>
                <a:ext cx="3208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143680" y="3357720"/>
                <a:ext cx="3157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6054840"/>
                <a:ext cx="43131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4584600" y="5143680"/>
                <a:ext cx="46119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142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3 ways to prove an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7120" y="1142640"/>
            <a:ext cx="8501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1: Work on one side of the identity until it looks like the other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2: Work on each side independently until you obtain the same statement on both s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3: Transform the equation to be proved until you obtain an equation known to be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Prove this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428840" y="1214280"/>
                <a:ext cx="691812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0" y="3143160"/>
                <a:ext cx="6286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571680" y="5203800"/>
                <a:ext cx="42624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286240" y="5000760"/>
                <a:ext cx="361008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se a graph to decide whether the following is an ident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ince the two graphs are identical, it seems as though this is an id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57120" y="2643120"/>
                <a:ext cx="8421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Box 8"/>
          <p:cNvSpPr/>
          <p:nvPr/>
        </p:nvSpPr>
        <p:spPr>
          <a:xfrm>
            <a:off x="1329120" y="564372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e careful when graphing to pay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 removable discontinu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ind all restrictions on the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emember, tan x is not defined when cos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x ≠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2 + n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, for all integers n.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643040" y="2286000"/>
                <a:ext cx="53150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6" name="Straight Arrow Connector 9"/>
          <p:cNvCxnSpPr/>
          <p:nvPr/>
        </p:nvCxnSpPr>
        <p:spPr>
          <a:xfrm flipV="1">
            <a:off x="999000" y="3071520"/>
            <a:ext cx="715320" cy="1072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Pages 322 – 3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, 7 – 8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- 12, 14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6:15:39Z</dcterms:created>
  <dc:creator>Mediac</dc:creator>
  <dc:description/>
  <dc:language>en-US</dc:language>
  <cp:lastModifiedBy>Laura Helbing</cp:lastModifiedBy>
  <dcterms:modified xsi:type="dcterms:W3CDTF">2011-01-04T13:25:18Z</dcterms:modified>
  <cp:revision>5</cp:revision>
  <dc:subject/>
  <dc:title>PRESENTATION  NAME</dc:title>
</cp:coreProperties>
</file>