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BD7-F0A8-4070-8FDD-252DCB59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8B3-E756-448D-BFB4-048C3DBA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7C0-4B22-474B-8E27-789F9BAA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08A-AE97-4125-BD51-DBBDEB3B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E5C-C9C0-45DA-A9E7-CA0A3D76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74B-4B54-4B32-A12E-51E05157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AF6-5E98-45AC-86F9-C5558BD6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CE3-E06B-4D7F-8E37-A0DD1D76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01A-1C74-4C7F-AA18-5989AB3A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7F8-7B0B-4AED-807D-F1E9E0C8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27A-CD32-4988-849F-C9002A25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2EA-F881-4C8A-925E-032D9E8A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41CB-58BE-41A3-BE41-FC65DA121B2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66229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08080"/>
                </a:solidFill>
                <a:latin typeface="Arial"/>
              </a:rPr>
              <a:t>Proving Id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1221840"/>
            <a:ext cx="6400800" cy="5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808080"/>
                </a:solidFill>
                <a:latin typeface="Arial"/>
              </a:rPr>
              <a:t>section 5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Reme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ememb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571680" y="214308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8"/>
              <p:cNvSpPr txBox="1"/>
              <p:nvPr/>
            </p:nvSpPr>
            <p:spPr>
              <a:xfrm>
                <a:off x="642960" y="385776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9"/>
              <p:cNvSpPr txBox="1"/>
              <p:nvPr/>
            </p:nvSpPr>
            <p:spPr>
              <a:xfrm>
                <a:off x="4857840" y="164304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0"/>
              <p:cNvSpPr txBox="1"/>
              <p:nvPr/>
            </p:nvSpPr>
            <p:spPr>
              <a:xfrm>
                <a:off x="5143680" y="3357720"/>
                <a:ext cx="31572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c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0" y="6054840"/>
                <a:ext cx="43131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4584600" y="5143680"/>
                <a:ext cx="46119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3 ways to prove an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1: Work on one side of the identity until it looks like the othe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2: Work on each side independently until you obtain the same statement on both s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3: Transform the equation to be proved until you obtain an equation known to be an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rove this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428840" y="1214280"/>
                <a:ext cx="69181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0" y="3143160"/>
                <a:ext cx="62866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571680" y="5203800"/>
                <a:ext cx="426240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286240" y="5000760"/>
                <a:ext cx="361008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80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Use a graph to decide whether the following is an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ince the two graphs are identical, it seems as though this is an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357120" y="2643120"/>
                <a:ext cx="84218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Box 8"/>
          <p:cNvSpPr/>
          <p:nvPr/>
        </p:nvSpPr>
        <p:spPr>
          <a:xfrm>
            <a:off x="1329120" y="564372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 careful when graphing to pay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removable discontinu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ind all restrictions on the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emember, tan x is not defined when cos x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x ≠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2 + n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 for all integers n.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1643040" y="2286000"/>
                <a:ext cx="53150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6" name="Straight Arrow Connector 9"/>
          <p:cNvCxnSpPr/>
          <p:nvPr/>
        </p:nvCxnSpPr>
        <p:spPr>
          <a:xfrm flipV="1">
            <a:off x="999000" y="3071520"/>
            <a:ext cx="715320" cy="1072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ages 322 – 3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, 7 – 8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0- 12, 14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6:15:39Z</dcterms:created>
  <dc:creator>Mediac</dc:creator>
  <dc:description/>
  <dc:language>en-US</dc:language>
  <cp:lastModifiedBy>Laura Helbing</cp:lastModifiedBy>
  <dcterms:modified xsi:type="dcterms:W3CDTF">2011-01-04T13:25:18Z</dcterms:modified>
  <cp:revision>5</cp:revision>
  <dc:subject/>
  <dc:title>PRESENTATION  NAME</dc:title>
</cp:coreProperties>
</file>