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548-7C21-4D34-A0FC-F73EE0C9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333-BB3F-4857-830E-F8E7111A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FB5-E4EA-4877-8CDC-335F563E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2A3-120B-4C8F-8345-E2B44B20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F06-5CB6-4CFC-AD26-24ACE33A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169-AF6E-454E-AF67-48511DD1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A7C-7386-4387-A75B-B732AB70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92B-4752-4246-88AB-79616DDF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A6D-459A-4EF7-A7BA-93748F49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03B-DF3D-45EE-A8CE-41132811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50B-1F5C-4453-A6E1-8C3309BF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81C-B600-4795-A40F-C2BFB051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ABFC-9E7E-4DAA-8CCE-A122CA72ED2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66229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8080"/>
                </a:solidFill>
                <a:latin typeface="Arial"/>
              </a:rPr>
              <a:t>Proving Id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221840"/>
            <a:ext cx="640080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8080"/>
                </a:solidFill>
                <a:latin typeface="Arial"/>
              </a:rPr>
              <a:t>section 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Reme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571680" y="214308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642960" y="385776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4857840" y="164304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0"/>
              <p:cNvSpPr txBox="1"/>
              <p:nvPr/>
            </p:nvSpPr>
            <p:spPr>
              <a:xfrm>
                <a:off x="5143680" y="3357720"/>
                <a:ext cx="31572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6054840"/>
                <a:ext cx="43131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4584600" y="5143680"/>
                <a:ext cx="46119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3 ways to prove an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1: Work on one side of the identity until it looks like the othe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2: Work on each side independently until you obtain the same statement on both s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3: Transform the equation to be proved until you obtain an equation known to be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rove this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428840" y="1214280"/>
                <a:ext cx="69181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0" y="3143160"/>
                <a:ext cx="6286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571680" y="5203800"/>
                <a:ext cx="426240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286240" y="5000760"/>
                <a:ext cx="361008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0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se a graph to decide whether the following is an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ince the two graphs are identical, it seems as though this is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57120" y="2643120"/>
                <a:ext cx="84218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Box 8"/>
          <p:cNvSpPr/>
          <p:nvPr/>
        </p:nvSpPr>
        <p:spPr>
          <a:xfrm>
            <a:off x="1329120" y="564372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 careful when graphing to pay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emovable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ind all restrictions on th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tan x is not defined when cos x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x ≠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 + n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for all integers n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643040" y="2286000"/>
                <a:ext cx="5315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6" name="Straight Arrow Connector 9"/>
          <p:cNvCxnSpPr/>
          <p:nvPr/>
        </p:nvCxnSpPr>
        <p:spPr>
          <a:xfrm flipV="1">
            <a:off x="999000" y="3071520"/>
            <a:ext cx="715320" cy="1072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ages 322 – 3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, 7 – 8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0- 12, 14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6:15:39Z</dcterms:created>
  <dc:creator>Mediac</dc:creator>
  <dc:description/>
  <dc:language>en-US</dc:language>
  <cp:lastModifiedBy>Laura Helbing</cp:lastModifiedBy>
  <dcterms:modified xsi:type="dcterms:W3CDTF">2011-01-04T13:25:18Z</dcterms:modified>
  <cp:revision>5</cp:revision>
  <dc:subject/>
  <dc:title>PRESENTATION  NAME</dc:title>
</cp:coreProperties>
</file>