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5D55-370C-4F7C-9660-CD163DA50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DC10-4732-4A75-A79B-255E3A94C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79EB-6261-4C2F-89A4-E0E6C9018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5653-7A2A-4BC7-A7F2-FF02AABD2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41B0-FA41-44AB-AE04-C6082009B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006D-3C22-4153-B575-08F685950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41BB-5CD0-4F68-BBF7-96C35C12B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E223-CA7A-4B3C-AF65-AEFFA913F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8749-9DF4-4B96-AFEE-AFDEB3E77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448B-5AB2-4570-860C-860A9AA0D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DF29-F31C-4CD3-AAFA-507A12CFC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F7DC-2AF0-4494-BD76-0FB2B1794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914E9-2553-4755-8FFC-4EEBF86D202E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000" y="692280"/>
            <a:ext cx="662292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808080"/>
                </a:solidFill>
                <a:latin typeface="Arial"/>
              </a:rPr>
              <a:t>Proving Ident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42920" y="1221840"/>
            <a:ext cx="6400800" cy="5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808080"/>
                </a:solidFill>
                <a:latin typeface="Arial"/>
              </a:rPr>
              <a:t>section 5.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Rememb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5640" y="1600200"/>
            <a:ext cx="67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Remembe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Object 4"/>
              <p:cNvSpPr txBox="1"/>
              <p:nvPr/>
            </p:nvSpPr>
            <p:spPr>
              <a:xfrm>
                <a:off x="571680" y="2143080"/>
                <a:ext cx="320832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Object 8"/>
              <p:cNvSpPr txBox="1"/>
              <p:nvPr/>
            </p:nvSpPr>
            <p:spPr>
              <a:xfrm>
                <a:off x="642960" y="3857760"/>
                <a:ext cx="320832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t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Object 9"/>
              <p:cNvSpPr txBox="1"/>
              <p:nvPr/>
            </p:nvSpPr>
            <p:spPr>
              <a:xfrm>
                <a:off x="4857840" y="1643040"/>
                <a:ext cx="320832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ec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Object 10"/>
              <p:cNvSpPr txBox="1"/>
              <p:nvPr/>
            </p:nvSpPr>
            <p:spPr>
              <a:xfrm>
                <a:off x="5143680" y="3357720"/>
                <a:ext cx="315720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sc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Object 4"/>
              <p:cNvSpPr txBox="1"/>
              <p:nvPr/>
            </p:nvSpPr>
            <p:spPr>
              <a:xfrm>
                <a:off x="0" y="6054840"/>
                <a:ext cx="431316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Object 4"/>
              <p:cNvSpPr txBox="1"/>
              <p:nvPr/>
            </p:nvSpPr>
            <p:spPr>
              <a:xfrm>
                <a:off x="4584600" y="5143680"/>
                <a:ext cx="461196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7120" y="142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3 ways to prove an Ident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85010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chnique 1: Work on one side of the identity until it looks like the other s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chnique 2: Work on each side independently until you obtain the same statement on both sid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chnique 3: Transform the equation to be proved until you obtain an equation known to be an ident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Prove this ident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15640" y="1600200"/>
            <a:ext cx="67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4"/>
              <p:cNvSpPr txBox="1"/>
              <p:nvPr/>
            </p:nvSpPr>
            <p:spPr>
              <a:xfrm>
                <a:off x="1428840" y="1214280"/>
                <a:ext cx="6918120" cy="16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e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Object 4"/>
              <p:cNvSpPr txBox="1"/>
              <p:nvPr/>
            </p:nvSpPr>
            <p:spPr>
              <a:xfrm>
                <a:off x="0" y="3143160"/>
                <a:ext cx="6286680" cy="19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den>
                        </m:f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4"/>
              <p:cNvSpPr txBox="1"/>
              <p:nvPr/>
            </p:nvSpPr>
            <p:spPr>
              <a:xfrm>
                <a:off x="571680" y="5203800"/>
                <a:ext cx="4262400" cy="16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Object 4"/>
              <p:cNvSpPr txBox="1"/>
              <p:nvPr/>
            </p:nvSpPr>
            <p:spPr>
              <a:xfrm>
                <a:off x="5286240" y="5000760"/>
                <a:ext cx="3610080" cy="16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Example 2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802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Use a graph to decide whether the following is an ident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Since the two graphs are identical, it seems as though this is an ident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Object 4"/>
              <p:cNvSpPr txBox="1"/>
              <p:nvPr/>
            </p:nvSpPr>
            <p:spPr>
              <a:xfrm>
                <a:off x="357120" y="2643120"/>
                <a:ext cx="842184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" name="TextBox 8"/>
          <p:cNvSpPr/>
          <p:nvPr/>
        </p:nvSpPr>
        <p:spPr>
          <a:xfrm>
            <a:off x="1329120" y="5643720"/>
            <a:ext cx="727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e careful when graphing to pay att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 removable discontinu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15640" y="1600200"/>
            <a:ext cx="67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Find all restrictions on the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Remember, tan x is not defined when cos x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x ≠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π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/2 + n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π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, for all integers n.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4"/>
              <p:cNvSpPr txBox="1"/>
              <p:nvPr/>
            </p:nvSpPr>
            <p:spPr>
              <a:xfrm>
                <a:off x="1643040" y="2286000"/>
                <a:ext cx="531504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66" name="Straight Arrow Connector 9"/>
          <p:cNvCxnSpPr/>
          <p:nvPr/>
        </p:nvCxnSpPr>
        <p:spPr>
          <a:xfrm flipV="1">
            <a:off x="999000" y="3071520"/>
            <a:ext cx="715320" cy="1072080"/>
          </a:xfrm>
          <a:prstGeom prst="straightConnector1">
            <a:avLst/>
          </a:prstGeom>
          <a:ln w="76320">
            <a:solidFill>
              <a:srgbClr val="ffff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15640" y="1600200"/>
            <a:ext cx="67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Pages 322 – 32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2, 7 – 8,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10- 12, 14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5T16:15:39Z</dcterms:created>
  <dc:creator>Mediac</dc:creator>
  <dc:description/>
  <dc:language>en-US</dc:language>
  <cp:lastModifiedBy>Laura Helbing</cp:lastModifiedBy>
  <dcterms:modified xsi:type="dcterms:W3CDTF">2011-01-04T13:25:18Z</dcterms:modified>
  <cp:revision>5</cp:revision>
  <dc:subject/>
  <dc:title>PRESENTATION  NAME</dc:title>
</cp:coreProperties>
</file>