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6B6D-5D7B-47C8-967F-FCA692B9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130-F8BC-4AFF-A55A-E4507BA5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DED-9D82-47E7-B1C9-68CB4780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C32-E39D-4E5B-A4B8-DBE674A3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65C-9305-49CF-93E2-32F3CF71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805-019D-4AB2-80BA-DAECCBAE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C73-AC6B-4137-BDFE-17DDC920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116-D513-4C99-B4D2-C310EF46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AA0-905A-4077-BDB2-008A32DC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1CF-A85E-4419-8C1E-32430344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ACA-EE01-4C23-95D6-886CC52F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C7A-94CF-4FEC-868C-510508D5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1A48-0D64-407A-B4C6-CE3CA938D6D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66229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08080"/>
                </a:solidFill>
                <a:latin typeface="Arial"/>
              </a:rPr>
              <a:t>Proving Id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1221840"/>
            <a:ext cx="6400800" cy="5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808080"/>
                </a:solidFill>
                <a:latin typeface="Arial"/>
              </a:rPr>
              <a:t>section 5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Reme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ememb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571680" y="214308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8"/>
              <p:cNvSpPr txBox="1"/>
              <p:nvPr/>
            </p:nvSpPr>
            <p:spPr>
              <a:xfrm>
                <a:off x="642960" y="385776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9"/>
              <p:cNvSpPr txBox="1"/>
              <p:nvPr/>
            </p:nvSpPr>
            <p:spPr>
              <a:xfrm>
                <a:off x="4857840" y="164304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0"/>
              <p:cNvSpPr txBox="1"/>
              <p:nvPr/>
            </p:nvSpPr>
            <p:spPr>
              <a:xfrm>
                <a:off x="5143680" y="3357720"/>
                <a:ext cx="31572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c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0" y="6054840"/>
                <a:ext cx="43131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4584600" y="5143680"/>
                <a:ext cx="46119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3 ways to prove an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1: Work on one side of the identity until it looks like the othe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2: Work on each side independently until you obtain the same statement on both s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3: Transform the equation to be proved until you obtain an equation known to be an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rove this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428840" y="1214280"/>
                <a:ext cx="69181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0" y="3143160"/>
                <a:ext cx="62866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571680" y="5203800"/>
                <a:ext cx="426240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286240" y="5000760"/>
                <a:ext cx="361008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80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Use a graph to decide whether the following is an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ince the two graphs are identical, it seems as though this is an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357120" y="2643120"/>
                <a:ext cx="84218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Box 8"/>
          <p:cNvSpPr/>
          <p:nvPr/>
        </p:nvSpPr>
        <p:spPr>
          <a:xfrm>
            <a:off x="1329120" y="564372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 careful when graphing to pay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removable discontinu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ind all restrictions on the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emember, tan x is not defined when cos x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x ≠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2 + n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 for all integers n.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1643040" y="2286000"/>
                <a:ext cx="53150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6" name="Straight Arrow Connector 9"/>
          <p:cNvCxnSpPr/>
          <p:nvPr/>
        </p:nvCxnSpPr>
        <p:spPr>
          <a:xfrm flipV="1">
            <a:off x="999000" y="3071520"/>
            <a:ext cx="715320" cy="1072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ages 322 – 3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, 7 – 8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0- 12, 14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6:15:39Z</dcterms:created>
  <dc:creator>Mediac</dc:creator>
  <dc:description/>
  <dc:language>en-US</dc:language>
  <cp:lastModifiedBy>Laura Helbing</cp:lastModifiedBy>
  <dcterms:modified xsi:type="dcterms:W3CDTF">2011-01-04T13:25:18Z</dcterms:modified>
  <cp:revision>5</cp:revision>
  <dc:subject/>
  <dc:title>PRESENTATION  NAME</dc:title>
</cp:coreProperties>
</file>