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4D9-3495-4FDB-A6F8-EE5BFA8C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0A3-1504-42EE-8A60-31DD7BC7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F7A-22B7-4A21-82AF-E8966626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69D-6D4F-4F71-BA51-0E0B318F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E00-7C4F-4E19-A2AE-E66FCDCF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A4E-55B8-4B02-9FFD-5773088D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4A6-CC5D-4A72-AFF1-90E90C60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939-A78F-48A0-B997-F13158DC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4C5-A6E5-4674-B478-D245583E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E39-84BF-40C5-968C-33D16A9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8A6-8AA4-4759-A8D7-EF2FD74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682-71FE-48F9-95D6-8C0E58C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FB9-9A2B-4723-A18E-869DC0ECBC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oving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section 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71680" y="214308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642960" y="385776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857840" y="164304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143680" y="3357720"/>
                <a:ext cx="3157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6054840"/>
                <a:ext cx="4313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584600" y="5143680"/>
                <a:ext cx="46119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3 ways to prove 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1: Work on one side of the identity until it looks like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2: Work on each side independently until you obtain the same statement on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3: Transform the equation to be proved until you obtain an equation known to be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ve this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428840" y="1214280"/>
                <a:ext cx="69181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0" y="3143160"/>
                <a:ext cx="6286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71680" y="5203800"/>
                <a:ext cx="42624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286240" y="5000760"/>
                <a:ext cx="36100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 a graph to decide whether the following is an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ince the two graphs are identical, it seems as though this is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57120" y="2643120"/>
                <a:ext cx="8421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8"/>
          <p:cNvSpPr/>
          <p:nvPr/>
        </p:nvSpPr>
        <p:spPr>
          <a:xfrm>
            <a:off x="1329120" y="564372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 careful when graphing to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emovable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ind all restrictions on th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tan x is not defined when cos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x ≠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+ 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for all integers n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643040" y="2286000"/>
                <a:ext cx="5315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Straight Arrow Connector 9"/>
          <p:cNvCxnSpPr/>
          <p:nvPr/>
        </p:nvCxnSpPr>
        <p:spPr>
          <a:xfrm flipV="1">
            <a:off x="999000" y="3071520"/>
            <a:ext cx="715320" cy="107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ges 322 – 3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, 7 – 8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- 12, 14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Laura Helbing</cp:lastModifiedBy>
  <dcterms:modified xsi:type="dcterms:W3CDTF">2011-01-04T13:25:18Z</dcterms:modified>
  <cp:revision>5</cp:revision>
  <dc:subject/>
  <dc:title>PRESENTATION  NAME</dc:title>
</cp:coreProperties>
</file>