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D03-5BE0-4D35-90D8-600FA32A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420-5D82-4B3D-9B8F-28176AE8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339-9F38-4DF3-81E8-4A8C842E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442-44BD-41D3-8620-9AEDC21C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0678-7F7B-4703-822B-B6D7D761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8AA7-31D4-4EAF-B839-F898F023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2C12-BBDF-4E47-A47A-EA19FF57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6BC1-BD1D-4D00-8750-7BC3FACD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CBFB-61BE-4A7F-BEE2-27A23C2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F2A4-63AA-4EF8-91DD-99C1F63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865A-279D-46AB-BA2A-E67E1763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35C2-9324-45B8-A232-D52B1BAF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C439-ED16-4805-BDAE-9CB6A0CA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DE91-92BE-4AB3-9A61-0751BE4B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95B8-7C20-429E-85A4-0E6C9626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BA11-E775-487F-B207-CFA683FD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7F72-BCB5-494E-A713-41220E89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2D8DB-68F0-4958-891B-B889CD6C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D409D-A064-4FDB-A256-A726B994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46F4C-CFC2-4B12-9E0E-331FFF5D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B0AFE-0605-4CBE-A943-2CD022AD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C92C-EC0E-48A9-BD11-1926A9B9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BC8A-FD3C-4513-8346-7352EEE5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6E4E-8D5A-4AFA-82CF-DA9961D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79F9-9535-4993-985F-9AA56AE6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6D3D9-5280-47E4-97B9-06A1A767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E797-C9D7-49D3-88EF-7E1EC88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F76D-2806-4A75-B6A4-946E34E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53F86-FA92-4D0F-9D8A-40152C27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7175-FBCC-4342-B1F5-B8E79EEB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460F-F2FE-4657-BA0E-E487B50D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A71F-2435-4DA9-A331-F312AD7B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4397-66BD-4C70-A4DD-3FAF1349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71D-7BF0-40DB-B3B0-E9D69F72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F743-D803-4748-AF60-E0B77E29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E1BE-38D9-4C9C-BAED-AD399BA7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B5903-F4A2-4C34-9203-2E14592B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8590-DBAA-4563-B38A-DD3CAAD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2E10B-788E-4C93-9682-E075F5F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BE05-8B07-4E1F-A61C-71072947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1BBE-977A-4A2C-A3E3-0FA13FD6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6888-1C03-42A8-BE91-2E38F92F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5F98-B1BF-4897-9FDF-C4002FCB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AA8D9-BB54-4DD8-A892-BC8516FA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269-A9B3-4978-99FC-6A9E1D51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BF4CF-EBA2-4DAC-B0BA-BAFF86BA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7DE5B-4A34-475F-870D-FB6B2BC3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D1B76-6D77-4315-A46D-596C409A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F79F-3A04-4A14-AD06-65F6CF5C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6940-5397-4E99-945E-E9AF88EE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9DA71-8174-4309-9491-90D4249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D96F-9BA6-4258-9DFD-2C75313E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5482-6A94-4111-8A71-5447E788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D8D7-4812-4C55-A66C-5BCD7D85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FE0F-A9C0-415A-B39A-331F6627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CF1-6564-4BBE-B734-AAE7B26E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BEBCE-C682-4A67-AA85-D780232C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2C59-6F51-4C97-86BC-F43D6B3F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6C2F6-F737-4302-BCB3-53F301D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F176-CCA0-439A-B6B2-70859AF2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7E09-E446-4BFF-91CC-E90C9375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D3CB-96DF-4C3B-8DDF-21FD28FA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1365-661B-497A-AC50-9A06B4A2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63DA1-76F9-4328-A4EE-CD9ABDA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5E5B1-9F27-488D-BE3E-F1281A72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1D8B8-3EBE-4C79-90ED-F833CB8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270-6612-427F-863F-E3695B69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808B-5306-4729-A271-5277BC25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56F56-B362-4075-A702-86686514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D1F38-1417-4810-B47A-E3A83CE0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EE363-DE6D-4C84-A8FB-58899E33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48AB5-1A92-4A73-97F1-57E73D61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0B09C-4DBA-4763-AF53-0516996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147E-3448-494F-8930-0642836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C0D6F-074B-42CF-9AAA-50AFB805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228D2-DF7A-481B-ADB1-421EF7D6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465D7-BD2C-4CF9-AE30-3BD3A06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DCC-980D-42B3-AFA8-4368998A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8F72F-357B-4958-A9EB-56ACB51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F38F2-A98F-41FD-B787-FF6D7EF0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E166-67B3-462A-AB6F-1D93AC08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19994-7464-4AB1-91C8-0CB55356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93D9B-9D49-4516-AC41-9F5C24A5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8CD-C931-4933-BE2D-D456185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616-FA88-4D40-9D61-401B64544991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4A0E-8699-45CD-A1B0-C67C1F8FD1FC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54AA-35CE-449B-8C3B-4B66567224AF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7BD1-A4AD-4E58-8682-5111511A8671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5C2F-12FF-44B7-B41B-4E044D6352DA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3CA-D697-4964-8BE3-D8877666EFF3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53BD-ED09-4B32-A8AD-D26DB83993FA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4.5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6840" y="1774800"/>
            <a:ext cx="838188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n integer n is a prime number iff n &gt; 1 and 1 and n are the only positive integer factors of n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Prime Factor Theorem: Every integer &gt; 1 is either prime or has a prime factor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alidity of Proof of Contradiction: The following form or argument is valid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~s then (p and(~p)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030a0"/>
                </a:solidFill>
                <a:latin typeface="Corbel"/>
              </a:rPr>
              <a:t>2, 3, 5, 7, 11, 13, 17, 19, 23, 29, 31, 37, 41, 43, 47, 53, 59, 61, 67, 71, 73, 79, 83, 89, 97</a:t>
            </a:r>
            <a:endParaRPr b="0" lang="en-US" sz="66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f an integer n has no prime factors between 1 and n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1/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nclusive, then n is prime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398520" indent="-2901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undamental Theorem of Arithmetic: Suppose that n is an integer and that n &gt; 1.  Then, either n is a prime number or n has a prime factorization that is unique except for the order of the factor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4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12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 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+ 27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9) (x</a:t>
            </a:r>
            <a:r>
              <a:rPr b="1" lang="en-US" sz="44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4400" spc="-1" strike="noStrike">
                <a:solidFill>
                  <a:srgbClr val="7030a0"/>
                </a:solidFill>
                <a:latin typeface="Corbel"/>
              </a:rPr>
              <a:t> – 3)</a:t>
            </a:r>
            <a:endParaRPr b="0" lang="en-US" sz="44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2362320" y="4800600"/>
          <a:ext cx="48909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4800600"/>
                    <a:ext cx="48909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68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an be rewritten as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*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10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8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4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cxnSp>
        <p:nvCxnSpPr>
          <p:cNvPr id="317" name="Straight Arrow Connector 4"/>
          <p:cNvCxnSpPr/>
          <p:nvPr/>
        </p:nvCxnSpPr>
        <p:spPr>
          <a:xfrm flipH="1">
            <a:off x="761400" y="289512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>
            <a:off x="837720" y="4876920"/>
            <a:ext cx="610560" cy="76248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19" name="Straight Arrow Connector 7"/>
          <p:cNvCxnSpPr/>
          <p:nvPr/>
        </p:nvCxnSpPr>
        <p:spPr>
          <a:xfrm flipH="1">
            <a:off x="1675800" y="3885840"/>
            <a:ext cx="610200" cy="7628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0" name="Straight Arrow Connector 8"/>
          <p:cNvCxnSpPr/>
          <p:nvPr/>
        </p:nvCxnSpPr>
        <p:spPr>
          <a:xfrm flipH="1">
            <a:off x="5562360" y="2971440"/>
            <a:ext cx="45792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1" name="Straight Arrow Connector 10"/>
          <p:cNvCxnSpPr/>
          <p:nvPr/>
        </p:nvCxnSpPr>
        <p:spPr>
          <a:xfrm>
            <a:off x="1905120" y="2971800"/>
            <a:ext cx="457920" cy="53424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2" name="Straight Arrow Connector 12"/>
          <p:cNvCxnSpPr/>
          <p:nvPr/>
        </p:nvCxnSpPr>
        <p:spPr>
          <a:xfrm>
            <a:off x="2666880" y="396216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3" name="Straight Arrow Connector 13"/>
          <p:cNvCxnSpPr/>
          <p:nvPr/>
        </p:nvCxnSpPr>
        <p:spPr>
          <a:xfrm>
            <a:off x="1600200" y="4952880"/>
            <a:ext cx="534240" cy="61056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cxnSp>
        <p:nvCxnSpPr>
          <p:cNvPr id="324" name="Straight Arrow Connector 14"/>
          <p:cNvCxnSpPr/>
          <p:nvPr/>
        </p:nvCxnSpPr>
        <p:spPr>
          <a:xfrm>
            <a:off x="6324480" y="2971440"/>
            <a:ext cx="534240" cy="610200"/>
          </a:xfrm>
          <a:prstGeom prst="straightConnector1">
            <a:avLst/>
          </a:prstGeom>
          <a:ln cap="rnd" w="6480">
            <a:solidFill>
              <a:srgbClr val="00aff0"/>
            </a:solidFill>
            <a:miter/>
            <a:tailEnd len="med" type="arrow" w="med"/>
          </a:ln>
        </p:spPr>
      </p:cxnSp>
      <p:sp>
        <p:nvSpPr>
          <p:cNvPr id="325" name="TextBox 15"/>
          <p:cNvSpPr/>
          <p:nvPr/>
        </p:nvSpPr>
        <p:spPr>
          <a:xfrm>
            <a:off x="3885480" y="4952880"/>
            <a:ext cx="46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So, 2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12</a:t>
            </a:r>
            <a:r>
              <a:rPr b="1" lang="en-US" sz="5400" spc="-1" strike="noStrike">
                <a:solidFill>
                  <a:srgbClr val="7030a0"/>
                </a:solidFill>
                <a:latin typeface="Corbel"/>
              </a:rPr>
              <a:t> * 3 * 5</a:t>
            </a:r>
            <a:r>
              <a:rPr b="1" lang="en-US" sz="54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54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26" name="TextBox 18"/>
          <p:cNvSpPr/>
          <p:nvPr/>
        </p:nvSpPr>
        <p:spPr>
          <a:xfrm>
            <a:off x="5104440" y="365760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2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r>
              <a:rPr b="1" lang="en-US" sz="3200" spc="-1" strike="noStrike">
                <a:solidFill>
                  <a:srgbClr val="7030a0"/>
                </a:solidFill>
                <a:latin typeface="Corbel"/>
              </a:rPr>
              <a:t>              5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orbel"/>
              </a:rPr>
              <a:t>9</a:t>
            </a:r>
            <a:endParaRPr b="0" lang="en-US" sz="3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10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Since x = -4, so a root is (x + 4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+ 7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48x + 16  ÷  (x + 4) =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5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– 13x + 4 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r = 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Quadratic equation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o, (x + 4)(x -              ) (x -               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0480" indent="-30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609480" y="4495680"/>
          <a:ext cx="3492720" cy="13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495680"/>
                    <a:ext cx="349272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4952880" y="4572000"/>
          <a:ext cx="1717920" cy="118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572000"/>
                    <a:ext cx="1717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4"/>
          <p:cNvGraphicFramePr/>
          <p:nvPr/>
        </p:nvGraphicFramePr>
        <p:xfrm>
          <a:off x="3048120" y="5486400"/>
          <a:ext cx="1717560" cy="118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5486400"/>
                    <a:ext cx="17175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5"/>
          <p:cNvGraphicFramePr/>
          <p:nvPr/>
        </p:nvGraphicFramePr>
        <p:xfrm>
          <a:off x="5486400" y="5410080"/>
          <a:ext cx="1717560" cy="1295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486400" y="5410080"/>
                    <a:ext cx="17175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 is no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ssume there IS a greatest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t = greatest multiple of 9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ut, t + 9 is also a multiple of 9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ontradiction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29120" indent="-312480">
              <a:buClr>
                <a:srgbClr val="00b0f0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refore, there is no greatest multiple of 9!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Pages 253 – 254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 </a:t>
            </a: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 – 2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6,7,9, 10, 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0a0"/>
                </a:solidFill>
                <a:latin typeface="Corbel"/>
              </a:rPr>
              <a:t>12,18- 20</a:t>
            </a:r>
            <a:endParaRPr b="0" lang="en-US" sz="7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1:04:20Z</dcterms:created>
  <dc:creator>teacher</dc:creator>
  <dc:description/>
  <dc:language>en-US</dc:language>
  <cp:lastModifiedBy>Laura Helbing</cp:lastModifiedBy>
  <dcterms:modified xsi:type="dcterms:W3CDTF">2011-12-05T13:56:51Z</dcterms:modified>
  <cp:revision>8</cp:revision>
  <dc:subject/>
  <dc:title>Prime Numbers and Prime Polynomials</dc:title>
</cp:coreProperties>
</file>