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55F-B525-4FE3-8AC4-6E561416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032-E05B-41EB-9FBC-797643F4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E8C-AF9D-4E97-8EC9-EE09A0D4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19F-9848-4FE0-80C2-F52E509E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663A-25F8-4B79-893D-09B1A6CF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2FC0-FC99-455A-AF9A-EACA1E45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4B12-EC79-4B36-A05A-D7907E5C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2A3F-C781-401F-9CE6-77A24EB2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BC4C-EEAD-4393-B048-DA0F9386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856E-6461-48EB-BC9D-FEE68F9A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F733-9A3C-40F8-A6A0-82B2E509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4FA-6C52-409D-B43B-536FAA64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6B27-D61E-48B4-9F46-CCF172B0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906A-EC64-4A2E-AFF4-724253AC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052A-B855-435E-882D-4C1D507D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AC40-7718-4A1A-9A2A-223590D7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1D3D-04BC-4CDF-B56D-4231B65F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418DD-CED1-4103-9FDE-509E8059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95BE-A661-46D7-9641-67F3916E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9C01-69BF-4415-9B51-6968C451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D699-C65D-4C7B-8608-0E37D2E0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51A98-F1A9-447C-B54A-2BA95446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5F6-F123-4BE3-BDA9-321B5188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FC04-DDB8-44CC-AD5C-6341795D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72B3-C509-457E-954C-E204DC91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9B507-CD7A-4665-A7E4-1226C831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49319-D35B-4838-9EA6-966079C8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FAC40-9B3A-49E3-9590-A9477B6D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4220-6717-4030-AE6E-87E6B2B7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99C6-DE09-4FAA-B94E-B822C33E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0B06E-3EA2-40E6-B975-B1FC7821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F3B1C-C791-42C8-A0F0-5B56EAA3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ED860-5276-4925-ADB9-DE1BF94E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8C4-B916-4FC9-ACC9-66E6B6E7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D5C9-E6B5-4893-8245-291F3EFC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2BDE-F825-4D74-A8B0-7B923A59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03AB3-6169-4A8A-8057-211F9C03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A2A0D-1B90-4975-B3A7-9178EB16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01F82-B786-4951-B75A-0EBF42F8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7FE99-A68A-4966-B2B4-CAB8732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0443E-94ED-4F99-A681-991A19FF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0B034-B8A7-4A3C-9C50-509A5D3F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C351-E6B0-4B2A-9477-A09AF0A2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494D5-1257-4E31-810F-2D535656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A61-62E4-4BB0-9B2F-11BF9E74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8BFB0-475D-454E-BD95-E09E280E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A985A-AFF1-402C-9275-D0227FBC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2F2E0-726F-4086-8415-12C23A25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E0511-ADD4-4FB2-95B8-36DBDD2A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94A9D-F844-45F4-83B6-6919F1C7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0C8F7-46E6-4171-8064-405A5825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AC10B-7EF7-4D98-B664-A4EF1E6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52452-D81D-49D9-BB49-4E5BBB14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EADFA-4507-4D62-9184-C9614974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32922-C031-4B5F-A14E-F96BB7EA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861-DCB3-47F4-95B3-9904A033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49CEA-EA7A-4AB2-9C0F-A45DB199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AF859-A276-4DB5-A3D1-3C272929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F21BD-FFEC-4592-A338-6EB0CCA0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76FDF-3AA1-4464-880E-EF222F21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BCEF3-89B7-43A6-9F21-D7BBCB20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606F9-B72D-44D8-995B-B4CFB4A4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FC997-30A3-468E-A0CE-76588A67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86E3A-6CF5-4C54-AA10-8B9F1D21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C65AA-3BC6-42B0-8805-7DB3DF44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23B01-E9B1-4231-AD80-D4EF933B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91C-C713-4BE2-BB32-D986BD36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68D95-BFCC-43B1-B581-393DC3B7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CEB1E-D606-4332-81CD-F4EAB812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A806C-4F6C-4708-B99B-3B81B62D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CC574-6981-4665-9B9B-35038303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403EF-EC2F-4886-AD9A-3B786D46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61778-6317-4FB0-B5A6-49BDA0CA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B6D3C-F3F2-426C-844A-3ABC9E7E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F0613-39C2-4BEE-AE5A-20C504D1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728C8-E15F-416C-8551-E6D9B47C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F81A0-3BBB-4932-8937-DC08C210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5D3-CB7D-426F-9DE8-9F839CCB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DF64A-2228-48A4-9424-59A7BE44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7858B-353F-464F-A2A2-AAD2F0AC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630E0-F3A3-423E-9121-1A185813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4DFCC-2EAF-4ADB-856C-80CC6D39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A41CA-A8CE-4003-9B7A-8F3CF384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915-46DF-46D2-A9E1-D5246FA3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C7C6-E2AD-49E9-9A34-2B6969416509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5D95-7FC4-4897-BA6F-8D488A94E83D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723A-468B-4037-A1C3-FE70D44CE6E3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7F75-65BB-4A5B-BF42-109004A7C207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566F-5F88-4537-8994-47ED9199CE76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E048-4366-45FD-BD25-84EEDC5B3172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5EF5-7690-49A1-9562-54C2403511D5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4.5</a:t>
            </a:r>
            <a:endParaRPr b="0" lang="en-US" sz="2000" spc="-1" strike="noStrike">
              <a:solidFill>
                <a:srgbClr val="ffcc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6840" y="1774800"/>
            <a:ext cx="838188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n integer n is a prime number iff n &gt; 1 and 1 and n are the only positive integer factors of n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Prime Factor Theorem: Every integer &gt; 1 is either prime or has a prime factor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Validity of Proof of Contradiction: The following form or argument is valid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f ~s then (p and(~p)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refore, 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030a0"/>
                </a:solidFill>
                <a:latin typeface="Corbel"/>
              </a:rPr>
              <a:t>2, 3, 5, 7, 11, 13, 17, 19, 23, 29, 31, 37, 41, 43, 47, 53, 59, 61, 67, 71, 73, 79, 83, 89, 97</a:t>
            </a:r>
            <a:endParaRPr b="0" lang="en-US" sz="66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f an integer n has no prime factors between 1 and n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1/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inclusive, then n is prime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undamental Theorem of Arithmetic: Suppose that n is an integer and that n &gt; 1.  Then, either n is a prime number or n has a prime factorization that is unique except for the order of the factors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4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 – 12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2 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+ 27</a:t>
            </a:r>
            <a:endParaRPr b="0" lang="en-US" sz="44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(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 – 9) (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 – 3)</a:t>
            </a:r>
            <a:endParaRPr b="0" lang="en-US" sz="4400" spc="-1" strike="noStrike">
              <a:solidFill>
                <a:srgbClr val="7030a0"/>
              </a:solidFill>
              <a:latin typeface="Corbe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2362320" y="4800600"/>
          <a:ext cx="4890960" cy="6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800600"/>
                    <a:ext cx="489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68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an be rewritten as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4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*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10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3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8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4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cxnSp>
        <p:nvCxnSpPr>
          <p:cNvPr id="317" name="Straight Arrow Connector 4"/>
          <p:cNvCxnSpPr/>
          <p:nvPr/>
        </p:nvCxnSpPr>
        <p:spPr>
          <a:xfrm flipH="1">
            <a:off x="761400" y="2895120"/>
            <a:ext cx="610200" cy="76284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>
            <a:off x="837720" y="4876920"/>
            <a:ext cx="610560" cy="76248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19" name="Straight Arrow Connector 7"/>
          <p:cNvCxnSpPr/>
          <p:nvPr/>
        </p:nvCxnSpPr>
        <p:spPr>
          <a:xfrm flipH="1">
            <a:off x="1675800" y="3885840"/>
            <a:ext cx="610200" cy="76284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0" name="Straight Arrow Connector 8"/>
          <p:cNvCxnSpPr/>
          <p:nvPr/>
        </p:nvCxnSpPr>
        <p:spPr>
          <a:xfrm flipH="1">
            <a:off x="5562360" y="2971440"/>
            <a:ext cx="457920" cy="61020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1" name="Straight Arrow Connector 10"/>
          <p:cNvCxnSpPr/>
          <p:nvPr/>
        </p:nvCxnSpPr>
        <p:spPr>
          <a:xfrm>
            <a:off x="1905120" y="2971800"/>
            <a:ext cx="457920" cy="53424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2" name="Straight Arrow Connector 12"/>
          <p:cNvCxnSpPr/>
          <p:nvPr/>
        </p:nvCxnSpPr>
        <p:spPr>
          <a:xfrm>
            <a:off x="2666880" y="3962160"/>
            <a:ext cx="534240" cy="61020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3" name="Straight Arrow Connector 13"/>
          <p:cNvCxnSpPr/>
          <p:nvPr/>
        </p:nvCxnSpPr>
        <p:spPr>
          <a:xfrm>
            <a:off x="1600200" y="4952880"/>
            <a:ext cx="534240" cy="61056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4" name="Straight Arrow Connector 14"/>
          <p:cNvCxnSpPr/>
          <p:nvPr/>
        </p:nvCxnSpPr>
        <p:spPr>
          <a:xfrm>
            <a:off x="6324480" y="2971440"/>
            <a:ext cx="534240" cy="61020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sp>
        <p:nvSpPr>
          <p:cNvPr id="325" name="TextBox 15"/>
          <p:cNvSpPr/>
          <p:nvPr/>
        </p:nvSpPr>
        <p:spPr>
          <a:xfrm>
            <a:off x="3885480" y="4952880"/>
            <a:ext cx="467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orbel"/>
              </a:rPr>
              <a:t>So, 2</a:t>
            </a:r>
            <a:r>
              <a:rPr b="1" lang="en-US" sz="5400" spc="-1" strike="noStrike" baseline="30000">
                <a:solidFill>
                  <a:srgbClr val="7030a0"/>
                </a:solidFill>
                <a:latin typeface="Corbel"/>
              </a:rPr>
              <a:t>12</a:t>
            </a:r>
            <a:r>
              <a:rPr b="1" lang="en-US" sz="5400" spc="-1" strike="noStrike">
                <a:solidFill>
                  <a:srgbClr val="7030a0"/>
                </a:solidFill>
                <a:latin typeface="Corbel"/>
              </a:rPr>
              <a:t> * 3 * 5</a:t>
            </a:r>
            <a:r>
              <a:rPr b="1" lang="en-US" sz="54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endParaRPr b="0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6" name="TextBox 18"/>
          <p:cNvSpPr/>
          <p:nvPr/>
        </p:nvSpPr>
        <p:spPr>
          <a:xfrm>
            <a:off x="5104440" y="365760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r>
              <a:rPr b="1" lang="en-US" sz="3200" spc="-1" strike="noStrike">
                <a:solidFill>
                  <a:srgbClr val="7030a0"/>
                </a:solidFill>
                <a:latin typeface="Corbel"/>
              </a:rPr>
              <a:t>              5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10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+ 7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– 48x + 16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Since x = -4, so a root is (x + 4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+ 7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– 48x + 16  ÷  (x + 4) =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– 13x + 4 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r = 0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Quadratic equation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o, (x + 4)(x -              ) (x -               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609480" y="4495680"/>
          <a:ext cx="3492720" cy="13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495680"/>
                    <a:ext cx="349272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3"/>
          <p:cNvGraphicFramePr/>
          <p:nvPr/>
        </p:nvGraphicFramePr>
        <p:xfrm>
          <a:off x="4952880" y="4572000"/>
          <a:ext cx="1717920" cy="118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572000"/>
                    <a:ext cx="17179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4"/>
          <p:cNvGraphicFramePr/>
          <p:nvPr/>
        </p:nvGraphicFramePr>
        <p:xfrm>
          <a:off x="3048120" y="5486400"/>
          <a:ext cx="1717560" cy="118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5486400"/>
                    <a:ext cx="17175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5"/>
          <p:cNvGraphicFramePr/>
          <p:nvPr/>
        </p:nvGraphicFramePr>
        <p:xfrm>
          <a:off x="5486400" y="5410080"/>
          <a:ext cx="1717560" cy="129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6400" y="5410080"/>
                    <a:ext cx="17175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re is no greatest multiple of 9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ssume there IS a greatest multiple of 9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Let t = greatest multiple of 9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But, t + 9 is also a multiple of 9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ontradiction!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refore, there is no greatest multiple of 9!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Pages 253 – 254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1 – 2, 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6,7,9, 10, 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12,18- 20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1:04:20Z</dcterms:created>
  <dc:creator>teacher</dc:creator>
  <dc:description/>
  <dc:language>en-US</dc:language>
  <cp:lastModifiedBy>Laura Helbing</cp:lastModifiedBy>
  <dcterms:modified xsi:type="dcterms:W3CDTF">2011-12-05T13:56:51Z</dcterms:modified>
  <cp:revision>8</cp:revision>
  <dc:subject/>
  <dc:title>Prime Numbers and Prime Polynomials</dc:title>
</cp:coreProperties>
</file>