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3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F739-88AF-483A-A4D8-EFCE13E4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CAE-1845-4C7B-B23E-568CF4A0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F1E-0977-4684-AAC7-C258A0A8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84F-014C-4E0A-B337-738D652B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FED9-FA45-4008-92A5-C6C2E744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3A08-D2AA-4B2C-A98B-621F6981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0388-E2A8-4D35-BEB8-35F3897B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14B7-2512-433D-A8FD-BF440F5E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148E-9BD6-4CC7-933F-470308FC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E4AF-28D2-43CE-9252-A523768A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B0D9-AB55-43BE-95D7-C2C8CEAE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4468-1BE1-4838-ACAD-C4805FC6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6BEE-D7BB-4245-A39F-716B93BC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2E57-F8C3-4A3D-B1AB-213FE75D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AE83-2634-4FE0-A3A8-6309AAB9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FE0F-F639-4DE3-94E1-2E75152A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997B-6DFD-4332-9B60-499E0E3B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277DB-D2A4-4BAB-A0D6-A2F2AF72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C9B80-3475-4D00-9C13-5BD155F3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1D973-1278-4E11-A55B-4D256C49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A25CB-E8F2-44AF-AEF5-ADA9D3C3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78E8A-262E-4FDA-B248-763981F5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A3D-1339-47EC-A04D-944D1F5D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2BF16-EE68-4051-9ED5-0FFAAE78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86154-0A64-42E6-9779-41345D60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E73F0-021E-4892-81C6-6C298654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B9705-6792-4450-8D3E-ACC57D4A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386B3-8A51-4293-A165-6BC83B24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F5F6F-8820-44CF-9E96-6409E53C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D884A-E91F-4BD8-A6DF-AF13322D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9DC00-4F01-47C5-96A0-9C7E3285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78B3B-AAFB-42C0-8FD4-EE579B96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06156-C6CB-4596-AC4C-EF73BA52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3D1-1BC5-4E7F-863E-65380ABE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A4054-2445-4200-ABCA-B5566BD7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C5269-35CF-4095-A367-F4DC94C7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E554B-8731-4640-8882-0B60F1A5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61195-BF47-42FE-AA76-D8BDFDA5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7FB56-CB4C-4EB3-92D2-A687F6D8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5D611-19EE-4CB6-B089-083868E8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74EA1-7140-4680-BB42-733E2E59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0EED5-8666-458C-98F6-8AA58497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C83F9-56D1-4B03-A2CA-D47C46D2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B75F0-6574-4B67-9223-A7F4A1DD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DA36-B98B-4D0D-85C0-5DEE641C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01BF7-F330-48B3-A997-241731AE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1D08A-5C03-4173-857C-CF313CDC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79E98-EC9B-423F-A026-67AD8A7E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3B82A-20D9-4323-BD46-94957E40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57E1E-D954-4A9F-AF06-5EC8D4CB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84A9E-A45C-4B2C-A3C1-80BD5850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7283A-70C2-4883-9554-A9B0DDA2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EA8F1-D3AF-4365-AE24-A009A593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29E8C-6C69-4100-BCBD-B6BC28B4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58320-7601-488A-9CC3-2B9D599A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D2CE-6576-4588-9C93-09736133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E19B2-0950-43EC-8768-0EC9F1FB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EFCA2-D6A4-4257-8BAE-75AA8018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DB281-5810-4FC8-AA0D-402C33B2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3789E-4453-4F25-803E-B5A2CA54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AD2E1-7AA8-4C15-AFAF-08657DAD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BBCD8-2B0F-4BE4-863C-4DD6EA52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3A416-4A5E-4A00-9474-1360CF2C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841D7-99B0-48B2-8724-8A49B8C6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DDE26-17DF-4FCF-809F-2C86990A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D6EFE-B2BA-4BC6-8CAC-D67DF923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BA6-7470-4C3A-A683-3375946A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D3C7C-EADB-4C10-BDAD-5D2C9CF1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6142A-79B4-41BB-B9F7-5C3C1088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26886-A7CB-473D-98A8-43ECEB28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ACE53-4540-4D4C-A9B3-C873E389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2464A-0D60-4F79-B3AE-97FDC3B9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F3F08-3D65-48CD-AE07-489356C2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CDDFD-A30A-49F4-B456-1C3066B6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B7965-4D73-401B-8794-89219865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92EDE-DB64-47F6-87E5-E0689AB8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08049-5DA6-47EF-A391-908CB05B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0A3-3271-4E50-A1E2-C3944F2D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34DA3-0D3B-4109-8399-1F5E9A4D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F22FF-D05B-4302-A92E-0A456884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CF702-5E2A-4098-BB18-A894BC63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D0432-F435-49A2-BE61-26C47E80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20BE9-E7DA-4048-A44A-EFEA5A1F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88EF-7037-4023-83F9-3F6B24E6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6AC5-EE34-4FDE-9438-681272D8669D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5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6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7AB4-DABA-4D16-9E1C-E0A02411E68A}" type="slidenum">
              <a:rPr b="0" lang="en-US" sz="1200" spc="-1" strike="noStrike">
                <a:solidFill>
                  <a:srgbClr val="ffc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5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6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465D-583C-4D02-9CCE-736824502230}" type="slidenum">
              <a:rPr b="0" lang="en-US" sz="1200" spc="-1" strike="noStrike">
                <a:solidFill>
                  <a:srgbClr val="ffc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ED47-BC43-4397-BC02-3554D8EC54BE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C5EB-9CFA-4D00-8D91-9CAC28A9BCDD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2B71-A418-4EB1-8E1C-407C11FB9D26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AE9E-66D9-46AE-A849-1017C77C9EEC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sson 4.5</a:t>
            </a:r>
            <a:endParaRPr b="0" lang="en-US" sz="2000" spc="-1" strike="noStrike">
              <a:solidFill>
                <a:srgbClr val="ffcc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6840" y="1774800"/>
            <a:ext cx="838188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An integer n is a prime number iff n &gt; 1 and 1 and n are the only positive integer factors of n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Prime Factor Theorem: Every integer &gt; 1 is either prime or has a prime factor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Validity of Proof of Contradiction: The following form or argument is valid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If ~s then (p and(~p))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refore, s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030a0"/>
                </a:solidFill>
                <a:latin typeface="Corbel"/>
              </a:rPr>
              <a:t>2, 3, 5, 7, 11, 13, 17, 19, 23, 29, 31, 37, 41, 43, 47, 53, 59, 61, 67, 71, 73, 79, 83, 89, 97</a:t>
            </a:r>
            <a:endParaRPr b="0" lang="en-US" sz="66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If an integer n has no prime factors between 1 and n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1/2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inclusive, then n is prime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398520" indent="-2901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398520" indent="-2901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398520" indent="-2901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undamental Theorem of Arithmetic: Suppose that n is an integer and that n &gt; 1.  Then, either n is a prime number or n has a prime factorization that is unique except for the order of the factors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x</a:t>
            </a:r>
            <a:r>
              <a:rPr b="1" lang="en-US" sz="4400" spc="-1" strike="noStrike" baseline="30000">
                <a:solidFill>
                  <a:srgbClr val="7030a0"/>
                </a:solidFill>
                <a:latin typeface="Corbel"/>
              </a:rPr>
              <a:t>4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 – 12x</a:t>
            </a:r>
            <a:r>
              <a:rPr b="1" lang="en-US" sz="4400" spc="-1" strike="noStrike" baseline="30000">
                <a:solidFill>
                  <a:srgbClr val="7030a0"/>
                </a:solidFill>
                <a:latin typeface="Corbel"/>
              </a:rPr>
              <a:t>2 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+ 27</a:t>
            </a:r>
            <a:endParaRPr b="0" lang="en-US" sz="44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(x</a:t>
            </a:r>
            <a:r>
              <a:rPr b="1" lang="en-US" sz="4400" spc="-1" strike="noStrike" baseline="30000">
                <a:solidFill>
                  <a:srgbClr val="7030a0"/>
                </a:solidFill>
                <a:latin typeface="Corbel"/>
              </a:rPr>
              <a:t>2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 – 9) (x</a:t>
            </a:r>
            <a:r>
              <a:rPr b="1" lang="en-US" sz="4400" spc="-1" strike="noStrike" baseline="30000">
                <a:solidFill>
                  <a:srgbClr val="7030a0"/>
                </a:solidFill>
                <a:latin typeface="Corbel"/>
              </a:rPr>
              <a:t>2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 – 3)</a:t>
            </a:r>
            <a:endParaRPr b="0" lang="en-US" sz="4400" spc="-1" strike="noStrike">
              <a:solidFill>
                <a:srgbClr val="7030a0"/>
              </a:solidFill>
              <a:latin typeface="Corbel"/>
            </a:endParaRPr>
          </a:p>
        </p:txBody>
      </p:sp>
      <p:graphicFrame>
        <p:nvGraphicFramePr>
          <p:cNvPr id="313" name="Object 4"/>
          <p:cNvGraphicFramePr/>
          <p:nvPr/>
        </p:nvGraphicFramePr>
        <p:xfrm>
          <a:off x="2362320" y="4800600"/>
          <a:ext cx="4890960" cy="63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4800600"/>
                    <a:ext cx="4890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68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an be rewritten as: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24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*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10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9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3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8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4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cxnSp>
        <p:nvCxnSpPr>
          <p:cNvPr id="317" name="Straight Arrow Connector 4"/>
          <p:cNvCxnSpPr/>
          <p:nvPr/>
        </p:nvCxnSpPr>
        <p:spPr>
          <a:xfrm flipH="1">
            <a:off x="761400" y="2895120"/>
            <a:ext cx="610200" cy="76284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18" name="Straight Arrow Connector 6"/>
          <p:cNvCxnSpPr/>
          <p:nvPr/>
        </p:nvCxnSpPr>
        <p:spPr>
          <a:xfrm flipH="1">
            <a:off x="837720" y="4876920"/>
            <a:ext cx="610560" cy="76248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19" name="Straight Arrow Connector 7"/>
          <p:cNvCxnSpPr/>
          <p:nvPr/>
        </p:nvCxnSpPr>
        <p:spPr>
          <a:xfrm flipH="1">
            <a:off x="1675800" y="3885840"/>
            <a:ext cx="610200" cy="76284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20" name="Straight Arrow Connector 8"/>
          <p:cNvCxnSpPr/>
          <p:nvPr/>
        </p:nvCxnSpPr>
        <p:spPr>
          <a:xfrm flipH="1">
            <a:off x="5562360" y="2971440"/>
            <a:ext cx="457920" cy="61020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21" name="Straight Arrow Connector 10"/>
          <p:cNvCxnSpPr/>
          <p:nvPr/>
        </p:nvCxnSpPr>
        <p:spPr>
          <a:xfrm>
            <a:off x="1905120" y="2971800"/>
            <a:ext cx="457920" cy="53424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22" name="Straight Arrow Connector 12"/>
          <p:cNvCxnSpPr/>
          <p:nvPr/>
        </p:nvCxnSpPr>
        <p:spPr>
          <a:xfrm>
            <a:off x="2666880" y="3962160"/>
            <a:ext cx="534240" cy="61020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23" name="Straight Arrow Connector 13"/>
          <p:cNvCxnSpPr/>
          <p:nvPr/>
        </p:nvCxnSpPr>
        <p:spPr>
          <a:xfrm>
            <a:off x="1600200" y="4952880"/>
            <a:ext cx="534240" cy="61056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24" name="Straight Arrow Connector 14"/>
          <p:cNvCxnSpPr/>
          <p:nvPr/>
        </p:nvCxnSpPr>
        <p:spPr>
          <a:xfrm>
            <a:off x="6324480" y="2971440"/>
            <a:ext cx="534240" cy="61020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sp>
        <p:nvSpPr>
          <p:cNvPr id="325" name="TextBox 15"/>
          <p:cNvSpPr/>
          <p:nvPr/>
        </p:nvSpPr>
        <p:spPr>
          <a:xfrm>
            <a:off x="3885480" y="4952880"/>
            <a:ext cx="467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orbel"/>
              </a:rPr>
              <a:t>So, 2</a:t>
            </a:r>
            <a:r>
              <a:rPr b="1" lang="en-US" sz="5400" spc="-1" strike="noStrike" baseline="30000">
                <a:solidFill>
                  <a:srgbClr val="7030a0"/>
                </a:solidFill>
                <a:latin typeface="Corbel"/>
              </a:rPr>
              <a:t>12</a:t>
            </a:r>
            <a:r>
              <a:rPr b="1" lang="en-US" sz="5400" spc="-1" strike="noStrike">
                <a:solidFill>
                  <a:srgbClr val="7030a0"/>
                </a:solidFill>
                <a:latin typeface="Corbel"/>
              </a:rPr>
              <a:t> * 3 * 5</a:t>
            </a:r>
            <a:r>
              <a:rPr b="1" lang="en-US" sz="5400" spc="-1" strike="noStrike" baseline="30000">
                <a:solidFill>
                  <a:srgbClr val="7030a0"/>
                </a:solidFill>
                <a:latin typeface="Corbel"/>
              </a:rPr>
              <a:t>9</a:t>
            </a:r>
            <a:endParaRPr b="0" lang="en-US" sz="5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26" name="TextBox 18"/>
          <p:cNvSpPr/>
          <p:nvPr/>
        </p:nvSpPr>
        <p:spPr>
          <a:xfrm>
            <a:off x="5104440" y="365760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rbel"/>
              </a:rPr>
              <a:t>2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orbel"/>
              </a:rPr>
              <a:t>9</a:t>
            </a:r>
            <a:r>
              <a:rPr b="1" lang="en-US" sz="3200" spc="-1" strike="noStrike">
                <a:solidFill>
                  <a:srgbClr val="7030a0"/>
                </a:solidFill>
                <a:latin typeface="Corbel"/>
              </a:rPr>
              <a:t>              5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orbel"/>
              </a:rPr>
              <a:t>9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10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5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+ 7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– 48x + 16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Since x = -4, so a root is (x + 4)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5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+ 7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– 48x + 16  ÷  (x + 4) =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5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– 13x + 4 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r = 0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Quadratic equation: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o, (x + 4)(x -              ) (x -               )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graphicFrame>
        <p:nvGraphicFramePr>
          <p:cNvPr id="329" name="Object 4"/>
          <p:cNvGraphicFramePr/>
          <p:nvPr/>
        </p:nvGraphicFramePr>
        <p:xfrm>
          <a:off x="609480" y="4495680"/>
          <a:ext cx="3492720" cy="13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495680"/>
                    <a:ext cx="349272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3"/>
          <p:cNvGraphicFramePr/>
          <p:nvPr/>
        </p:nvGraphicFramePr>
        <p:xfrm>
          <a:off x="4952880" y="4572000"/>
          <a:ext cx="1717920" cy="118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4572000"/>
                    <a:ext cx="171792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4"/>
          <p:cNvGraphicFramePr/>
          <p:nvPr/>
        </p:nvGraphicFramePr>
        <p:xfrm>
          <a:off x="3048120" y="5486400"/>
          <a:ext cx="1717560" cy="1182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5486400"/>
                    <a:ext cx="171756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5"/>
          <p:cNvGraphicFramePr/>
          <p:nvPr/>
        </p:nvGraphicFramePr>
        <p:xfrm>
          <a:off x="5486400" y="5410080"/>
          <a:ext cx="1717560" cy="129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86400" y="5410080"/>
                    <a:ext cx="17175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re is no greatest multiple of 9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Assume there IS a greatest multiple of 9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Let t = greatest multiple of 9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But, t + 9 is also a multiple of 9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ontradiction!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refore, there is no greatest multiple of 9!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orbel"/>
              </a:rPr>
              <a:t>Pages 253 – 254</a:t>
            </a:r>
            <a:endParaRPr b="0" lang="en-US" sz="7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1" lang="en-US" sz="7200" spc="-1" strike="noStrike">
                <a:solidFill>
                  <a:srgbClr val="7030a0"/>
                </a:solidFill>
                <a:latin typeface="Corbel"/>
              </a:rPr>
              <a:t>1 – 2, </a:t>
            </a:r>
            <a:endParaRPr b="0" lang="en-US" sz="7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orbel"/>
              </a:rPr>
              <a:t>6,7,9, 10, </a:t>
            </a:r>
            <a:endParaRPr b="0" lang="en-US" sz="7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orbel"/>
              </a:rPr>
              <a:t>12,18- 20</a:t>
            </a:r>
            <a:endParaRPr b="0" lang="en-US" sz="7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1:04:20Z</dcterms:created>
  <dc:creator>teacher</dc:creator>
  <dc:description/>
  <dc:language>en-US</dc:language>
  <cp:lastModifiedBy>Laura Helbing</cp:lastModifiedBy>
  <dcterms:modified xsi:type="dcterms:W3CDTF">2011-12-05T13:56:51Z</dcterms:modified>
  <cp:revision>8</cp:revision>
  <dc:subject/>
  <dc:title>Prime Numbers and Prime Polynomials</dc:title>
</cp:coreProperties>
</file>