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3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8953-B377-485D-8DE8-2577C56EE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B49B-0B63-4648-8086-1F72BE04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48D5-9E54-42AF-AA24-0A863C617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464E-E4AD-40FA-AFC3-122B47816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0B06-07DF-404B-9FE0-1C76C8FCE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98DF-250D-45EF-B5EC-C2000F31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96A1-798D-4DC5-B00C-FA920341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6F0D-311D-4415-8798-0FC09AF0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21DB-A926-434F-9247-9BBC93C3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C101-59E7-4507-A9BB-F974B2FD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7E95-41C1-41ED-8BED-74065221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4689-E527-4391-898F-CACF31F9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9F72-A1BA-430B-A99E-9D327D0C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BA1C-E7C5-482F-A35C-5CE2014B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85F8-4C3F-4D35-AE99-F905FBBB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1964-C062-4C44-B241-2311649F3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1F28-1BA9-44A9-9D33-66F4D0930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BD505-B893-4792-83D4-7741CA5A5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D147C-BBD1-4C73-92F1-6618784F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38D3A-6E53-48EE-955A-CDB02B15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FEEC2-2087-4771-9F6E-B07FAB8D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A4F3F-E542-4FC9-A23C-4C4748B4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7F4B-5EE1-4576-81A9-2509E830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3E26A-F049-4F7B-BFA4-A57397B0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353E2-F6B8-4DE7-ADEA-FCB1B5DC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DF7E6-0164-41B8-90B0-F769DE71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79D99-EAED-4807-96D3-FA28666A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2CD51-E692-4919-A786-A4137F9A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7B1D6-8BBE-4BE2-B9BF-B7615CB65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D65AD-3DC9-48DB-ABC1-D0E5BAEB6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B3F5F-CAE0-48F3-8B01-864BE1ECD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44518-6BBF-45BD-BFFE-BFA2B1EB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1E281-1A67-4A3F-A736-70104220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A9E5-E7D0-4B43-9BCD-1B90E678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08505-4BDE-4412-B15E-9C2911AF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C7530-3C54-4619-9FFD-E03F3327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23FC8-5382-492D-BBEB-09EFD766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A8B4F-6803-4ACD-B9CC-6F1C1DCA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13816-08FC-46D7-8AFD-8E1CD87C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5ECCB-61BA-4BC8-A8B4-6B5AD832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00CE3-C255-4C13-AB8B-887C3195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FECE8-4B40-4236-92DC-70BDF5364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35296-4BC4-4019-B367-22678B1C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E8EA4-26EB-40AC-9867-FF00290D5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ED26-8DA7-4A6F-B286-73BCF2A2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0182A-E793-4042-B579-39CE07B7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CDEA1-D212-4E04-9AD4-C50900F0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2337C-2471-441D-8E3D-961C17D5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E8E02-F373-4C66-9F3E-2AEABAD1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9C4A6-8B6B-4E96-90FE-DA9D2C36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AEF18-248C-4DA9-827F-1F4AA914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1FF25-D644-4505-90AF-82FFA9D9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B9E2A-3574-41AB-98CF-B7CDC18B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635EA-8D41-40EC-8F4F-7232EBF1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681CE-BD08-4CB9-ACF8-7C43552B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F871-EE4A-4278-A15F-A2C2720F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AD1F7-D3A6-48E8-BE75-94467C47D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C5754-3D78-4570-A464-E4CBA0DFD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DD9D1-3F58-4B4A-9812-01641078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05899-09A5-4F6D-96F6-642CA45E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DE9C1-7031-410A-A92B-3B6E2C50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5DEA6-56D5-4D56-A5F5-E5021CD3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884F8-92A8-44AF-ABBC-860A27D4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43A00-AE7E-4CBA-A670-92931D61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BB1F6-2F2C-4B6F-9BE7-B8E6ABDD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D75DE-5A33-4C83-BDB2-6EC566B4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8818-BB50-4F0E-A1F3-1B5BE93E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6320E-AAE8-40B4-87D5-17C17C93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B8019-D1AA-40D4-B3A3-7EDFA7E22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BE4BF-698E-4733-B826-629E56ABF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989A3-E7F8-4C25-83B2-8CA2937A4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3144E-0F88-4A38-9BB2-59A8B6FC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A6656-FE7E-4096-987A-2EC870E7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C99DF-C54C-4F48-A004-55B55238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ABFC7-C63B-4532-8B92-66354D3A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0F98B-A74F-439C-B3EE-F55343AE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7C558-6B52-4F30-8A0F-D9BF60A4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16BC-2278-4133-B4D8-38F4C2ED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ECCCF-22FA-47F3-BE09-1781879F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F4DAD-DD1D-450F-8A81-D52731F1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B2AEE-7DB6-4D93-A7FE-F85F379B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9129B-4E8C-4806-AC0F-25A3CC54A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DCEA0-86B5-4FAE-82F9-E2996335A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29C0-64AC-469D-BDA6-095213C0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5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6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d4fa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9233-74B6-4364-981F-960A51B7C3C2}" type="slidenum">
              <a:rPr b="0" lang="en-US" sz="1200" spc="-1" strike="noStrike">
                <a:solidFill>
                  <a:srgbClr val="7d4fa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5" marL="1425600" indent="-182520">
              <a:buClr>
                <a:srgbClr val="ffcc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6" marL="1425600" indent="-182520">
              <a:buClr>
                <a:srgbClr val="ffcc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014E-08D1-4827-859D-7E4446F3D3BB}" type="slidenum">
              <a:rPr b="0" lang="en-US" sz="1200" spc="-1" strike="noStrike">
                <a:solidFill>
                  <a:srgbClr val="ffc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5" marL="1425600" indent="-182520">
              <a:buClr>
                <a:srgbClr val="ffcc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6" marL="1425600" indent="-182520">
              <a:buClr>
                <a:srgbClr val="ffcc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7E8E-CBE1-4873-8DE3-3D704187C932}" type="slidenum">
              <a:rPr b="0" lang="en-US" sz="1200" spc="-1" strike="noStrike">
                <a:solidFill>
                  <a:srgbClr val="ffc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5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6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d4fa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589A-E454-4A2B-8B75-FAE92FE411D1}" type="slidenum">
              <a:rPr b="0" lang="en-US" sz="1200" spc="-1" strike="noStrike">
                <a:solidFill>
                  <a:srgbClr val="7d4fa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5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6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d4fa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53BE-5B96-4B02-8B76-C2511F8E83EE}" type="slidenum">
              <a:rPr b="0" lang="en-US" sz="1200" spc="-1" strike="noStrike">
                <a:solidFill>
                  <a:srgbClr val="7d4fa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5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6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d4fa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86F4-C288-4D81-96C2-5A7FF4177B80}" type="slidenum">
              <a:rPr b="0" lang="en-US" sz="1200" spc="-1" strike="noStrike">
                <a:solidFill>
                  <a:srgbClr val="7d4fa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5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6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d4fa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68DC-DE14-4086-A824-6CC154A5CED4}" type="slidenum">
              <a:rPr b="0" lang="en-US" sz="1200" spc="-1" strike="noStrike">
                <a:solidFill>
                  <a:srgbClr val="7d4fa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Lesson 4.5</a:t>
            </a:r>
            <a:endParaRPr b="0" lang="en-US" sz="2000" spc="-1" strike="noStrike">
              <a:solidFill>
                <a:srgbClr val="ffcc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6840" y="1774800"/>
            <a:ext cx="8381880" cy="5083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An integer n is a prime number iff n &gt; 1 and 1 and n are the only positive integer factors of n.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Prime Factor Theorem: Every integer &gt; 1 is either prime or has a prime factor.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Validity of Proof of Contradiction: The following form or argument is valid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If ~s then (p and(~p))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erefore, s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7030a0"/>
                </a:solidFill>
                <a:latin typeface="Corbel"/>
              </a:rPr>
              <a:t>2, 3, 5, 7, 11, 13, 17, 19, 23, 29, 31, 37, 41, 43, 47, 53, 59, 61, 67, 71, 73, 79, 83, 89, 97</a:t>
            </a:r>
            <a:endParaRPr b="0" lang="en-US" sz="6600" spc="-1" strike="noStrike">
              <a:solidFill>
                <a:srgbClr val="7030a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If an integer n has no prime factors between 1 and n</a:t>
            </a:r>
            <a:r>
              <a:rPr b="0" lang="en-US" sz="3200" spc="-1" strike="noStrike" baseline="30000">
                <a:solidFill>
                  <a:srgbClr val="7030a0"/>
                </a:solidFill>
                <a:latin typeface="Corbel"/>
              </a:rPr>
              <a:t>1/2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 inclusive, then n is prime.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398520" indent="-2901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398520" indent="-2901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398520" indent="-2901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undamental Theorem of Arithmetic: Suppose that n is an integer and that n &gt; 1.  Then, either n is a prime number or n has a prime factorization that is unique except for the order of the factors.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1" lang="en-US" sz="4400" spc="-1" strike="noStrike">
                <a:solidFill>
                  <a:srgbClr val="7030a0"/>
                </a:solidFill>
                <a:latin typeface="Corbel"/>
              </a:rPr>
              <a:t>x</a:t>
            </a:r>
            <a:r>
              <a:rPr b="1" lang="en-US" sz="4400" spc="-1" strike="noStrike" baseline="30000">
                <a:solidFill>
                  <a:srgbClr val="7030a0"/>
                </a:solidFill>
                <a:latin typeface="Corbel"/>
              </a:rPr>
              <a:t>4</a:t>
            </a:r>
            <a:r>
              <a:rPr b="1" lang="en-US" sz="4400" spc="-1" strike="noStrike">
                <a:solidFill>
                  <a:srgbClr val="7030a0"/>
                </a:solidFill>
                <a:latin typeface="Corbel"/>
              </a:rPr>
              <a:t> – 12x</a:t>
            </a:r>
            <a:r>
              <a:rPr b="1" lang="en-US" sz="4400" spc="-1" strike="noStrike" baseline="30000">
                <a:solidFill>
                  <a:srgbClr val="7030a0"/>
                </a:solidFill>
                <a:latin typeface="Corbel"/>
              </a:rPr>
              <a:t>2 </a:t>
            </a:r>
            <a:r>
              <a:rPr b="1" lang="en-US" sz="4400" spc="-1" strike="noStrike">
                <a:solidFill>
                  <a:srgbClr val="7030a0"/>
                </a:solidFill>
                <a:latin typeface="Corbel"/>
              </a:rPr>
              <a:t>+ 27</a:t>
            </a:r>
            <a:endParaRPr b="0" lang="en-US" sz="44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1" lang="en-US" sz="44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1" lang="en-US" sz="44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1" lang="en-US" sz="44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1" lang="en-US" sz="4400" spc="-1" strike="noStrike">
                <a:solidFill>
                  <a:srgbClr val="7030a0"/>
                </a:solidFill>
                <a:latin typeface="Corbel"/>
              </a:rPr>
              <a:t>(x</a:t>
            </a:r>
            <a:r>
              <a:rPr b="1" lang="en-US" sz="4400" spc="-1" strike="noStrike" baseline="30000">
                <a:solidFill>
                  <a:srgbClr val="7030a0"/>
                </a:solidFill>
                <a:latin typeface="Corbel"/>
              </a:rPr>
              <a:t>2</a:t>
            </a:r>
            <a:r>
              <a:rPr b="1" lang="en-US" sz="4400" spc="-1" strike="noStrike">
                <a:solidFill>
                  <a:srgbClr val="7030a0"/>
                </a:solidFill>
                <a:latin typeface="Corbel"/>
              </a:rPr>
              <a:t> – 9) (x</a:t>
            </a:r>
            <a:r>
              <a:rPr b="1" lang="en-US" sz="4400" spc="-1" strike="noStrike" baseline="30000">
                <a:solidFill>
                  <a:srgbClr val="7030a0"/>
                </a:solidFill>
                <a:latin typeface="Corbel"/>
              </a:rPr>
              <a:t>2</a:t>
            </a:r>
            <a:r>
              <a:rPr b="1" lang="en-US" sz="4400" spc="-1" strike="noStrike">
                <a:solidFill>
                  <a:srgbClr val="7030a0"/>
                </a:solidFill>
                <a:latin typeface="Corbel"/>
              </a:rPr>
              <a:t> – 3)</a:t>
            </a:r>
            <a:endParaRPr b="0" lang="en-US" sz="4400" spc="-1" strike="noStrike">
              <a:solidFill>
                <a:srgbClr val="7030a0"/>
              </a:solidFill>
              <a:latin typeface="Corbel"/>
            </a:endParaRPr>
          </a:p>
        </p:txBody>
      </p:sp>
      <p:graphicFrame>
        <p:nvGraphicFramePr>
          <p:cNvPr id="313" name="Object 4"/>
          <p:cNvGraphicFramePr/>
          <p:nvPr/>
        </p:nvGraphicFramePr>
        <p:xfrm>
          <a:off x="2362320" y="4800600"/>
          <a:ext cx="4890960" cy="63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4800600"/>
                    <a:ext cx="48909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684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Can be rewritten as: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24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* 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10</a:t>
            </a:r>
            <a:r>
              <a:rPr b="0" lang="en-US" sz="3200" spc="-1" strike="noStrike" baseline="30000">
                <a:solidFill>
                  <a:srgbClr val="7030a0"/>
                </a:solidFill>
                <a:latin typeface="Corbel"/>
              </a:rPr>
              <a:t>9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3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8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   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4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2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2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2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 baseline="30000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 baseline="30000">
                <a:solidFill>
                  <a:srgbClr val="7030a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cxnSp>
        <p:nvCxnSpPr>
          <p:cNvPr id="317" name="Straight Arrow Connector 4"/>
          <p:cNvCxnSpPr/>
          <p:nvPr/>
        </p:nvCxnSpPr>
        <p:spPr>
          <a:xfrm flipH="1">
            <a:off x="761400" y="2895120"/>
            <a:ext cx="610200" cy="762840"/>
          </a:xfrm>
          <a:prstGeom prst="straightConnector1">
            <a:avLst/>
          </a:prstGeom>
          <a:ln cap="rnd" w="6480">
            <a:solidFill>
              <a:srgbClr val="00aff0"/>
            </a:solidFill>
            <a:miter/>
            <a:tailEnd len="med" type="arrow" w="med"/>
          </a:ln>
        </p:spPr>
      </p:cxnSp>
      <p:cxnSp>
        <p:nvCxnSpPr>
          <p:cNvPr id="318" name="Straight Arrow Connector 6"/>
          <p:cNvCxnSpPr/>
          <p:nvPr/>
        </p:nvCxnSpPr>
        <p:spPr>
          <a:xfrm flipH="1">
            <a:off x="837720" y="4876920"/>
            <a:ext cx="610560" cy="762480"/>
          </a:xfrm>
          <a:prstGeom prst="straightConnector1">
            <a:avLst/>
          </a:prstGeom>
          <a:ln cap="rnd" w="6480">
            <a:solidFill>
              <a:srgbClr val="00aff0"/>
            </a:solidFill>
            <a:miter/>
            <a:tailEnd len="med" type="arrow" w="med"/>
          </a:ln>
        </p:spPr>
      </p:cxnSp>
      <p:cxnSp>
        <p:nvCxnSpPr>
          <p:cNvPr id="319" name="Straight Arrow Connector 7"/>
          <p:cNvCxnSpPr/>
          <p:nvPr/>
        </p:nvCxnSpPr>
        <p:spPr>
          <a:xfrm flipH="1">
            <a:off x="1675800" y="3885840"/>
            <a:ext cx="610200" cy="762840"/>
          </a:xfrm>
          <a:prstGeom prst="straightConnector1">
            <a:avLst/>
          </a:prstGeom>
          <a:ln cap="rnd" w="6480">
            <a:solidFill>
              <a:srgbClr val="00aff0"/>
            </a:solidFill>
            <a:miter/>
            <a:tailEnd len="med" type="arrow" w="med"/>
          </a:ln>
        </p:spPr>
      </p:cxnSp>
      <p:cxnSp>
        <p:nvCxnSpPr>
          <p:cNvPr id="320" name="Straight Arrow Connector 8"/>
          <p:cNvCxnSpPr/>
          <p:nvPr/>
        </p:nvCxnSpPr>
        <p:spPr>
          <a:xfrm flipH="1">
            <a:off x="5562360" y="2971440"/>
            <a:ext cx="457920" cy="610200"/>
          </a:xfrm>
          <a:prstGeom prst="straightConnector1">
            <a:avLst/>
          </a:prstGeom>
          <a:ln cap="rnd" w="6480">
            <a:solidFill>
              <a:srgbClr val="00aff0"/>
            </a:solidFill>
            <a:miter/>
            <a:tailEnd len="med" type="arrow" w="med"/>
          </a:ln>
        </p:spPr>
      </p:cxnSp>
      <p:cxnSp>
        <p:nvCxnSpPr>
          <p:cNvPr id="321" name="Straight Arrow Connector 10"/>
          <p:cNvCxnSpPr/>
          <p:nvPr/>
        </p:nvCxnSpPr>
        <p:spPr>
          <a:xfrm>
            <a:off x="1905120" y="2971800"/>
            <a:ext cx="457920" cy="534240"/>
          </a:xfrm>
          <a:prstGeom prst="straightConnector1">
            <a:avLst/>
          </a:prstGeom>
          <a:ln cap="rnd" w="6480">
            <a:solidFill>
              <a:srgbClr val="00aff0"/>
            </a:solidFill>
            <a:miter/>
            <a:tailEnd len="med" type="arrow" w="med"/>
          </a:ln>
        </p:spPr>
      </p:cxnSp>
      <p:cxnSp>
        <p:nvCxnSpPr>
          <p:cNvPr id="322" name="Straight Arrow Connector 12"/>
          <p:cNvCxnSpPr/>
          <p:nvPr/>
        </p:nvCxnSpPr>
        <p:spPr>
          <a:xfrm>
            <a:off x="2666880" y="3962160"/>
            <a:ext cx="534240" cy="610200"/>
          </a:xfrm>
          <a:prstGeom prst="straightConnector1">
            <a:avLst/>
          </a:prstGeom>
          <a:ln cap="rnd" w="6480">
            <a:solidFill>
              <a:srgbClr val="00aff0"/>
            </a:solidFill>
            <a:miter/>
            <a:tailEnd len="med" type="arrow" w="med"/>
          </a:ln>
        </p:spPr>
      </p:cxnSp>
      <p:cxnSp>
        <p:nvCxnSpPr>
          <p:cNvPr id="323" name="Straight Arrow Connector 13"/>
          <p:cNvCxnSpPr/>
          <p:nvPr/>
        </p:nvCxnSpPr>
        <p:spPr>
          <a:xfrm>
            <a:off x="1600200" y="4952880"/>
            <a:ext cx="534240" cy="610560"/>
          </a:xfrm>
          <a:prstGeom prst="straightConnector1">
            <a:avLst/>
          </a:prstGeom>
          <a:ln cap="rnd" w="6480">
            <a:solidFill>
              <a:srgbClr val="00aff0"/>
            </a:solidFill>
            <a:miter/>
            <a:tailEnd len="med" type="arrow" w="med"/>
          </a:ln>
        </p:spPr>
      </p:cxnSp>
      <p:cxnSp>
        <p:nvCxnSpPr>
          <p:cNvPr id="324" name="Straight Arrow Connector 14"/>
          <p:cNvCxnSpPr/>
          <p:nvPr/>
        </p:nvCxnSpPr>
        <p:spPr>
          <a:xfrm>
            <a:off x="6324480" y="2971440"/>
            <a:ext cx="534240" cy="610200"/>
          </a:xfrm>
          <a:prstGeom prst="straightConnector1">
            <a:avLst/>
          </a:prstGeom>
          <a:ln cap="rnd" w="6480">
            <a:solidFill>
              <a:srgbClr val="00aff0"/>
            </a:solidFill>
            <a:miter/>
            <a:tailEnd len="med" type="arrow" w="med"/>
          </a:ln>
        </p:spPr>
      </p:cxnSp>
      <p:sp>
        <p:nvSpPr>
          <p:cNvPr id="325" name="TextBox 15"/>
          <p:cNvSpPr/>
          <p:nvPr/>
        </p:nvSpPr>
        <p:spPr>
          <a:xfrm>
            <a:off x="3885480" y="4952880"/>
            <a:ext cx="467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0a0"/>
                </a:solidFill>
                <a:latin typeface="Corbel"/>
              </a:rPr>
              <a:t>So, 2</a:t>
            </a:r>
            <a:r>
              <a:rPr b="1" lang="en-US" sz="5400" spc="-1" strike="noStrike" baseline="30000">
                <a:solidFill>
                  <a:srgbClr val="7030a0"/>
                </a:solidFill>
                <a:latin typeface="Corbel"/>
              </a:rPr>
              <a:t>12</a:t>
            </a:r>
            <a:r>
              <a:rPr b="1" lang="en-US" sz="5400" spc="-1" strike="noStrike">
                <a:solidFill>
                  <a:srgbClr val="7030a0"/>
                </a:solidFill>
                <a:latin typeface="Corbel"/>
              </a:rPr>
              <a:t> * 3 * 5</a:t>
            </a:r>
            <a:r>
              <a:rPr b="1" lang="en-US" sz="5400" spc="-1" strike="noStrike" baseline="30000">
                <a:solidFill>
                  <a:srgbClr val="7030a0"/>
                </a:solidFill>
                <a:latin typeface="Corbel"/>
              </a:rPr>
              <a:t>9</a:t>
            </a:r>
            <a:endParaRPr b="0" lang="en-US" sz="5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26" name="TextBox 18"/>
          <p:cNvSpPr/>
          <p:nvPr/>
        </p:nvSpPr>
        <p:spPr>
          <a:xfrm>
            <a:off x="5104440" y="3657600"/>
            <a:ext cx="238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rbel"/>
              </a:rPr>
              <a:t>2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orbel"/>
              </a:rPr>
              <a:t>9</a:t>
            </a:r>
            <a:r>
              <a:rPr b="1" lang="en-US" sz="3200" spc="-1" strike="noStrike">
                <a:solidFill>
                  <a:srgbClr val="7030a0"/>
                </a:solidFill>
                <a:latin typeface="Corbel"/>
              </a:rPr>
              <a:t>              5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orbel"/>
              </a:rPr>
              <a:t>9</a:t>
            </a:r>
            <a:endParaRPr b="0" lang="en-US" sz="32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lnSpc>
                <a:spcPct val="100000"/>
              </a:lnSpc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5x</a:t>
            </a:r>
            <a:r>
              <a:rPr b="0" lang="en-US" sz="3200" spc="-1" strike="noStrike" baseline="30000">
                <a:solidFill>
                  <a:srgbClr val="7030a0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+ 7x</a:t>
            </a:r>
            <a:r>
              <a:rPr b="0" lang="en-US" sz="3200" spc="-1" strike="noStrike" baseline="30000">
                <a:solidFill>
                  <a:srgbClr val="7030a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– 48x + 16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Since x = -4, so a root is (x + 4)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5x</a:t>
            </a:r>
            <a:r>
              <a:rPr b="0" lang="en-US" sz="3200" spc="-1" strike="noStrike" baseline="30000">
                <a:solidFill>
                  <a:srgbClr val="7030a0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+ 7x</a:t>
            </a:r>
            <a:r>
              <a:rPr b="0" lang="en-US" sz="3200" spc="-1" strike="noStrike" baseline="30000">
                <a:solidFill>
                  <a:srgbClr val="7030a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– 48x + 16  ÷  (x + 4) =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5x</a:t>
            </a:r>
            <a:r>
              <a:rPr b="0" lang="en-US" sz="3200" spc="-1" strike="noStrike" baseline="30000">
                <a:solidFill>
                  <a:srgbClr val="7030a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– 13x + 4 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r = 0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Quadratic equation: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So, (x + 4)(x -              ) (x -               )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graphicFrame>
        <p:nvGraphicFramePr>
          <p:cNvPr id="329" name="Object 4"/>
          <p:cNvGraphicFramePr/>
          <p:nvPr/>
        </p:nvGraphicFramePr>
        <p:xfrm>
          <a:off x="609480" y="4495680"/>
          <a:ext cx="3492720" cy="135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4495680"/>
                    <a:ext cx="349272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Object 3"/>
          <p:cNvGraphicFramePr/>
          <p:nvPr/>
        </p:nvGraphicFramePr>
        <p:xfrm>
          <a:off x="4952880" y="4572000"/>
          <a:ext cx="1717920" cy="1182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2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52880" y="4572000"/>
                    <a:ext cx="1717920" cy="11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Object 4"/>
          <p:cNvGraphicFramePr/>
          <p:nvPr/>
        </p:nvGraphicFramePr>
        <p:xfrm>
          <a:off x="3048120" y="5486400"/>
          <a:ext cx="1717560" cy="1182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4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8120" y="5486400"/>
                    <a:ext cx="1717560" cy="11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Object 5"/>
          <p:cNvGraphicFramePr/>
          <p:nvPr/>
        </p:nvGraphicFramePr>
        <p:xfrm>
          <a:off x="5486400" y="5410080"/>
          <a:ext cx="1717560" cy="1295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36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486400" y="5410080"/>
                    <a:ext cx="17175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ere is no greatest multiple of 9.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9120" indent="-31248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9120" indent="-312480">
              <a:buClr>
                <a:srgbClr val="00b0f0"/>
              </a:buClr>
              <a:buSzPct val="8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Assume there IS a greatest multiple of 9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9120" indent="-312480">
              <a:buClr>
                <a:srgbClr val="00b0f0"/>
              </a:buClr>
              <a:buSzPct val="8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Let t = greatest multiple of 9.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9120" indent="-312480">
              <a:buClr>
                <a:srgbClr val="00b0f0"/>
              </a:buClr>
              <a:buSzPct val="8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But, t + 9 is also a multiple of 9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9120" indent="-312480">
              <a:buClr>
                <a:srgbClr val="00b0f0"/>
              </a:buClr>
              <a:buSzPct val="8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Contradiction!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9120" indent="-312480">
              <a:buClr>
                <a:srgbClr val="00b0f0"/>
              </a:buClr>
              <a:buSzPct val="8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9120" indent="-312480">
              <a:buClr>
                <a:srgbClr val="00b0f0"/>
              </a:buClr>
              <a:buSzPct val="8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erefore, there is no greatest multiple of 9!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030a0"/>
                </a:solidFill>
                <a:latin typeface="Corbel"/>
              </a:rPr>
              <a:t>Pages 253 – 254</a:t>
            </a:r>
            <a:endParaRPr b="0" lang="en-US" sz="7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030a0"/>
                </a:solidFill>
                <a:latin typeface="Corbel"/>
              </a:rPr>
              <a:t> </a:t>
            </a:r>
            <a:r>
              <a:rPr b="1" lang="en-US" sz="7200" spc="-1" strike="noStrike">
                <a:solidFill>
                  <a:srgbClr val="7030a0"/>
                </a:solidFill>
                <a:latin typeface="Corbel"/>
              </a:rPr>
              <a:t>1 – 2, </a:t>
            </a:r>
            <a:endParaRPr b="0" lang="en-US" sz="7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030a0"/>
                </a:solidFill>
                <a:latin typeface="Corbel"/>
              </a:rPr>
              <a:t>6,7,9, 10, </a:t>
            </a:r>
            <a:endParaRPr b="0" lang="en-US" sz="7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030a0"/>
                </a:solidFill>
                <a:latin typeface="Corbel"/>
              </a:rPr>
              <a:t>12,18- 20</a:t>
            </a:r>
            <a:endParaRPr b="0" lang="en-US" sz="7200" spc="-1" strike="noStrike">
              <a:solidFill>
                <a:srgbClr val="7030a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01:04:20Z</dcterms:created>
  <dc:creator>teacher</dc:creator>
  <dc:description/>
  <dc:language>en-US</dc:language>
  <cp:lastModifiedBy>Laura Helbing</cp:lastModifiedBy>
  <dcterms:modified xsi:type="dcterms:W3CDTF">2011-12-05T13:56:51Z</dcterms:modified>
  <cp:revision>8</cp:revision>
  <dc:subject/>
  <dc:title>Prime Numbers and Prime Polynomials</dc:title>
</cp:coreProperties>
</file>